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9.wmf" ContentType="image/x-wmf"/>
  <Override PartName="/ppt/media/image34.wmf" ContentType="image/x-wmf"/>
  <Override PartName="/ppt/media/image25.jpeg" ContentType="image/jpeg"/>
  <Override PartName="/ppt/media/image10.wmf" ContentType="image/x-wmf"/>
  <Override PartName="/ppt/media/image27.jpeg" ContentType="image/jpeg"/>
  <Override PartName="/ppt/media/image6.jpeg" ContentType="image/jpeg"/>
  <Override PartName="/ppt/media/image4.jpeg" ContentType="image/jpeg"/>
  <Override PartName="/ppt/media/image8.wmf" ContentType="image/x-wmf"/>
  <Override PartName="/ppt/media/image12.jpeg" ContentType="image/jpeg"/>
  <Override PartName="/ppt/media/image29.wmf" ContentType="image/x-wmf"/>
  <Override PartName="/ppt/media/image30.png" ContentType="image/png"/>
  <Override PartName="/ppt/media/image11.jpeg" ContentType="image/jpeg"/>
  <Override PartName="/ppt/media/image36.wmf" ContentType="image/x-wmf"/>
  <Override PartName="/ppt/media/image5.jpeg" ContentType="image/jpeg"/>
  <Override PartName="/ppt/media/image26.jpeg" ContentType="image/jpeg"/>
  <Override PartName="/ppt/media/image13.jpeg" ContentType="image/jpeg"/>
  <Override PartName="/ppt/media/image33.wmf" ContentType="image/x-wmf"/>
  <Override PartName="/ppt/media/image3.wmf" ContentType="image/x-wmf"/>
  <Override PartName="/ppt/media/image15.jpeg" ContentType="image/jpeg"/>
  <Override PartName="/ppt/media/whoosh.wav" ContentType="audio/x-wav"/>
  <Override PartName="/ppt/media/image23.wmf" ContentType="image/x-wmf"/>
  <Override PartName="/ppt/media/image28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jpeg" ContentType="image/jpeg"/>
  <Override PartName="/ppt/media/image16.jpeg" ContentType="image/jpeg"/>
  <Override PartName="/ppt/media/image3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1A4-817A-405F-BFBD-26ABE098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6EF5-15E7-4CAA-A851-3162CE91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463-F185-4B1C-8918-58E1E3DF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4C3-7F77-410B-A635-0249D812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4C93-4EF7-469D-AADB-5E9419F9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8812-2FD6-4D0F-A22B-A3AA0041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C8A9-C0DC-4A54-8F66-31E9EE57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D1EC-FBAA-4077-940B-4ADA522C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E63F-04C1-4524-8AB1-E849B160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D5DF-3498-4693-8092-0A23632C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FFE9-7680-4AF8-A109-807BC32A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104-7A9C-472C-A7EC-3439332D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5A22-9C86-4553-B530-C45AC26E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0632-A44B-463B-ABCD-A587BF30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1F93-72E0-4A42-9F78-B15FC6B1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4416-C807-4686-A991-E3606DFC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7C8B-4C88-4CA2-86EC-CD678DE9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4E078-FC1F-4AE5-8410-EECB678B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288A-B0D2-4C26-8CA5-8EE6AE97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2A194-3037-4DEB-B312-CCD2B530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CDF0-CE6E-4561-B6AE-5C393279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42637-100E-4968-9A6A-A50A1207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F26-C1D1-4E86-B5F6-2B30A65C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6B5F3-9098-4EA6-BCE8-B1E34817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1CF18-2F45-4F06-905B-E70A3724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76BB-47DD-49BE-BBD9-C8E461A4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F8C2C-FB27-424D-B54F-55B46DA8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04D2F-644E-446B-B5D9-48832A2D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EC85F-8B44-4219-8158-BE5781AA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7915E-1DE5-422D-9FB4-04DD855C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080-A49A-4143-A729-D87931B8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4F69-8573-4017-B4FD-FCBA9FC3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A30-55A2-494F-9227-D10E1A62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9FE-3D8E-4715-BC33-0673C69D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37E-CBE4-489A-B833-4CD52564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054-9161-4B4E-883D-DD80E48C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9B29-955B-4AC4-AA74-21712732C5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BF83-7FE8-46D6-9F49-5771DF0E792B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6E29-461C-47B3-939F-791414A41CB0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" Target="slide19.xm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2320" y="1684080"/>
            <a:ext cx="58672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  <a:ea typeface="宋体"/>
              </a:rPr>
              <a:t>Unit 3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   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ra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276360" y="3352680"/>
            <a:ext cx="4343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Welcome everybod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1400" y="309240"/>
            <a:ext cx="687096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17640" y="5025600"/>
            <a:ext cx="4707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 is throwing rubbish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98720" y="1811160"/>
          <a:ext cx="339552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811160"/>
                    <a:ext cx="339552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726080" y="1698480"/>
            <a:ext cx="3400200" cy="253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74440" y="5011200"/>
            <a:ext cx="4707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man is smoking where he shouldn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39680" y="18730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371840" y="1785960"/>
            <a:ext cx="2897280" cy="238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25600" y="4997520"/>
            <a:ext cx="422748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car is parked at the wrong pl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068480" y="1944720"/>
            <a:ext cx="2973240" cy="2230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525920" y="1989000"/>
            <a:ext cx="2844720" cy="212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Means of transportatio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1019160" y="1957320"/>
            <a:ext cx="74566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do you have to consider before you decide which means of transportation you will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65240" y="3452760"/>
            <a:ext cx="332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for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475240" y="3357720"/>
            <a:ext cx="2693880" cy="2630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Means of transportation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1019160" y="1957320"/>
            <a:ext cx="74566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at means of transportation have we got when we tra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would you like to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68280" y="3568680"/>
            <a:ext cx="653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shanghai to Lo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Jingjing to Wu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Wuxi to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rom Dalian to Qing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151600" y="4356000"/>
            <a:ext cx="3233520" cy="1724040"/>
          </a:xfrm>
          <a:prstGeom prst="rect">
            <a:avLst/>
          </a:prstGeom>
          <a:ln w="0">
            <a:noFill/>
          </a:ln>
        </p:spPr>
      </p:pic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4383000" y="2409840"/>
            <a:ext cx="363600" cy="260280"/>
          </a:xfrm>
          <a:custGeom>
            <a:avLst/>
            <a:gdLst>
              <a:gd name="textAreaLeft" fmla="*/ 16560 w 363600"/>
              <a:gd name="textAreaRight" fmla="*/ 347040 w 3636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0162" h="21600">
                <a:moveTo>
                  <a:pt x="0" y="0"/>
                </a:moveTo>
                <a:lnTo>
                  <a:pt x="30162" y="0"/>
                </a:lnTo>
                <a:lnTo>
                  <a:pt x="30162" y="21600"/>
                </a:lnTo>
                <a:lnTo>
                  <a:pt x="0" y="21600"/>
                </a:lnTo>
                <a:close/>
              </a:path>
              <a:path fill="lightenLess" w="30162" h="21600">
                <a:moveTo>
                  <a:pt x="0" y="0"/>
                </a:moveTo>
                <a:lnTo>
                  <a:pt x="30162" y="0"/>
                </a:lnTo>
                <a:lnTo>
                  <a:pt x="28762" y="1400"/>
                </a:lnTo>
                <a:lnTo>
                  <a:pt x="1400" y="1400"/>
                </a:lnTo>
                <a:close/>
              </a:path>
              <a:path fill="darken" w="30162" h="21600">
                <a:moveTo>
                  <a:pt x="30162" y="0"/>
                </a:moveTo>
                <a:lnTo>
                  <a:pt x="30162" y="21600"/>
                </a:lnTo>
                <a:lnTo>
                  <a:pt x="28762" y="20200"/>
                </a:lnTo>
                <a:lnTo>
                  <a:pt x="28762" y="1400"/>
                </a:lnTo>
                <a:close/>
              </a:path>
              <a:path fill="darkenLess" w="30162" h="21600">
                <a:moveTo>
                  <a:pt x="30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62" y="20200"/>
                </a:lnTo>
                <a:close/>
              </a:path>
              <a:path fill="lighten" w="30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0162" h="21600">
                <a:moveTo>
                  <a:pt x="9554" y="3985"/>
                </a:moveTo>
                <a:lnTo>
                  <a:pt x="16552" y="3985"/>
                </a:lnTo>
                <a:lnTo>
                  <a:pt x="20608" y="7484"/>
                </a:lnTo>
                <a:lnTo>
                  <a:pt x="20608" y="17615"/>
                </a:lnTo>
                <a:lnTo>
                  <a:pt x="9554" y="17615"/>
                </a:lnTo>
                <a:close/>
              </a:path>
              <a:path fill="darken" w="30162" h="21600">
                <a:moveTo>
                  <a:pt x="16552" y="3985"/>
                </a:moveTo>
                <a:lnTo>
                  <a:pt x="20608" y="7484"/>
                </a:lnTo>
                <a:lnTo>
                  <a:pt x="16552" y="748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s on tra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60120" y="2381400"/>
            <a:ext cx="4584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ey traffic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serve public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ard the right bus, the right train, or the right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et on board i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845320" y="397980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33"/>
                                </p:to>
                              </p:animCl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20320"/>
            <a:ext cx="6870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be on ti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66840" y="3497400"/>
            <a:ext cx="2854440" cy="1939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417920" y="1278000"/>
            <a:ext cx="2819520" cy="20588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260360" y="1222200"/>
            <a:ext cx="2870280" cy="2135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4437000" y="3530520"/>
            <a:ext cx="2811600" cy="1913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003480" y="695160"/>
            <a:ext cx="434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sten to the announcements and write down the correct flight number, destination and g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42960" y="2233440"/>
          <a:ext cx="7450200" cy="2532240"/>
        </p:xfrm>
        <a:graphic>
          <a:graphicData uri="http://schemas.openxmlformats.org/drawingml/2006/table">
            <a:tbl>
              <a:tblPr/>
              <a:tblGrid>
                <a:gridCol w="1862280"/>
                <a:gridCol w="1863720"/>
                <a:gridCol w="1861920"/>
                <a:gridCol w="186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Flight 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Dest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G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e3fe"/>
                    </a:solidFill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793880" y="5373720"/>
            <a:ext cx="687060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宋体"/>
              </a:rPr>
              <a:t>Listening practice: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宋体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boarding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81200" y="893880"/>
            <a:ext cx="1963440" cy="519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673520" y="297648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A 4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30680" y="3701880"/>
            <a:ext cx="13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ngs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46440" y="4295880"/>
            <a:ext cx="11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96244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 37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02320" y="370044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18160" y="431172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84520" y="2976480"/>
            <a:ext cx="15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A 11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85960" y="3672000"/>
            <a:ext cx="13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ok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42814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578400" y="2332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435640" y="234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7307280" y="23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258040" y="3005280"/>
            <a:ext cx="262080" cy="361800"/>
          </a:xfrm>
          <a:custGeom>
            <a:avLst/>
            <a:gdLst>
              <a:gd name="textAreaLeft" fmla="*/ 16920 w 262080"/>
              <a:gd name="textAreaRight" fmla="*/ 245160 w 262080"/>
              <a:gd name="textAreaTop" fmla="*/ 16920 h 361800"/>
              <a:gd name="textAreaBottom" fmla="*/ 344880 h 361800"/>
            </a:gdLst>
            <a:ahLst/>
            <a:rect l="textAreaLeft" t="textAreaTop" r="textAreaRight" b="textAreaBottom"/>
            <a:pathLst>
              <a:path w="21600" h="29807">
                <a:moveTo>
                  <a:pt x="0" y="0"/>
                </a:moveTo>
                <a:lnTo>
                  <a:pt x="21600" y="0"/>
                </a:lnTo>
                <a:lnTo>
                  <a:pt x="21600" y="29807"/>
                </a:lnTo>
                <a:lnTo>
                  <a:pt x="0" y="29807"/>
                </a:lnTo>
                <a:close/>
              </a:path>
              <a:path fill="lightenLess" w="21600" h="298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07">
                <a:moveTo>
                  <a:pt x="21600" y="0"/>
                </a:moveTo>
                <a:lnTo>
                  <a:pt x="21600" y="29807"/>
                </a:lnTo>
                <a:lnTo>
                  <a:pt x="20200" y="28407"/>
                </a:lnTo>
                <a:lnTo>
                  <a:pt x="20200" y="1400"/>
                </a:lnTo>
                <a:close/>
              </a:path>
              <a:path fill="darkenLess" w="21600" h="29807">
                <a:moveTo>
                  <a:pt x="21600" y="29807"/>
                </a:moveTo>
                <a:lnTo>
                  <a:pt x="0" y="29807"/>
                </a:lnTo>
                <a:lnTo>
                  <a:pt x="1400" y="28407"/>
                </a:lnTo>
                <a:lnTo>
                  <a:pt x="20200" y="28407"/>
                </a:lnTo>
                <a:close/>
              </a:path>
              <a:path fill="lighten" w="21600" h="29807">
                <a:moveTo>
                  <a:pt x="0" y="298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07"/>
                </a:lnTo>
                <a:close/>
              </a:path>
              <a:path fill="darkenLess" w="21600" h="29807">
                <a:moveTo>
                  <a:pt x="5273" y="8089"/>
                </a:moveTo>
                <a:lnTo>
                  <a:pt x="12271" y="8089"/>
                </a:lnTo>
                <a:lnTo>
                  <a:pt x="16327" y="11588"/>
                </a:lnTo>
                <a:lnTo>
                  <a:pt x="16327" y="21719"/>
                </a:lnTo>
                <a:lnTo>
                  <a:pt x="5273" y="21719"/>
                </a:lnTo>
                <a:close/>
              </a:path>
              <a:path fill="darken" w="21600" h="29807">
                <a:moveTo>
                  <a:pt x="12271" y="8089"/>
                </a:moveTo>
                <a:lnTo>
                  <a:pt x="16327" y="11588"/>
                </a:lnTo>
                <a:lnTo>
                  <a:pt x="12271" y="1158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72440" y="3716280"/>
            <a:ext cx="247680" cy="333360"/>
          </a:xfrm>
          <a:custGeom>
            <a:avLst/>
            <a:gdLst>
              <a:gd name="textAreaLeft" fmla="*/ 15840 w 247680"/>
              <a:gd name="textAreaRight" fmla="*/ 231840 w 247680"/>
              <a:gd name="textAreaTop" fmla="*/ 15840 h 333360"/>
              <a:gd name="textAreaBottom" fmla="*/ 317520 h 333360"/>
            </a:gdLst>
            <a:ahLst/>
            <a:rect l="textAreaLeft" t="textAreaTop" r="textAreaRight" b="textAreaBottom"/>
            <a:pathLst>
              <a:path w="21600" h="29061">
                <a:moveTo>
                  <a:pt x="0" y="0"/>
                </a:moveTo>
                <a:lnTo>
                  <a:pt x="21600" y="0"/>
                </a:lnTo>
                <a:lnTo>
                  <a:pt x="21600" y="29061"/>
                </a:lnTo>
                <a:lnTo>
                  <a:pt x="0" y="29061"/>
                </a:lnTo>
                <a:close/>
              </a:path>
              <a:path fill="lightenLess" w="21600" h="290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061">
                <a:moveTo>
                  <a:pt x="21600" y="0"/>
                </a:moveTo>
                <a:lnTo>
                  <a:pt x="21600" y="29061"/>
                </a:lnTo>
                <a:lnTo>
                  <a:pt x="20200" y="27661"/>
                </a:lnTo>
                <a:lnTo>
                  <a:pt x="20200" y="1400"/>
                </a:lnTo>
                <a:close/>
              </a:path>
              <a:path fill="darkenLess" w="21600" h="29061">
                <a:moveTo>
                  <a:pt x="21600" y="29061"/>
                </a:moveTo>
                <a:lnTo>
                  <a:pt x="0" y="29061"/>
                </a:lnTo>
                <a:lnTo>
                  <a:pt x="1400" y="27661"/>
                </a:lnTo>
                <a:lnTo>
                  <a:pt x="20200" y="27661"/>
                </a:lnTo>
                <a:close/>
              </a:path>
              <a:path fill="lighten" w="21600" h="29061">
                <a:moveTo>
                  <a:pt x="0" y="290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661"/>
                </a:lnTo>
                <a:close/>
              </a:path>
              <a:path fill="darkenLess" w="21600" h="29061">
                <a:moveTo>
                  <a:pt x="5273" y="7716"/>
                </a:moveTo>
                <a:lnTo>
                  <a:pt x="12271" y="7716"/>
                </a:lnTo>
                <a:lnTo>
                  <a:pt x="16327" y="11215"/>
                </a:lnTo>
                <a:lnTo>
                  <a:pt x="16327" y="21346"/>
                </a:lnTo>
                <a:lnTo>
                  <a:pt x="5273" y="21346"/>
                </a:lnTo>
                <a:close/>
              </a:path>
              <a:path fill="darken" w="21600" h="29061">
                <a:moveTo>
                  <a:pt x="12271" y="7716"/>
                </a:moveTo>
                <a:lnTo>
                  <a:pt x="16327" y="11215"/>
                </a:lnTo>
                <a:lnTo>
                  <a:pt x="12271" y="11215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285040" y="4295880"/>
            <a:ext cx="247680" cy="333360"/>
          </a:xfrm>
          <a:custGeom>
            <a:avLst/>
            <a:gdLst>
              <a:gd name="textAreaLeft" fmla="*/ 15840 w 247680"/>
              <a:gd name="textAreaRight" fmla="*/ 231840 w 247680"/>
              <a:gd name="textAreaTop" fmla="*/ 15840 h 333360"/>
              <a:gd name="textAreaBottom" fmla="*/ 317520 h 333360"/>
            </a:gdLst>
            <a:ahLst/>
            <a:rect l="textAreaLeft" t="textAreaTop" r="textAreaRight" b="textAreaBottom"/>
            <a:pathLst>
              <a:path w="21600" h="29061">
                <a:moveTo>
                  <a:pt x="0" y="0"/>
                </a:moveTo>
                <a:lnTo>
                  <a:pt x="21600" y="0"/>
                </a:lnTo>
                <a:lnTo>
                  <a:pt x="21600" y="29061"/>
                </a:lnTo>
                <a:lnTo>
                  <a:pt x="0" y="29061"/>
                </a:lnTo>
                <a:close/>
              </a:path>
              <a:path fill="lightenLess" w="21600" h="290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061">
                <a:moveTo>
                  <a:pt x="21600" y="0"/>
                </a:moveTo>
                <a:lnTo>
                  <a:pt x="21600" y="29061"/>
                </a:lnTo>
                <a:lnTo>
                  <a:pt x="20200" y="27661"/>
                </a:lnTo>
                <a:lnTo>
                  <a:pt x="20200" y="1400"/>
                </a:lnTo>
                <a:close/>
              </a:path>
              <a:path fill="darkenLess" w="21600" h="29061">
                <a:moveTo>
                  <a:pt x="21600" y="29061"/>
                </a:moveTo>
                <a:lnTo>
                  <a:pt x="0" y="29061"/>
                </a:lnTo>
                <a:lnTo>
                  <a:pt x="1400" y="27661"/>
                </a:lnTo>
                <a:lnTo>
                  <a:pt x="20200" y="27661"/>
                </a:lnTo>
                <a:close/>
              </a:path>
              <a:path fill="lighten" w="21600" h="29061">
                <a:moveTo>
                  <a:pt x="0" y="290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661"/>
                </a:lnTo>
                <a:close/>
              </a:path>
              <a:path fill="darkenLess" w="21600" h="29061">
                <a:moveTo>
                  <a:pt x="5273" y="7716"/>
                </a:moveTo>
                <a:lnTo>
                  <a:pt x="12271" y="7716"/>
                </a:lnTo>
                <a:lnTo>
                  <a:pt x="16327" y="11215"/>
                </a:lnTo>
                <a:lnTo>
                  <a:pt x="16327" y="21346"/>
                </a:lnTo>
                <a:lnTo>
                  <a:pt x="5273" y="21346"/>
                </a:lnTo>
                <a:close/>
              </a:path>
              <a:path fill="darken" w="21600" h="29061">
                <a:moveTo>
                  <a:pt x="12271" y="7716"/>
                </a:moveTo>
                <a:lnTo>
                  <a:pt x="16327" y="11215"/>
                </a:lnTo>
                <a:lnTo>
                  <a:pt x="12271" y="11215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8588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2429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20982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03480" y="69516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sten to the five world travellers and try to guess where they 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78040" y="5694480"/>
            <a:ext cx="687060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  <a:ea typeface="宋体"/>
              </a:rPr>
              <a:t>Listening practice:</a:t>
            </a: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宋体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spoken post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57080" y="1763640"/>
          <a:ext cx="7577280" cy="3657600"/>
        </p:xfrm>
        <a:graphic>
          <a:graphicData uri="http://schemas.openxmlformats.org/drawingml/2006/table">
            <a:tbl>
              <a:tblPr/>
              <a:tblGrid>
                <a:gridCol w="549360"/>
                <a:gridCol w="1800360"/>
                <a:gridCol w="3333600"/>
                <a:gridCol w="1893960"/>
              </a:tblGrid>
              <a:tr h="60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Wha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c9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7e7f9"/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1335240" y="251136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i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49280" y="3105000"/>
            <a:ext cx="9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08240" y="4311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60360" y="4905360"/>
            <a:ext cx="17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nder 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75120" y="2397240"/>
            <a:ext cx="34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bidden City; Great Wall; Tian’anmen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19400" y="2989440"/>
            <a:ext cx="27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iffel Tower; Museum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w “Mona Li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05000" y="4368960"/>
            <a:ext cx="33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oked at the earth; jum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19400" y="4933800"/>
            <a:ext cx="35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oked at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73520" y="5630760"/>
            <a:ext cx="12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89800" y="250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30840" y="30909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 and 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02400" y="432432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pace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75400" y="492120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swi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6200" y="37432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uth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17960" y="3614760"/>
            <a:ext cx="34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alked in the snow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w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89800" y="37306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ane, on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19000" y="255600"/>
            <a:ext cx="1698840" cy="1441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008000" y="249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008000" y="3073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1008000" y="3683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1022400" y="430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1022400" y="4916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447040" y="2568600"/>
            <a:ext cx="203400" cy="276120"/>
          </a:xfrm>
          <a:custGeom>
            <a:avLst/>
            <a:gdLst>
              <a:gd name="textAreaLeft" fmla="*/ 12960 w 203400"/>
              <a:gd name="textAreaRight" fmla="*/ 190440 w 20340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09">
                <a:moveTo>
                  <a:pt x="0" y="0"/>
                </a:moveTo>
                <a:lnTo>
                  <a:pt x="21600" y="0"/>
                </a:lnTo>
                <a:lnTo>
                  <a:pt x="21600" y="29309"/>
                </a:lnTo>
                <a:lnTo>
                  <a:pt x="0" y="29309"/>
                </a:lnTo>
                <a:close/>
              </a:path>
              <a:path fill="lightenLess" w="21600" h="293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09">
                <a:moveTo>
                  <a:pt x="21600" y="0"/>
                </a:moveTo>
                <a:lnTo>
                  <a:pt x="21600" y="29309"/>
                </a:lnTo>
                <a:lnTo>
                  <a:pt x="20200" y="27909"/>
                </a:lnTo>
                <a:lnTo>
                  <a:pt x="20200" y="1400"/>
                </a:lnTo>
                <a:close/>
              </a:path>
              <a:path fill="darkenLess" w="21600" h="29309">
                <a:moveTo>
                  <a:pt x="21600" y="29309"/>
                </a:moveTo>
                <a:lnTo>
                  <a:pt x="0" y="29309"/>
                </a:lnTo>
                <a:lnTo>
                  <a:pt x="1400" y="27909"/>
                </a:lnTo>
                <a:lnTo>
                  <a:pt x="20200" y="27909"/>
                </a:lnTo>
                <a:close/>
              </a:path>
              <a:path fill="lighten" w="21600" h="29309">
                <a:moveTo>
                  <a:pt x="0" y="293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09"/>
                </a:lnTo>
                <a:close/>
              </a:path>
              <a:path fill="darkenLess" w="21600" h="29309">
                <a:moveTo>
                  <a:pt x="5273" y="7839"/>
                </a:moveTo>
                <a:lnTo>
                  <a:pt x="12271" y="7839"/>
                </a:lnTo>
                <a:lnTo>
                  <a:pt x="16327" y="11338"/>
                </a:lnTo>
                <a:lnTo>
                  <a:pt x="16327" y="21469"/>
                </a:lnTo>
                <a:lnTo>
                  <a:pt x="5273" y="21469"/>
                </a:lnTo>
                <a:close/>
              </a:path>
              <a:path fill="darken" w="21600" h="29309">
                <a:moveTo>
                  <a:pt x="12271" y="7839"/>
                </a:moveTo>
                <a:lnTo>
                  <a:pt x="16327" y="11338"/>
                </a:lnTo>
                <a:lnTo>
                  <a:pt x="12271" y="1133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48840" y="3098880"/>
            <a:ext cx="203040" cy="27612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61">
                <a:moveTo>
                  <a:pt x="0" y="0"/>
                </a:moveTo>
                <a:lnTo>
                  <a:pt x="21600" y="0"/>
                </a:lnTo>
                <a:lnTo>
                  <a:pt x="21600" y="29361"/>
                </a:lnTo>
                <a:lnTo>
                  <a:pt x="0" y="29361"/>
                </a:lnTo>
                <a:close/>
              </a:path>
              <a:path fill="lightenLess" w="21600" h="293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61">
                <a:moveTo>
                  <a:pt x="21600" y="0"/>
                </a:moveTo>
                <a:lnTo>
                  <a:pt x="21600" y="29361"/>
                </a:lnTo>
                <a:lnTo>
                  <a:pt x="20200" y="27961"/>
                </a:lnTo>
                <a:lnTo>
                  <a:pt x="20200" y="1400"/>
                </a:lnTo>
                <a:close/>
              </a:path>
              <a:path fill="darkenLess" w="21600" h="29361">
                <a:moveTo>
                  <a:pt x="21600" y="29361"/>
                </a:moveTo>
                <a:lnTo>
                  <a:pt x="0" y="29361"/>
                </a:lnTo>
                <a:lnTo>
                  <a:pt x="1400" y="27961"/>
                </a:lnTo>
                <a:lnTo>
                  <a:pt x="20200" y="27961"/>
                </a:lnTo>
                <a:close/>
              </a:path>
              <a:path fill="lighten" w="21600" h="29361">
                <a:moveTo>
                  <a:pt x="0" y="293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61"/>
                </a:lnTo>
                <a:close/>
              </a:path>
              <a:path fill="darkenLess" w="21600" h="29361">
                <a:moveTo>
                  <a:pt x="5273" y="7865"/>
                </a:moveTo>
                <a:lnTo>
                  <a:pt x="12271" y="7865"/>
                </a:lnTo>
                <a:lnTo>
                  <a:pt x="16327" y="11364"/>
                </a:lnTo>
                <a:lnTo>
                  <a:pt x="16327" y="21495"/>
                </a:lnTo>
                <a:lnTo>
                  <a:pt x="5273" y="21495"/>
                </a:lnTo>
                <a:close/>
              </a:path>
              <a:path fill="darken" w="21600" h="29361">
                <a:moveTo>
                  <a:pt x="12271" y="7865"/>
                </a:moveTo>
                <a:lnTo>
                  <a:pt x="16327" y="11364"/>
                </a:lnTo>
                <a:lnTo>
                  <a:pt x="12271" y="1136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48840" y="3727440"/>
            <a:ext cx="203040" cy="276120"/>
          </a:xfrm>
          <a:custGeom>
            <a:avLst/>
            <a:gdLst>
              <a:gd name="textAreaLeft" fmla="*/ 12960 w 203040"/>
              <a:gd name="textAreaRight" fmla="*/ 190080 w 20304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61">
                <a:moveTo>
                  <a:pt x="0" y="0"/>
                </a:moveTo>
                <a:lnTo>
                  <a:pt x="21600" y="0"/>
                </a:lnTo>
                <a:lnTo>
                  <a:pt x="21600" y="29361"/>
                </a:lnTo>
                <a:lnTo>
                  <a:pt x="0" y="29361"/>
                </a:lnTo>
                <a:close/>
              </a:path>
              <a:path fill="lightenLess" w="21600" h="293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61">
                <a:moveTo>
                  <a:pt x="21600" y="0"/>
                </a:moveTo>
                <a:lnTo>
                  <a:pt x="21600" y="29361"/>
                </a:lnTo>
                <a:lnTo>
                  <a:pt x="20200" y="27961"/>
                </a:lnTo>
                <a:lnTo>
                  <a:pt x="20200" y="1400"/>
                </a:lnTo>
                <a:close/>
              </a:path>
              <a:path fill="darkenLess" w="21600" h="29361">
                <a:moveTo>
                  <a:pt x="21600" y="29361"/>
                </a:moveTo>
                <a:lnTo>
                  <a:pt x="0" y="29361"/>
                </a:lnTo>
                <a:lnTo>
                  <a:pt x="1400" y="27961"/>
                </a:lnTo>
                <a:lnTo>
                  <a:pt x="20200" y="27961"/>
                </a:lnTo>
                <a:close/>
              </a:path>
              <a:path fill="lighten" w="21600" h="29361">
                <a:moveTo>
                  <a:pt x="0" y="293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61"/>
                </a:lnTo>
                <a:close/>
              </a:path>
              <a:path fill="darkenLess" w="21600" h="29361">
                <a:moveTo>
                  <a:pt x="5273" y="7865"/>
                </a:moveTo>
                <a:lnTo>
                  <a:pt x="12271" y="7865"/>
                </a:lnTo>
                <a:lnTo>
                  <a:pt x="16327" y="11364"/>
                </a:lnTo>
                <a:lnTo>
                  <a:pt x="16327" y="21495"/>
                </a:lnTo>
                <a:lnTo>
                  <a:pt x="5273" y="21495"/>
                </a:lnTo>
                <a:close/>
              </a:path>
              <a:path fill="darken" w="21600" h="29361">
                <a:moveTo>
                  <a:pt x="12271" y="7865"/>
                </a:moveTo>
                <a:lnTo>
                  <a:pt x="16327" y="11364"/>
                </a:lnTo>
                <a:lnTo>
                  <a:pt x="12271" y="1136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459640" y="4395960"/>
            <a:ext cx="203400" cy="276120"/>
          </a:xfrm>
          <a:custGeom>
            <a:avLst/>
            <a:gdLst>
              <a:gd name="textAreaLeft" fmla="*/ 12960 w 203400"/>
              <a:gd name="textAreaRight" fmla="*/ 190440 w 20340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09">
                <a:moveTo>
                  <a:pt x="0" y="0"/>
                </a:moveTo>
                <a:lnTo>
                  <a:pt x="21600" y="0"/>
                </a:lnTo>
                <a:lnTo>
                  <a:pt x="21600" y="29309"/>
                </a:lnTo>
                <a:lnTo>
                  <a:pt x="0" y="29309"/>
                </a:lnTo>
                <a:close/>
              </a:path>
              <a:path fill="lightenLess" w="21600" h="293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09">
                <a:moveTo>
                  <a:pt x="21600" y="0"/>
                </a:moveTo>
                <a:lnTo>
                  <a:pt x="21600" y="29309"/>
                </a:lnTo>
                <a:lnTo>
                  <a:pt x="20200" y="27909"/>
                </a:lnTo>
                <a:lnTo>
                  <a:pt x="20200" y="1400"/>
                </a:lnTo>
                <a:close/>
              </a:path>
              <a:path fill="darkenLess" w="21600" h="29309">
                <a:moveTo>
                  <a:pt x="21600" y="29309"/>
                </a:moveTo>
                <a:lnTo>
                  <a:pt x="0" y="29309"/>
                </a:lnTo>
                <a:lnTo>
                  <a:pt x="1400" y="27909"/>
                </a:lnTo>
                <a:lnTo>
                  <a:pt x="20200" y="27909"/>
                </a:lnTo>
                <a:close/>
              </a:path>
              <a:path fill="lighten" w="21600" h="29309">
                <a:moveTo>
                  <a:pt x="0" y="293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09"/>
                </a:lnTo>
                <a:close/>
              </a:path>
              <a:path fill="darkenLess" w="21600" h="29309">
                <a:moveTo>
                  <a:pt x="5273" y="7839"/>
                </a:moveTo>
                <a:lnTo>
                  <a:pt x="12271" y="7839"/>
                </a:lnTo>
                <a:lnTo>
                  <a:pt x="16327" y="11338"/>
                </a:lnTo>
                <a:lnTo>
                  <a:pt x="16327" y="21469"/>
                </a:lnTo>
                <a:lnTo>
                  <a:pt x="5273" y="21469"/>
                </a:lnTo>
                <a:close/>
              </a:path>
              <a:path fill="darken" w="21600" h="29309">
                <a:moveTo>
                  <a:pt x="12271" y="7839"/>
                </a:moveTo>
                <a:lnTo>
                  <a:pt x="16327" y="11338"/>
                </a:lnTo>
                <a:lnTo>
                  <a:pt x="12271" y="1133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47040" y="4992840"/>
            <a:ext cx="203400" cy="276120"/>
          </a:xfrm>
          <a:custGeom>
            <a:avLst/>
            <a:gdLst>
              <a:gd name="textAreaLeft" fmla="*/ 12960 w 203400"/>
              <a:gd name="textAreaRight" fmla="*/ 190440 w 203400"/>
              <a:gd name="textAreaTop" fmla="*/ 12960 h 276120"/>
              <a:gd name="textAreaBottom" fmla="*/ 263160 h 276120"/>
            </a:gdLst>
            <a:ahLst/>
            <a:rect l="textAreaLeft" t="textAreaTop" r="textAreaRight" b="textAreaBottom"/>
            <a:pathLst>
              <a:path w="21600" h="29309">
                <a:moveTo>
                  <a:pt x="0" y="0"/>
                </a:moveTo>
                <a:lnTo>
                  <a:pt x="21600" y="0"/>
                </a:lnTo>
                <a:lnTo>
                  <a:pt x="21600" y="29309"/>
                </a:lnTo>
                <a:lnTo>
                  <a:pt x="0" y="29309"/>
                </a:lnTo>
                <a:close/>
              </a:path>
              <a:path fill="lightenLess" w="21600" h="293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309">
                <a:moveTo>
                  <a:pt x="21600" y="0"/>
                </a:moveTo>
                <a:lnTo>
                  <a:pt x="21600" y="29309"/>
                </a:lnTo>
                <a:lnTo>
                  <a:pt x="20200" y="27909"/>
                </a:lnTo>
                <a:lnTo>
                  <a:pt x="20200" y="1400"/>
                </a:lnTo>
                <a:close/>
              </a:path>
              <a:path fill="darkenLess" w="21600" h="29309">
                <a:moveTo>
                  <a:pt x="21600" y="29309"/>
                </a:moveTo>
                <a:lnTo>
                  <a:pt x="0" y="29309"/>
                </a:lnTo>
                <a:lnTo>
                  <a:pt x="1400" y="27909"/>
                </a:lnTo>
                <a:lnTo>
                  <a:pt x="20200" y="27909"/>
                </a:lnTo>
                <a:close/>
              </a:path>
              <a:path fill="lighten" w="21600" h="29309">
                <a:moveTo>
                  <a:pt x="0" y="293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909"/>
                </a:lnTo>
                <a:close/>
              </a:path>
              <a:path fill="darkenLess" w="21600" h="29309">
                <a:moveTo>
                  <a:pt x="5273" y="7839"/>
                </a:moveTo>
                <a:lnTo>
                  <a:pt x="12271" y="7839"/>
                </a:lnTo>
                <a:lnTo>
                  <a:pt x="16327" y="11338"/>
                </a:lnTo>
                <a:lnTo>
                  <a:pt x="16327" y="21469"/>
                </a:lnTo>
                <a:lnTo>
                  <a:pt x="5273" y="21469"/>
                </a:lnTo>
                <a:close/>
              </a:path>
              <a:path fill="darken" w="21600" h="29309">
                <a:moveTo>
                  <a:pt x="12271" y="7839"/>
                </a:moveTo>
                <a:lnTo>
                  <a:pt x="16327" y="11338"/>
                </a:lnTo>
                <a:lnTo>
                  <a:pt x="12271" y="11338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22980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41506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31658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34572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25313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-257040" y="0"/>
            <a:ext cx="9586800" cy="69883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996240" y="0"/>
            <a:ext cx="33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ac9"/>
                </a:solidFill>
                <a:latin typeface="Arial"/>
                <a:ea typeface="宋体"/>
              </a:rPr>
              <a:t>The tim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3040" y="1889280"/>
            <a:ext cx="4442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I would like to travel to the yea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I want to see what life was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宋体"/>
              </a:rPr>
              <a:t>I want to see what life will be li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2" action="ppaction://hlinksldjump"/>
          </p:cNvPr>
          <p:cNvSpPr/>
          <p:nvPr/>
        </p:nvSpPr>
        <p:spPr>
          <a:xfrm>
            <a:off x="5529240" y="6589800"/>
            <a:ext cx="654120" cy="268200"/>
          </a:xfrm>
          <a:custGeom>
            <a:avLst/>
            <a:gdLst>
              <a:gd name="textAreaLeft" fmla="*/ 17280 w 654120"/>
              <a:gd name="textAreaRight" fmla="*/ 636840 w 654120"/>
              <a:gd name="textAreaTop" fmla="*/ 17280 h 268200"/>
              <a:gd name="textAreaBottom" fmla="*/ 250920 h 268200"/>
            </a:gdLst>
            <a:ahLst/>
            <a:rect l="textAreaLeft" t="textAreaTop" r="textAreaRight" b="textAreaBottom"/>
            <a:pathLst>
              <a:path w="52639" h="21600">
                <a:moveTo>
                  <a:pt x="0" y="0"/>
                </a:moveTo>
                <a:lnTo>
                  <a:pt x="52639" y="0"/>
                </a:lnTo>
                <a:lnTo>
                  <a:pt x="52639" y="21600"/>
                </a:lnTo>
                <a:lnTo>
                  <a:pt x="0" y="21600"/>
                </a:lnTo>
                <a:close/>
              </a:path>
              <a:path fill="lightenLess" w="52639" h="21600">
                <a:moveTo>
                  <a:pt x="0" y="0"/>
                </a:moveTo>
                <a:lnTo>
                  <a:pt x="52639" y="0"/>
                </a:lnTo>
                <a:lnTo>
                  <a:pt x="51239" y="1400"/>
                </a:lnTo>
                <a:lnTo>
                  <a:pt x="1400" y="1400"/>
                </a:lnTo>
                <a:close/>
              </a:path>
              <a:path fill="darken" w="52639" h="21600">
                <a:moveTo>
                  <a:pt x="52639" y="0"/>
                </a:moveTo>
                <a:lnTo>
                  <a:pt x="52639" y="21600"/>
                </a:lnTo>
                <a:lnTo>
                  <a:pt x="51239" y="20200"/>
                </a:lnTo>
                <a:lnTo>
                  <a:pt x="51239" y="1400"/>
                </a:lnTo>
                <a:close/>
              </a:path>
              <a:path fill="darkenLess" w="52639" h="21600">
                <a:moveTo>
                  <a:pt x="52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239" y="20200"/>
                </a:lnTo>
                <a:close/>
              </a:path>
              <a:path fill="lighten" w="52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639" h="21600">
                <a:moveTo>
                  <a:pt x="19313" y="10800"/>
                </a:moveTo>
                <a:lnTo>
                  <a:pt x="33326" y="3794"/>
                </a:lnTo>
                <a:lnTo>
                  <a:pt x="3332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999360"/>
            <a:ext cx="555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ask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200" y="2161800"/>
            <a:ext cx="377676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lk about trav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lk about means of 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ps on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nderstand boarding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school bus"/>
          <p:cNvPicPr/>
          <p:nvPr/>
        </p:nvPicPr>
        <p:blipFill>
          <a:blip r:embed="rId1"/>
          <a:stretch/>
        </p:blipFill>
        <p:spPr>
          <a:xfrm>
            <a:off x="4383000" y="2666880"/>
            <a:ext cx="4324320" cy="320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Have a pleasant trip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042920" y="2013120"/>
            <a:ext cx="2382840" cy="2681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925800" y="1552680"/>
            <a:ext cx="2710080" cy="2120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6424560" y="3505320"/>
            <a:ext cx="2043000" cy="26049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3613320" y="3889440"/>
            <a:ext cx="2006280" cy="1920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ore About 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41520" y="2700360"/>
            <a:ext cx="419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ike travelling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ike hiking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like adventure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’ve been to many places of inte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175280" y="2873520"/>
            <a:ext cx="3771720" cy="2582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8280" y="409320"/>
            <a:ext cx="6870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  <a:ea typeface="宋体"/>
              </a:rPr>
              <a:t>experience nature and life</a:t>
            </a:r>
            <a:endParaRPr b="0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81000" y="1363680"/>
            <a:ext cx="3022560" cy="2014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011240" y="3471840"/>
            <a:ext cx="3073320" cy="2071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568760" y="3498840"/>
            <a:ext cx="2938680" cy="2062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554360" y="1406520"/>
            <a:ext cx="2994120" cy="1969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What about you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49840" y="2509920"/>
            <a:ext cx="432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o you like travel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ere have you be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y do you trav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89000" y="2382840"/>
            <a:ext cx="1832040" cy="2793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395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Why do people travel?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817280" y="1959120"/>
            <a:ext cx="6327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increas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meet new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keep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have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experience life in differen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try new kinds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get away from hot 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483240" y="4794120"/>
            <a:ext cx="185112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s on travel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60120" y="2381400"/>
            <a:ext cx="4584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ey traffic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serve public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845320" y="397980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79480" y="1319040"/>
            <a:ext cx="2887920" cy="2165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848120" y="1308240"/>
            <a:ext cx="2906640" cy="2179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902120" y="3662280"/>
            <a:ext cx="2873520" cy="2156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787400" y="3605040"/>
            <a:ext cx="2874960" cy="2156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Tip on travel: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宋体"/>
              </a:rPr>
              <a:t>obey rule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617640" y="5025600"/>
            <a:ext cx="47070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 is driving too fa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085760" y="1712880"/>
            <a:ext cx="3265560" cy="2449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65520" y="1639800"/>
            <a:ext cx="37497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00:44:32Z</dcterms:created>
  <dc:creator>张纯</dc:creator>
  <dc:description/>
  <dc:language>en-US</dc:language>
  <cp:lastModifiedBy>张纯</cp:lastModifiedBy>
  <dcterms:modified xsi:type="dcterms:W3CDTF">2003-09-26T09:05:00Z</dcterms:modified>
  <cp:revision>45</cp:revision>
  <dc:subject/>
  <dc:title>Ms. Dawson’s 3rd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7211033</vt:lpwstr>
  </property>
</Properties>
</file>