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9908-DFDC-4163-B457-5104869EC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5B34-114B-4735-BFB4-A2C2F0602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72AE-6945-42DD-9B46-D4607E3F3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597F-127E-4755-A5FC-B9AC92921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C988-2165-44FC-B135-5FE7323DC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BC28-4000-4EDA-8D9B-3D7924E74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75EB-FDFE-45C2-819F-160F6811D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25F2-26EF-4B45-89A2-5DBAFEF23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BBDF-DC05-49B2-84D5-EF29722C5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A72A-9342-4B7A-AD1A-D28648378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EA29-84FD-45EA-93BB-4A10A38C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4986-B045-4464-AD7E-60ED3CBF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9A468-ED7A-4E57-B329-5A27C239E3A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tense.ppt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914400"/>
            <a:ext cx="73152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现在完成时的用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现在完成时表示</a:t>
            </a:r>
            <a:r>
              <a:rPr b="1" lang="zh-CN" sz="3200" spc="-1" strike="noStrike">
                <a:solidFill>
                  <a:srgbClr val="da0000"/>
                </a:solidFill>
                <a:latin typeface="Times New Roman"/>
              </a:rPr>
              <a:t>过去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某时发生的行为对主语</a:t>
            </a:r>
            <a:r>
              <a:rPr b="1" lang="zh-CN" sz="3200" spc="-1" strike="noStrike">
                <a:solidFill>
                  <a:srgbClr val="da0000"/>
                </a:solidFill>
                <a:latin typeface="Times New Roman"/>
              </a:rPr>
              <a:t>目前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产生的影响。即用过去发生的某个行为来说明现在的某种情况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We are good friends.(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现在的情况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I knew him in 1997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过去的动作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We have known each other since 1997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现在完成时把过去的动作和现在</a:t>
            </a:r>
            <a:r>
              <a:rPr b="1" lang="zh-CN" sz="3200" spc="-1" strike="noStrike">
                <a:solidFill>
                  <a:srgbClr val="da0000"/>
                </a:solidFill>
                <a:latin typeface="Times New Roman"/>
              </a:rPr>
              <a:t>联系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起来并</a:t>
            </a:r>
            <a:r>
              <a:rPr b="1" lang="zh-CN" sz="3200" spc="-1" strike="noStrike">
                <a:solidFill>
                  <a:srgbClr val="da0000"/>
                </a:solidFill>
                <a:latin typeface="Times New Roman"/>
              </a:rPr>
              <a:t>着眼于现在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95440" y="1263600"/>
            <a:ext cx="8105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price ___,but I doubt whether it wi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main s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went down    B.will go dow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has gone down   D.was going dow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63200" y="449568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表示已发生的动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2997360"/>
            <a:ext cx="576000" cy="574560"/>
          </a:xfrm>
          <a:prstGeom prst="ellipse">
            <a:avLst/>
          </a:prstGeom>
          <a:noFill/>
          <a:ln w="76320">
            <a:solidFill>
              <a:srgbClr val="d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838080"/>
            <a:ext cx="7620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ll the preparations for the task__,and we’re ready to star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completed     B.comple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had been comple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.have been comple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165040" y="4057560"/>
            <a:ext cx="4688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过去的动作“完成了准备工作”，对现在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影响是“现在已准备出发了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3068640"/>
            <a:ext cx="576000" cy="574560"/>
          </a:xfrm>
          <a:prstGeom prst="ellipse">
            <a:avLst/>
          </a:prstGeom>
          <a:noFill/>
          <a:ln w="76320">
            <a:solidFill>
              <a:srgbClr val="d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11280" y="1197000"/>
            <a:ext cx="77756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My dictionary ___. I have looked for it everywhere but still ___ 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s lost; don’t fi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is missing; don’t fi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s lost; haven’t fou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is missing; haven’t fou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1280" y="4869000"/>
            <a:ext cx="576000" cy="574560"/>
          </a:xfrm>
          <a:prstGeom prst="ellipse">
            <a:avLst/>
          </a:prstGeom>
          <a:noFill/>
          <a:ln w="76320">
            <a:solidFill>
              <a:srgbClr val="d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4360" y="1197000"/>
            <a:ext cx="77245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Do you know our town at all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No, this is the first time I ___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as        B. have be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C. came     D. am com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80000" y="3645000"/>
            <a:ext cx="576000" cy="574560"/>
          </a:xfrm>
          <a:prstGeom prst="ellipse">
            <a:avLst/>
          </a:prstGeom>
          <a:noFill/>
          <a:ln w="76320">
            <a:solidFill>
              <a:srgbClr val="d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116000" y="549360"/>
            <a:ext cx="72723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Where ___ the recorder? I can’t see it anyw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I ___ it right here, but now it’s gon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did you put; have p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ve you put; p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 you put; have p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ere you putting; have p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16000" y="3645000"/>
            <a:ext cx="576360" cy="574560"/>
          </a:xfrm>
          <a:prstGeom prst="ellipse">
            <a:avLst/>
          </a:prstGeom>
          <a:noFill/>
          <a:ln w="76320">
            <a:solidFill>
              <a:srgbClr val="d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03120" y="890640"/>
            <a:ext cx="85899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 Who is Jerry Coop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 ____? I saw you shaking hands with him at the meet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Don’t you meet him y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n’t you met him y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Didn’t you meet him y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ven’t you met him y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229360"/>
            <a:ext cx="576000" cy="574560"/>
          </a:xfrm>
          <a:prstGeom prst="ellipse">
            <a:avLst/>
          </a:prstGeom>
          <a:noFill/>
          <a:ln w="76320">
            <a:solidFill>
              <a:srgbClr val="d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95280" y="1197000"/>
            <a:ext cx="8120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You don’t need to describe her. I ___ her several tim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 m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ve m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m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me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3068640"/>
            <a:ext cx="576360" cy="574560"/>
          </a:xfrm>
          <a:prstGeom prst="ellipse">
            <a:avLst/>
          </a:prstGeom>
          <a:noFill/>
          <a:ln w="76320">
            <a:solidFill>
              <a:srgbClr val="d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900000" y="765000"/>
            <a:ext cx="77248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CCTV </a:t>
            </a:r>
            <a:r>
              <a:rPr b="1" lang="en-US" sz="4800" spc="-1" strike="noStrike">
                <a:solidFill>
                  <a:srgbClr val="da0000"/>
                </a:solidFill>
                <a:latin typeface="Times New Roman"/>
              </a:rPr>
              <a:t>has been broadcasting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English programs ever since 1977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11280" y="3357720"/>
            <a:ext cx="7056360" cy="1650240"/>
            <a:chOff x="611280" y="3357720"/>
            <a:chExt cx="7056360" cy="1650240"/>
          </a:xfrm>
        </p:grpSpPr>
        <p:sp>
          <p:nvSpPr>
            <p:cNvPr id="77" name=""/>
            <p:cNvSpPr/>
            <p:nvPr/>
          </p:nvSpPr>
          <p:spPr>
            <a:xfrm>
              <a:off x="611280" y="3789000"/>
              <a:ext cx="705636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619280" y="3357720"/>
              <a:ext cx="0" cy="7916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619280" y="4149360"/>
              <a:ext cx="4608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156360" y="3357720"/>
              <a:ext cx="0" cy="4312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187640" y="4365360"/>
              <a:ext cx="180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 Black"/>
                </a:rPr>
                <a:t>197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622120" y="4251240"/>
              <a:ext cx="1099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 Black"/>
                </a:rPr>
                <a:t>now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95280" y="692280"/>
            <a:ext cx="79930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表示一个事件在某个事件之前一直进行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用于表达事件的持续性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You look hot and tired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Have you been exercising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I'm sorry I'm late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Have you been waiting long?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023840" y="819000"/>
            <a:ext cx="72932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---Hi, Tracy, you look tire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--- I am tired. I ___ the living room all da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painted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had paint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. have been pain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D. have paint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42920" y="4508640"/>
            <a:ext cx="576360" cy="574560"/>
          </a:xfrm>
          <a:prstGeom prst="ellipse">
            <a:avLst/>
          </a:prstGeom>
          <a:noFill/>
          <a:ln w="76320">
            <a:solidFill>
              <a:srgbClr val="d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066680" y="1523880"/>
            <a:ext cx="7239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She has been to Beij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现在已不在北京，从</a:t>
            </a:r>
            <a:r>
              <a:rPr b="1" lang="zh-CN" sz="3200" spc="-1" strike="noStrike">
                <a:solidFill>
                  <a:srgbClr val="da0000"/>
                </a:solidFill>
                <a:latin typeface="Times New Roman"/>
              </a:rPr>
              <a:t>结果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上和现在联系起来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She has been in Beijing for two year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现在仍在北京，从</a:t>
            </a:r>
            <a:r>
              <a:rPr b="1" lang="zh-CN" sz="3200" spc="-1" strike="noStrike">
                <a:solidFill>
                  <a:srgbClr val="da0000"/>
                </a:solidFill>
                <a:latin typeface="Times New Roman"/>
              </a:rPr>
              <a:t>时间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上和现在联系起来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826920" y="1197000"/>
            <a:ext cx="73645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She ___ letters all morning and felt tire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s been writing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B. wr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C. has writt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D. had been wri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26920" y="4221000"/>
            <a:ext cx="649440" cy="720720"/>
          </a:xfrm>
          <a:prstGeom prst="ellipse">
            <a:avLst/>
          </a:prstGeom>
          <a:noFill/>
          <a:ln w="76320">
            <a:solidFill>
              <a:srgbClr val="d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92200" y="961920"/>
            <a:ext cx="81565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-Isn’t it hard to drive downtown to work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-Yes, that’s why I ____ to work by trai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ve been go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ve g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as going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ill have g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11280" y="3429000"/>
            <a:ext cx="576000" cy="574560"/>
          </a:xfrm>
          <a:prstGeom prst="ellipse">
            <a:avLst/>
          </a:prstGeom>
          <a:noFill/>
          <a:ln w="76320">
            <a:solidFill>
              <a:srgbClr val="d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1"/>
          </p:cNvPr>
          <p:cNvSpPr/>
          <p:nvPr/>
        </p:nvSpPr>
        <p:spPr>
          <a:xfrm>
            <a:off x="7885080" y="6165720"/>
            <a:ext cx="647640" cy="43200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2373" h="21600">
                <a:moveTo>
                  <a:pt x="0" y="0"/>
                </a:moveTo>
                <a:lnTo>
                  <a:pt x="32373" y="0"/>
                </a:lnTo>
                <a:lnTo>
                  <a:pt x="32373" y="21600"/>
                </a:lnTo>
                <a:lnTo>
                  <a:pt x="0" y="21600"/>
                </a:lnTo>
                <a:close/>
              </a:path>
              <a:path fill="lightenLess" w="32373" h="21600">
                <a:moveTo>
                  <a:pt x="0" y="0"/>
                </a:moveTo>
                <a:lnTo>
                  <a:pt x="32373" y="0"/>
                </a:lnTo>
                <a:lnTo>
                  <a:pt x="30973" y="1400"/>
                </a:lnTo>
                <a:lnTo>
                  <a:pt x="1400" y="1400"/>
                </a:lnTo>
                <a:close/>
              </a:path>
              <a:path fill="darken" w="32373" h="21600">
                <a:moveTo>
                  <a:pt x="32373" y="0"/>
                </a:moveTo>
                <a:lnTo>
                  <a:pt x="32373" y="21600"/>
                </a:lnTo>
                <a:lnTo>
                  <a:pt x="30973" y="20200"/>
                </a:lnTo>
                <a:lnTo>
                  <a:pt x="30973" y="1400"/>
                </a:lnTo>
                <a:close/>
              </a:path>
              <a:path fill="darkenLess" w="32373" h="21600">
                <a:moveTo>
                  <a:pt x="32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3" y="20200"/>
                </a:lnTo>
                <a:close/>
              </a:path>
              <a:path fill="lighten" w="32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3" h="21600">
                <a:moveTo>
                  <a:pt x="9180" y="10800"/>
                </a:moveTo>
                <a:lnTo>
                  <a:pt x="23193" y="3794"/>
                </a:lnTo>
                <a:lnTo>
                  <a:pt x="23193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4360" y="549360"/>
            <a:ext cx="76197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现在完成时的三种基本用法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da0000"/>
                </a:solidFill>
                <a:latin typeface="Times New Roman"/>
              </a:rPr>
              <a:t>未完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用法。表示动作或状态开始于过去，一直延续到现在，可能继续发展，也可能刚刚结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He has been in the army for ten yea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I have studied English since 198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He has lived here all his lif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a.be,live,study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都是延续性动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b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常用的时间状语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since…,for…,in the past few years,so far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all his lif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46280" y="7542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905120"/>
            <a:ext cx="7772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da0000"/>
                </a:solidFill>
                <a:latin typeface="Times New Roman"/>
              </a:rPr>
              <a:t>反复性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用法，表示过去到现在这段时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内反复发生的动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I have been to the city twice this wee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I have often wondered where she gets her money all these day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这种用法从时间上与现在发生了联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1752480"/>
            <a:ext cx="691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完成性用法，表示动作或状态到说话时已经完成，通常</a:t>
            </a:r>
            <a:r>
              <a:rPr b="1" lang="zh-CN" sz="3200" spc="-1" strike="noStrike">
                <a:solidFill>
                  <a:srgbClr val="da0000"/>
                </a:solidFill>
                <a:latin typeface="Times New Roman"/>
              </a:rPr>
              <a:t>所产生的结果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把过去的动作和状态和现在</a:t>
            </a:r>
            <a:r>
              <a:rPr b="1" lang="zh-CN" sz="3200" spc="-1" strike="noStrike">
                <a:solidFill>
                  <a:srgbClr val="da0000"/>
                </a:solidFill>
                <a:latin typeface="Times New Roman"/>
              </a:rPr>
              <a:t>联系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起来。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He has gone to Shangha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他已经去了上海。（结果：他已不在这儿，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He is not here now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440" y="907920"/>
            <a:ext cx="7700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an you make sure ___ the gold ring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where Alice had p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.where had Alice p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where Alice has p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.where has Alice p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192760" y="4292640"/>
            <a:ext cx="49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使用现在完成时表示过去发生的“放”的动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对现在的影响，究竟金戒指现在“在哪里”。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4360" y="2565360"/>
            <a:ext cx="576000" cy="574560"/>
          </a:xfrm>
          <a:prstGeom prst="ellipse">
            <a:avLst/>
          </a:prstGeom>
          <a:noFill/>
          <a:ln w="76320">
            <a:solidFill>
              <a:srgbClr val="d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8280" y="609480"/>
            <a:ext cx="83858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en I was at college I ___ three foreig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anguages,but I ___ all except a few wor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f eac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spoke;had forgott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.spoke;have forgott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had spoken;had forgott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.had spoken;have forgott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8520" y="5029200"/>
            <a:ext cx="43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但都忘了”是现在的情况，要用现在完成时，强调结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2852640"/>
            <a:ext cx="576360" cy="574920"/>
          </a:xfrm>
          <a:prstGeom prst="ellipse">
            <a:avLst/>
          </a:prstGeom>
          <a:noFill/>
          <a:ln w="76320">
            <a:solidFill>
              <a:srgbClr val="d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72120" y="882720"/>
            <a:ext cx="7405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---I’m sorry to keep you wait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---Oh,not at all.I ___ here only a f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inut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have been      B.had be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was                 D.will b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59000" y="4191120"/>
            <a:ext cx="653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(for) only a few minutes”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说明几分钟前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了这里，一直到现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2637000"/>
            <a:ext cx="576000" cy="574560"/>
          </a:xfrm>
          <a:prstGeom prst="ellipse">
            <a:avLst/>
          </a:prstGeom>
          <a:noFill/>
          <a:ln w="76320">
            <a:solidFill>
              <a:srgbClr val="d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94720" y="1111320"/>
            <a:ext cx="777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--___ the sports meet might be put off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--Yes,it all depends on the weath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 I’ve been told   B. I’ve to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I’m told             D.I to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040840" y="4114800"/>
            <a:ext cx="481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被告知”是过去的事，</a:t>
            </a:r>
            <a:r>
              <a:rPr b="1" lang="zh-CN" sz="3600" spc="-1" strike="noStrike">
                <a:solidFill>
                  <a:srgbClr val="da0000"/>
                </a:solidFill>
                <a:latin typeface="Times New Roman"/>
              </a:rPr>
              <a:t>对现在的影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是“我已知道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2276640"/>
            <a:ext cx="576000" cy="574560"/>
          </a:xfrm>
          <a:prstGeom prst="ellipse">
            <a:avLst/>
          </a:prstGeom>
          <a:noFill/>
          <a:ln w="76320">
            <a:solidFill>
              <a:srgbClr val="d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8T01:03:07Z</dcterms:created>
  <dc:creator>zhao jinliang</dc:creator>
  <dc:description/>
  <dc:language>en-US</dc:language>
  <cp:lastModifiedBy>Legend User</cp:lastModifiedBy>
  <dcterms:modified xsi:type="dcterms:W3CDTF">2002-12-08T10:10:58Z</dcterms:modified>
  <cp:revision>19</cp:revision>
  <dc:subject/>
  <dc:title>PowerPoint 演示文稿</dc:title>
</cp:coreProperties>
</file>