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B20-F018-4B3C-9EB8-51179A31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DFEE-B83D-4FDD-804D-EC607A68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EED-07BA-48FA-8B6F-3AEBFEDA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B75-44DA-465D-89AE-9E6DEDE2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296-9ACB-4FBF-96CA-4C76B76F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760-CCDC-4065-A8EE-C82EA0CF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A6F-F4B0-4CE5-8037-DDA340F3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5C9-147D-4091-ACDE-DFA1EEA1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26C2-469F-4C16-990A-369383EE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CB8-610D-4A1A-B385-F71B2859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012-082D-44F5-B9E4-96FB4C19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777-95BD-42C9-A46A-52CE00C8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0414-9B76-49E4-BC65-8C1BBF5B11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simple%20present&amp;present%20continuous.ppt#Slide 1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59640" y="1916280"/>
            <a:ext cx="414324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1"/>
              </a:rPr>
              <a:t>一般现在时和现在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一般过去时和过去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现在完成时和现在完成进行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完成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过去将来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7164360" y="5229360"/>
            <a:ext cx="792360" cy="682560"/>
          </a:xfrm>
          <a:custGeom>
            <a:avLst/>
            <a:gdLst>
              <a:gd name="textAreaLeft" fmla="*/ 43920 w 792360"/>
              <a:gd name="textAreaRight" fmla="*/ 748440 w 792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5073" h="21600">
                <a:moveTo>
                  <a:pt x="0" y="0"/>
                </a:moveTo>
                <a:lnTo>
                  <a:pt x="25073" y="0"/>
                </a:lnTo>
                <a:lnTo>
                  <a:pt x="25073" y="21600"/>
                </a:lnTo>
                <a:lnTo>
                  <a:pt x="0" y="21600"/>
                </a:lnTo>
                <a:close/>
              </a:path>
              <a:path fill="lightenLess" w="25073" h="21600">
                <a:moveTo>
                  <a:pt x="0" y="0"/>
                </a:moveTo>
                <a:lnTo>
                  <a:pt x="25073" y="0"/>
                </a:lnTo>
                <a:lnTo>
                  <a:pt x="23673" y="1400"/>
                </a:lnTo>
                <a:lnTo>
                  <a:pt x="1400" y="1400"/>
                </a:lnTo>
                <a:close/>
              </a:path>
              <a:path fill="darken" w="25073" h="21600">
                <a:moveTo>
                  <a:pt x="25073" y="0"/>
                </a:moveTo>
                <a:lnTo>
                  <a:pt x="25073" y="21600"/>
                </a:lnTo>
                <a:lnTo>
                  <a:pt x="23673" y="20200"/>
                </a:lnTo>
                <a:lnTo>
                  <a:pt x="23673" y="1400"/>
                </a:lnTo>
                <a:close/>
              </a:path>
              <a:path fill="darkenLess" w="25073" h="21600">
                <a:moveTo>
                  <a:pt x="25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73" y="20200"/>
                </a:lnTo>
                <a:close/>
              </a:path>
              <a:path fill="lighten" w="25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73" h="21600">
                <a:moveTo>
                  <a:pt x="16035" y="10800"/>
                </a:moveTo>
                <a:lnTo>
                  <a:pt x="5530" y="17806"/>
                </a:lnTo>
                <a:lnTo>
                  <a:pt x="5530" y="3794"/>
                </a:lnTo>
                <a:close/>
              </a:path>
              <a:path fill="darken" w="25073" h="21600">
                <a:moveTo>
                  <a:pt x="17881" y="3794"/>
                </a:moveTo>
                <a:lnTo>
                  <a:pt x="17881" y="17806"/>
                </a:lnTo>
                <a:lnTo>
                  <a:pt x="19543" y="17806"/>
                </a:lnTo>
                <a:lnTo>
                  <a:pt x="19543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3:50:37Z</dcterms:created>
  <dc:creator>李徐琴</dc:creator>
  <dc:description/>
  <dc:language>en-US</dc:language>
  <cp:lastModifiedBy>Legend User</cp:lastModifiedBy>
  <dcterms:modified xsi:type="dcterms:W3CDTF">2002-11-24T10:07:14Z</dcterms:modified>
  <cp:revision>3</cp:revision>
  <dc:subject/>
  <dc:title>幻灯片 1</dc:title>
</cp:coreProperties>
</file>