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FF8-7AAF-4F8B-B9F9-1B152AC4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B72-ABB6-48D8-83D6-8DC9E1C0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581-13B9-4D47-ACB6-B7E6D946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54D-16AC-4C3F-91BD-6A56FB44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02A2-76EF-4125-A2C3-87AD7006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AAD0-85C2-45B2-AC53-F6DB1925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6FAB-1CCD-46FF-8FEE-833D25DD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6669-0B7D-4AAD-A353-60BAF823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581E-C34D-4DAB-982D-D3FC0979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2E63-D3DE-4A62-9C25-39471C06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F67A-3C17-4CBD-AA79-6EE659B3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9CCA-BE44-4961-A8BF-E7829D12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0BA8-1DD1-4A35-8988-32FAD2E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A53E-F870-4C4C-AFC3-2C3F0A8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FDF5-D0AC-4C65-B506-9BF2EDB0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8256-C3D3-4C86-9090-7FCD348E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8205-9431-4A34-919F-41710FC3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5F6-D2C9-4522-8DD4-B1D81CC0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E8C-944D-4B9D-B64A-B5808D43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005-14A9-4E33-AF76-E13E73AA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FE1-B9A3-4B34-B342-4AE6DD5F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3E0-ED1F-4C47-B2BC-B55D61D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A90-66A4-4FB0-B359-6D60DB8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219-17E8-471D-9129-0E188861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201-D169-4E4A-ADB3-BBDBB12E4AA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27A-CD9F-44DC-969A-8126948C894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ens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83664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hen we got to the theatre, they </a:t>
            </a:r>
            <a:r>
              <a:rPr b="0" lang="en-US" sz="4800" spc="-1" strike="noStrike">
                <a:solidFill>
                  <a:srgbClr val="da0000"/>
                </a:solidFill>
                <a:latin typeface="Arial Black"/>
              </a:rPr>
              <a:t>had sold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all the ticke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1240" y="3213000"/>
            <a:ext cx="7196400" cy="2702520"/>
            <a:chOff x="471240" y="3213000"/>
            <a:chExt cx="7196400" cy="2702520"/>
          </a:xfrm>
        </p:grpSpPr>
        <p:sp>
          <p:nvSpPr>
            <p:cNvPr id="83" name=""/>
            <p:cNvSpPr/>
            <p:nvPr/>
          </p:nvSpPr>
          <p:spPr>
            <a:xfrm>
              <a:off x="539640" y="4508280"/>
              <a:ext cx="7128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3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4076640"/>
              <a:ext cx="0" cy="431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720" y="414792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1240" y="4724280"/>
              <a:ext cx="20581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had sol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48000" y="4724280"/>
              <a:ext cx="244800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got to the theatr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02520" y="4653000"/>
              <a:ext cx="11455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ow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10960" y="3213000"/>
              <a:ext cx="1552320" cy="642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</a:rPr>
                <a:t>过去的过去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765000"/>
            <a:ext cx="765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8.When I got to the cinema, the film____ for five minu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d bega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as on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begu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been on sh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522936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620640"/>
            <a:ext cx="8048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9.Class ___ by the time I ____ there, so I took a seat in th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s begun, get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had begun, g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began, go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begins, g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64500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179280"/>
            <a:ext cx="8137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0.Helen ___ her key in the office so she had to wait until her husband___ hom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as left, comes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left, ha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left, came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left, would c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58136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765000"/>
            <a:ext cx="8335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11.The pen which I ___ I  ____ is on my desk, right under my nos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ink, lost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thought, had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C. think, had lost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D. thought, have l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716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692280"/>
            <a:ext cx="8193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hey asked me to have a drink with them. I said that it was at least ten years since I ____ a good drink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as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enjoy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enjo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3068640"/>
            <a:ext cx="684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0920" y="620640"/>
            <a:ext cx="8408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How long __ each other before they ___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--- For about a ye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ve they known;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did they know; we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do they know; are going to g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they known; g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5445000"/>
            <a:ext cx="684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55640" y="1341360"/>
            <a:ext cx="8085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en Jack arrived he learned Mary ___ for almost an hou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g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set of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lef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aw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013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981000"/>
            <a:ext cx="87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Did you tell your brother where she ___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---Yes, but I didn’t tell him she ___ until next we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A. has gone; w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B. went; do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C. had been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D. had gone; wouldn’t come h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68400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26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 wife ___ to catch the first train but she was too la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p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hop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ould h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637000"/>
            <a:ext cx="684360" cy="647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653000"/>
            <a:ext cx="8551800" cy="11912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had hoped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意为“原希望”，常用于这一结构的动词有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ink, want, plan, suppose, intend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10800"/>
                </a:moveTo>
                <a:lnTo>
                  <a:pt x="23193" y="3794"/>
                </a:lnTo>
                <a:lnTo>
                  <a:pt x="231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91628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过去完成时是一种与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</a:rPr>
              <a:t>过去时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相比较而存在的时态，用以表示“过去的过去”的动作或状态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773360"/>
            <a:ext cx="848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1.When we _____(arrive) at the theatre, the play ____(already start)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4365720"/>
            <a:ext cx="575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arrived;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 Black"/>
              </a:rPr>
              <a:t>had already star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60480"/>
            <a:ext cx="8264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.The police found that the house ___and a lot of things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. has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s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B. had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ad been 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. has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. had been broken int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to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981000"/>
            <a:ext cx="7940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3.Tom didn't go to hear the singer because he___ him.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heard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ould hear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s heard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d he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44500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79280"/>
            <a:ext cx="83534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.---Why didn't you come to the par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-I___ to come, but one of my friends came to see me just then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. wanted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B. was want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had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been wan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00000" y="333360"/>
            <a:ext cx="7201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5.Sorry,I've eaten up the food. I___ that     he  wouldn't be back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ink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was thin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d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though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72428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1840" y="1125360"/>
            <a:ext cx="8085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6.When we got to his home, we learned 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___ for almost an ho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went   B. had gone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C. had been aw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D. has g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076640"/>
            <a:ext cx="1008000" cy="792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476280"/>
            <a:ext cx="876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7.---Did you meet John here at the universit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----No, we___ when I started colle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ave already met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. would meet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D. had already m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89720"/>
            <a:ext cx="1008000" cy="79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31:57Z</dcterms:created>
  <dc:creator>Legend User</dc:creator>
  <dc:description/>
  <dc:language>en-US</dc:language>
  <cp:lastModifiedBy>Legend User</cp:lastModifiedBy>
  <dcterms:modified xsi:type="dcterms:W3CDTF">2002-12-10T13:06:31Z</dcterms:modified>
  <cp:revision>18</cp:revision>
  <dc:subject/>
  <dc:title>幻灯片 1</dc:title>
</cp:coreProperties>
</file>