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79B-FFCE-4E32-AA91-53E3D3F8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7BF-F4D3-4119-835E-969AF6F2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0DD-ED7C-4E17-B825-F0C033BB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6ED-7701-4E36-8982-E629113E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B2F-1F0A-491B-A4EE-E6AB6C9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7B7-3441-4E89-94BB-8651B0A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8A1-4EA1-40F5-946F-B97CFD91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0FB-03F1-49FC-9B1E-5C27FC77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2B1-1BD9-4208-836A-3E7597EA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51B-C99B-4D88-9D31-D773B50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2E1-ED93-4532-B66F-AAE745A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BCC-6E2A-4775-8E77-18B5F3C6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EE2-EDB0-4CD2-8F83-8253FC8E15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ense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7920" y="1481040"/>
            <a:ext cx="7462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般过去时表示一个动作或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某个的时间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开始和结束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lke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to school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bough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a new car 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three days ago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0640" y="443700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7960" y="4437000"/>
            <a:ext cx="0" cy="533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83440" y="4716360"/>
            <a:ext cx="126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n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1640" y="4970520"/>
            <a:ext cx="30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lked,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797360"/>
            <a:ext cx="46814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600200"/>
            <a:ext cx="7635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I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l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Roger at nine las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ight,  but he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e,no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a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.He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____ at the libr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51960" y="4508640"/>
            <a:ext cx="62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lled;was not;was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99072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I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hear,not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the thunder during the storm last night because I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leep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50880" y="4581360"/>
            <a:ext cx="654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idn’t hear;was slee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1447920"/>
            <a:ext cx="820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My brother and sister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rgu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about something when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alk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into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1280" y="4267080"/>
            <a:ext cx="568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 arguing;wal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838080"/>
            <a:ext cx="790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While Mrs. Emerson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read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 the little boy a story,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fall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a sleep,so she 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clos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_____ the book and quiet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ipto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)____ out of the r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1760" y="5003640"/>
            <a:ext cx="800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reading,fell,closed,tipto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6160" y="1341360"/>
            <a:ext cx="85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----Nancy is not com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But she ____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promises       B.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ill promise  D. had promis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365720"/>
            <a:ext cx="27432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447920"/>
            <a:ext cx="828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Shirley ___ a boo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ina last year but I don’t know whether  she has finished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ritten    B.wr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written    D.was wri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5877000"/>
            <a:ext cx="3276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55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836640"/>
            <a:ext cx="8381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I first met Lisa three years ago.She ___ at a radio shop at the ti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has work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 was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had been wo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had wor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4508640"/>
            <a:ext cx="35812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692280"/>
            <a:ext cx="7391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0.I don’t think Jim saw me; he ___ into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A.just stared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B.was just st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C.has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D.had just star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3645000"/>
            <a:ext cx="44193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1760" y="1143000"/>
            <a:ext cx="8073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As she ____ the newspap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anny____ aslee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read; 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.was reading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was reading;was fal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read;fe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4594320" cy="34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1400" y="1484280"/>
            <a:ext cx="8474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---You phone number ag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____ quite catch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It’s 956844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didn’t        B. could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don’t         D.can’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43700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844640"/>
            <a:ext cx="779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表示过去经常性的动作或情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often got up at 6:00 last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366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9800" y="1219320"/>
            <a:ext cx="8834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---We could have walk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tation,it was so n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---Yes,a taxi ___ at necessa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. wasn’t     B. hadn’t be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. would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. won’t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149720"/>
            <a:ext cx="2305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4.Tom ___ into the house when no one ___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slipped, was lo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had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slipped, had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slipped, look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573360"/>
            <a:ext cx="7561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907920"/>
            <a:ext cx="8335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reporter said the UFO _____east to west when he saw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raveled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ravel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been travel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was to tra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581360"/>
            <a:ext cx="5184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836640"/>
            <a:ext cx="7796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ey, look where you are going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Oh, I’m terribly sorry.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’m no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wasn’t notic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have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 don’t no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508640"/>
            <a:ext cx="5112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98900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What a nice bike! Where ___ you ___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o; buy     B. have; bou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did ; buy  D. will; bu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292640"/>
            <a:ext cx="3097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4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students ___ busily when Miss Brown went to get a book she ___ in the offi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s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written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ere writing; had le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2428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1640" y="1484280"/>
            <a:ext cx="700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ry ___ a dress when she cut her fin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made    B. is m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was mak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m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84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890640"/>
            <a:ext cx="779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 last time I ___ Jane she ___ cotton in the fiel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en; pick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aw; was pi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229360"/>
            <a:ext cx="540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/>
          </p:cNvPr>
          <p:cNvSpPr/>
          <p:nvPr/>
        </p:nvSpPr>
        <p:spPr>
          <a:xfrm>
            <a:off x="8028000" y="609300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01040" y="1382760"/>
            <a:ext cx="44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英语动词的四种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原形   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形式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过去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现在分词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ear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3480" y="176364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1600" y="1230480"/>
            <a:ext cx="568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动词的一般过去形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listen—listen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.study---stud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i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stop-----sto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p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come----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560" y="2362320"/>
            <a:ext cx="757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e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Times New Roman"/>
              </a:rPr>
              <a:t>didn’t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Did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you 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wal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to school yesterda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5480" y="762120"/>
            <a:ext cx="791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过去进行时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ff"/>
                </a:solidFill>
                <a:latin typeface="Times New Roman"/>
              </a:rPr>
              <a:t>when it began to rain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476360" y="3429000"/>
            <a:ext cx="5381640" cy="2743200"/>
            <a:chOff x="1476360" y="3429000"/>
            <a:chExt cx="5381640" cy="2743200"/>
          </a:xfrm>
        </p:grpSpPr>
        <p:sp>
          <p:nvSpPr>
            <p:cNvPr id="55" name=""/>
            <p:cNvSpPr/>
            <p:nvPr/>
          </p:nvSpPr>
          <p:spPr>
            <a:xfrm>
              <a:off x="5508720" y="4365720"/>
              <a:ext cx="0" cy="287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4495680"/>
              <a:ext cx="0" cy="3049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00200" y="4648320"/>
              <a:ext cx="1447920" cy="533160"/>
            </a:xfrm>
            <a:custGeom>
              <a:avLst/>
              <a:gdLst/>
              <a:ahLst/>
              <a:rect l="l" t="t" r="r" b="b"/>
              <a:pathLst>
                <a:path w="768" h="336">
                  <a:moveTo>
                    <a:pt x="0" y="0"/>
                  </a:moveTo>
                  <a:cubicBezTo>
                    <a:pt x="152" y="168"/>
                    <a:pt x="304" y="336"/>
                    <a:pt x="432" y="336"/>
                  </a:cubicBezTo>
                  <a:cubicBezTo>
                    <a:pt x="560" y="336"/>
                    <a:pt x="664" y="168"/>
                    <a:pt x="768" y="0"/>
                  </a:cubicBezTo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14600" y="3429000"/>
              <a:ext cx="4343400" cy="609480"/>
            </a:xfrm>
            <a:prstGeom prst="wedgeRectCallout">
              <a:avLst>
                <a:gd name="adj1" fmla="val -50875"/>
                <a:gd name="adj2" fmla="val 13020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en it began to ra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5562720"/>
              <a:ext cx="2590560" cy="609480"/>
            </a:xfrm>
            <a:prstGeom prst="wedgeRectCallout">
              <a:avLst>
                <a:gd name="adj1" fmla="val -36518"/>
                <a:gd name="adj2" fmla="val -9974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 was walk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4653000"/>
              <a:ext cx="51832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28560" y="45957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now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19880" y="2133720"/>
            <a:ext cx="56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过去进行时的构成 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was/were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 + - 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60" y="1052640"/>
            <a:ext cx="9070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s not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ere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you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walking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down the stre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it began to r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685800"/>
            <a:ext cx="7010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一般过去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过去进行时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填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I don’t want to go to the zoo today  because it is raining.The same thing  happened 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Times New Roman"/>
              </a:rPr>
              <a:t>yesterday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. I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want ,no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 ____  to go to the zoo because it (</a:t>
            </a:r>
            <a:r>
              <a:rPr b="1" i="1" lang="zh-CN" sz="4000" spc="-1" strike="noStrike">
                <a:solidFill>
                  <a:srgbClr val="ffffff"/>
                </a:solidFill>
                <a:latin typeface="Times New Roman"/>
              </a:rPr>
              <a:t>rai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640" y="5589720"/>
            <a:ext cx="49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idn’t want, wa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10:05:39Z</dcterms:created>
  <dc:creator>zhao jinliang</dc:creator>
  <dc:description/>
  <dc:language>en-US</dc:language>
  <cp:lastModifiedBy>Legend User</cp:lastModifiedBy>
  <dcterms:modified xsi:type="dcterms:W3CDTF">2002-11-24T11:53:40Z</dcterms:modified>
  <cp:revision>19</cp:revision>
  <dc:subject/>
  <dc:title>PowerPoint 演示文稿</dc:title>
</cp:coreProperties>
</file>