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91B-6690-46E4-82D0-55CD73F0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106-2D10-48B8-8BDF-B62DBE0B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E0E-8D8C-49B9-87CB-747F8FA6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BEB-A112-4132-B2B5-E4BB5A6E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59B-78FF-44F7-9702-B947D8EB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C34-A5F9-41A5-8C1B-EA385AEB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0C9-1EBE-4FEB-8A1A-DF48F1B5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3FD-9952-4107-956C-FC075302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951-972A-4E87-8DFB-E56B4EF1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37C-968D-484A-9E3C-68206E60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716-5875-4271-982F-B4C4AD2E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FD9-3798-4DD7-9282-8DF0E2F3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B96E-24E1-4954-B8C4-0F788CD584E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81280" y="198108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ve been thinking for a long time about what we do in our lif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從很久以前就想著在我這一身我要做些什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565280" cy="1963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1374840" cy="181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1617840" cy="1717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886200" y="2590920"/>
            <a:ext cx="2133720" cy="123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85800" y="4648320"/>
            <a:ext cx="1109520" cy="1966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733920" y="449568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17520" y="345960"/>
            <a:ext cx="20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ake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36880" y="422280"/>
            <a:ext cx="21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ry to 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y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my 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7960" y="251460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list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h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rrounding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5909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save mo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pend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my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8920" y="4765680"/>
            <a:ext cx="13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495680"/>
            <a:ext cx="29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araoke I'll never 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I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sing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讓事情簡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16765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打開我的心去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7339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聽更多關於我身邊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886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花更多時間和我的朋友同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更多的旅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788840" cy="763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1382760" cy="153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1633680" cy="1753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343400" y="2590920"/>
            <a:ext cx="1752480" cy="1346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500480" cy="1778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648320" y="4419720"/>
            <a:ext cx="1604880" cy="1828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4200" y="3459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he sea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33760" y="49860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make my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cook tasty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70520" y="255600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jo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y friend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rm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61280" y="3013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t love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17520" y="4613400"/>
            <a:ext cx="25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be happ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get n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my friend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6800" y="5029200"/>
            <a:ext cx="178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achie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g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676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更多的時間在海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去做最好吃的食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溶入溫暖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多一點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高興獲得朋友的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一起達到共同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517680"/>
            <a:ext cx="2438280" cy="1145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1138320" cy="1698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146320" cy="140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724280" y="2362320"/>
            <a:ext cx="2133720" cy="1730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57200" y="4267080"/>
            <a:ext cx="1550880" cy="2291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5029200" y="4114800"/>
            <a:ext cx="2057400" cy="1574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43560" y="304920"/>
            <a:ext cx="22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can’t be s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I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orths tr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2860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ll, s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you want, but I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ice guy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680" y="2590920"/>
            <a:ext cx="25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co-ope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ea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nasty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94800" y="2479680"/>
            <a:ext cx="186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glass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8840" y="4572000"/>
            <a:ext cx="26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I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won’t stop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2760" y="563868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my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不能確定但這值得一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1600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說你想要什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是個好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4876920" cy="3943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4876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do not know whether it is good for everybody,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’m sure that at least I will have had a wonderful time… which by the way is what counts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N’T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133720"/>
            <a:ext cx="2210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不知道是不是對每個人都是好的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至少我將有美好的時光照我的方式來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認為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648160" cy="174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1400040" cy="27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1828800"/>
            <a:ext cx="220968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63280" y="66600"/>
            <a:ext cx="506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tart by being taught in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become good citiz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286000"/>
            <a:ext cx="42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pend a great part of 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ildhood study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5160" y="4572000"/>
            <a:ext cx="70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finally we get the diploma that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sure us “the position we deserv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066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在學校開始被教育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要成為一個好的國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276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花了很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童年的時光在學習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486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我們獲得了一張文憑來確保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663480"/>
            <a:ext cx="198108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338560" cy="196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4876920"/>
            <a:ext cx="2117520" cy="161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00800" y="345960"/>
            <a:ext cx="41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participate to the incre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3840" y="289548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il we find a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3880" y="4613400"/>
            <a:ext cx="412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ough hard tests w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pted in the world of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參與了一場場不被錄用面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505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找到了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通過了艱難的測試獲了一份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05596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855800" cy="227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1955520" cy="21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77120" y="5029200"/>
            <a:ext cx="2322360" cy="164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48520" y="345960"/>
            <a:ext cx="52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perform a good professional car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led with activity and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1400" y="2438280"/>
            <a:ext cx="32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t, a lot of effor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75080" y="407988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ll we fall down exhaust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we are great 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our valuable market sha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219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花了很多的精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讓我們在工作上有好的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很多很多的精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精疲力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28720" cy="2117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1504800" cy="136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620720" cy="1603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48320" y="2209680"/>
            <a:ext cx="1795320" cy="1401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80880" y="4724280"/>
            <a:ext cx="725760" cy="18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895480" y="43434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7848720" y="4191120"/>
            <a:ext cx="709560" cy="139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90360" y="34596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 keeps 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ng, an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8200" y="53352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e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w targ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10400" y="2666880"/>
            <a:ext cx="20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weet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our lif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6800" y="2514600"/>
            <a:ext cx="20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ever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648320"/>
            <a:ext cx="17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onate hug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800" y="4343400"/>
            <a:ext cx="21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here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aby into 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4280" y="5105520"/>
            <a:ext cx="31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mned ni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ldn’t close my ey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1371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當時間慢慢過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1447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改變新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遇見了生命中的另一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而且承諾這段永恆的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激情過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家中增加了新的成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791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多少夜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不能合上我的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198440" cy="2193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1987560" cy="177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1569960" cy="15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1654200" cy="1568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33520" y="4495680"/>
            <a:ext cx="1976400" cy="107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334120" y="4114800"/>
            <a:ext cx="2955960" cy="1685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43360" y="345960"/>
            <a:ext cx="31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keep on adv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0"/>
            <a:ext cx="285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ying to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es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9718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are the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ver we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51460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we are fi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368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3520" y="4800600"/>
            <a:ext cx="22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we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tim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riumph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144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繼續提升社會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1523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表現更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3809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無論到那都是受矚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變成有錢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357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是我們需要更多的時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6095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獲得完全的勝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128680" cy="177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1602000" cy="1957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858600" cy="1797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114800" y="2438280"/>
            <a:ext cx="2286000" cy="1346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311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648320" y="4038480"/>
            <a:ext cx="1628640" cy="181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69080" y="270000"/>
            <a:ext cx="32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sh! One day they 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can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out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3280" y="121932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this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think ge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az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61760" y="286056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troy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236232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feel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t mean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99120" y="4800600"/>
            <a:ext cx="32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realise you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t off from ever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7000" y="4267080"/>
            <a:ext cx="189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w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es not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lon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ill you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s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天啊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一天公司對你說不再需要你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380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在這時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快瘋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733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感到破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失去和他人溝通的意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5791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發現你被所有事擊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603576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時間不再長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而你失去了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752480" cy="1209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1523880" cy="154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685800" cy="177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038480" y="2362320"/>
            <a:ext cx="2362320" cy="1514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1538280" cy="185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00600" y="4800600"/>
            <a:ext cx="2055960" cy="157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70160" y="345960"/>
            <a:ext cx="25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rea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’ve been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f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3400" y="914400"/>
            <a:ext cx="18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searc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illy tar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1640" y="24382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w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13560" y="240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ying to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enem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10040" y="4343400"/>
            <a:ext cx="20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ar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nging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urs to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92640" y="4613400"/>
            <a:ext cx="187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ll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發現你生活在霧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752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追求可笑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像行屍走肉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3581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想要消滅所有的敵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渴望時間趕快過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579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你倒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195720" y="2057400"/>
            <a:ext cx="52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on this evaluation, a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me to my mi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how to improve m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038480"/>
            <a:ext cx="495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根據上述評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腦中出現新的點子來改善我的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2T10:52:34Z</dcterms:created>
  <dc:creator>Javier Peña</dc:creator>
  <dc:description/>
  <dc:language>en-US</dc:language>
  <cp:lastModifiedBy>Adigu</cp:lastModifiedBy>
  <cp:lastPrinted>2000-11-23T23:44:47Z</cp:lastPrinted>
  <dcterms:modified xsi:type="dcterms:W3CDTF">2001-02-25T19:35:51Z</dcterms:modified>
  <cp:revision>32</cp:revision>
  <dc:subject/>
  <dc:title>Sin título de diapositiva</dc:title>
</cp:coreProperties>
</file>