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.png" ContentType="image/png"/>
  <Override PartName="/ppt/media/image15.gif" ContentType="image/gif"/>
  <Override PartName="/ppt/media/image7.jpeg" ContentType="image/jpeg"/>
  <Override PartName="/ppt/media/image1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4.jpeg" ContentType="image/jpeg"/>
  <Override PartName="/ppt/media/image5.gif" ContentType="image/gif"/>
  <Override PartName="/ppt/media/image6.wmf" ContentType="image/x-wmf"/>
  <Override PartName="/ppt/media/image2.gif" ContentType="image/gif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E17A-AC3D-498D-A37E-E5C18436B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D89C-42D0-44BC-87DF-7C774CC5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4F9C-2782-4019-9ED6-55E8A71DE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8596-8102-483E-880E-4A247CA60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E005-D059-44CD-B9B6-079C6D39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0133-69BA-4E6F-ADE7-B049BB8D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302F-FFAF-4412-9B39-EDB0A6FF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58FB-F0E8-4DD9-BC0E-E33FB577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4688-2E94-4B73-A9FD-93BA4FDD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72B9-469F-459D-AE21-02D767D6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8AF1-0F13-40DA-9C2C-E028470C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7890-5A5E-405F-99E7-EEA80A66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D34A-CF5B-4399-B36A-4CF6014EFD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cean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4800600"/>
          </a:xfrm>
          <a:prstGeom prst="rect">
            <a:avLst/>
          </a:prstGeom>
          <a:ln w="0">
            <a:noFill/>
          </a:ln>
        </p:spPr>
      </p:pic>
      <p:pic>
        <p:nvPicPr>
          <p:cNvPr id="42" name="B_023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1589040" cy="1235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43480" y="325440"/>
            <a:ext cx="39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oper Black"/>
              </a:rPr>
              <a:t>Lesson 62      The 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33120" y="609588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March 16</a:t>
            </a:r>
            <a:r>
              <a:rPr b="1" lang="en-US" sz="1800" spc="-1" strike="noStrike" baseline="30000">
                <a:solidFill>
                  <a:srgbClr val="ff0066"/>
                </a:solidFill>
                <a:latin typeface="Times New Roman"/>
              </a:rPr>
              <a:t>th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,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907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762000" y="6095880"/>
            <a:ext cx="9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Times New Roman"/>
              </a:rPr>
              <a:t>浙江椒江一中   田逢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BJ_046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04200" y="152280"/>
            <a:ext cx="253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ue or 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8560" y="914400"/>
            <a:ext cx="791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1.The earth looks blue from the space because it is so fa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640" y="1523880"/>
            <a:ext cx="807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2.Only a few people have seen much of the earth’s solid surf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2133720"/>
            <a:ext cx="81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3.Altogether there are eleven minerals that make up the salt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of the oce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9280" y="2895480"/>
            <a:ext cx="816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4.Chemicals produced by seaweeds help keep the seawater cle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7120" y="3505320"/>
            <a:ext cx="822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5.The surface water of the Mediterranean in summer can reach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to 25°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7120" y="4343400"/>
            <a:ext cx="828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6.According to the passage,if the sea loses a lot of water to the ai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there Might be parts of salt per thousand of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9280" y="5257800"/>
            <a:ext cx="825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7.Carol beds can be seen everywhere in the sea all over the 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4960" y="5791320"/>
            <a:ext cx="79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8.Corals must live in clean water and dirty water will kill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6440" y="7570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6440" y="144792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6440" y="205740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3000" y="274320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3000" y="335268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6440" y="42670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06440" y="51814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9320" y="571500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7391520" y="647712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FJ013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458200" cy="57909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81960" y="457200"/>
            <a:ext cx="312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iscussio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98560" y="131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3352680"/>
            <a:ext cx="86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How can we protect our sea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nextslide"/>
          </p:cNvPr>
          <p:cNvSpPr/>
          <p:nvPr/>
        </p:nvSpPr>
        <p:spPr>
          <a:xfrm>
            <a:off x="5105520" y="647712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BJ_001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8001000" cy="5334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32440" y="228600"/>
            <a:ext cx="22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40680" y="2076480"/>
            <a:ext cx="7597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◇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ad the text again and try to rete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he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◇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inish off the exercises in the work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asd" descr=""/>
          <p:cNvPicPr/>
          <p:nvPr/>
        </p:nvPicPr>
        <p:blipFill>
          <a:blip r:embed="rId2"/>
          <a:stretch/>
        </p:blipFill>
        <p:spPr>
          <a:xfrm>
            <a:off x="2362320" y="1981080"/>
            <a:ext cx="4572000" cy="2743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_002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532640" cy="5105160"/>
          </a:xfrm>
          <a:prstGeom prst="rect">
            <a:avLst/>
          </a:prstGeom>
          <a:ln w="0">
            <a:noFill/>
          </a:ln>
        </p:spPr>
      </p:pic>
      <p:pic>
        <p:nvPicPr>
          <p:cNvPr id="48" name="B_018" descr=""/>
          <p:cNvPicPr/>
          <p:nvPr/>
        </p:nvPicPr>
        <p:blipFill>
          <a:blip r:embed="rId2"/>
          <a:stretch/>
        </p:blipFill>
        <p:spPr>
          <a:xfrm>
            <a:off x="762120" y="5029200"/>
            <a:ext cx="7543800" cy="92232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1035000" y="1066680"/>
            <a:ext cx="26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◆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Pre-rea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4" action="ppaction://hlinksldjump"/>
          </p:cNvPr>
          <p:cNvSpPr/>
          <p:nvPr/>
        </p:nvSpPr>
        <p:spPr>
          <a:xfrm>
            <a:off x="1041120" y="1752480"/>
            <a:ext cx="28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◆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Fast-rea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5" action="ppaction://hlinksldjump"/>
          </p:cNvPr>
          <p:cNvSpPr/>
          <p:nvPr/>
        </p:nvSpPr>
        <p:spPr>
          <a:xfrm>
            <a:off x="1041840" y="2438280"/>
            <a:ext cx="343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◆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areful-rea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6" action="ppaction://hlinksldjump"/>
          </p:cNvPr>
          <p:cNvSpPr/>
          <p:nvPr/>
        </p:nvSpPr>
        <p:spPr>
          <a:xfrm>
            <a:off x="1068120" y="3124080"/>
            <a:ext cx="390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◆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Language pract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33560" y="4343400"/>
            <a:ext cx="262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◆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ome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7" action="ppaction://hlinksldjump"/>
          </p:cNvPr>
          <p:cNvSpPr/>
          <p:nvPr/>
        </p:nvSpPr>
        <p:spPr>
          <a:xfrm>
            <a:off x="1035000" y="3733920"/>
            <a:ext cx="31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◆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onsolid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GLOBE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7086600" cy="5214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rot="3071400">
            <a:off x="1084320" y="4323240"/>
            <a:ext cx="25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 Pacific Oc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7240" y="99072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 Arctic Oc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 rot="3200400">
            <a:off x="2935440" y="3312720"/>
            <a:ext cx="2400480" cy="34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-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ff"/>
                </a:solidFill>
                <a:latin typeface="Arial Black"/>
              </a:rPr>
              <a:t>The Atlantic Ocean</a:t>
            </a:r>
            <a:endParaRPr b="0" lang="en-US" sz="2000" spc="1" strike="noStrike">
              <a:ln w="0">
                <a:noFill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 rot="3411600">
            <a:off x="5750280" y="3621960"/>
            <a:ext cx="1600200" cy="757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81204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ff"/>
                </a:solidFill>
                <a:latin typeface="Arial Black"/>
              </a:rPr>
              <a:t>The Indian Ocean</a:t>
            </a:r>
            <a:endParaRPr b="0" lang="en-US" sz="2000" spc="1" strike="noStrike">
              <a:ln w="0">
                <a:noFill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6097320" y="17524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s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440" y="16765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North 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00960" y="28954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3080" y="17524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09320" y="35812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South 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2680" y="54100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ntarc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6520" y="282600"/>
            <a:ext cx="36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alk about the 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162920" y="38098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Oce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5105520" y="624852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3581280" y="62485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BJ_012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467480" cy="4978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90720" y="2514600"/>
            <a:ext cx="71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.How does sea water stay cle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84600" y="3809880"/>
            <a:ext cx="681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3.Where is the longest coral bed in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wor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81720" y="1600200"/>
            <a:ext cx="713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.How salty is the water in the ocean?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3.5%    11%     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84240" y="5181480"/>
            <a:ext cx="732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4.Where is  the saltiest lake in the wor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1040" y="380880"/>
            <a:ext cx="86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isten to the tape and then answer the ques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273800">
            <a:off x="2254320" y="1742760"/>
            <a:ext cx="59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7800" y="2971800"/>
            <a:ext cx="582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Seaweeds produce various chemic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that keep the sea cle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97080" y="4724280"/>
            <a:ext cx="646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It lies off the northeast coast of Austral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98520" y="571500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The Grand Salt L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nextslide"/>
          </p:cNvPr>
          <p:cNvSpPr/>
          <p:nvPr/>
        </p:nvSpPr>
        <p:spPr>
          <a:xfrm>
            <a:off x="4876920" y="6324480"/>
            <a:ext cx="761760" cy="38124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39" h="21600">
                <a:moveTo>
                  <a:pt x="0" y="0"/>
                </a:moveTo>
                <a:lnTo>
                  <a:pt x="43139" y="0"/>
                </a:lnTo>
                <a:lnTo>
                  <a:pt x="43139" y="21600"/>
                </a:lnTo>
                <a:lnTo>
                  <a:pt x="0" y="21600"/>
                </a:lnTo>
                <a:close/>
              </a:path>
              <a:path fill="lightenLess" w="43139" h="21600">
                <a:moveTo>
                  <a:pt x="0" y="0"/>
                </a:moveTo>
                <a:lnTo>
                  <a:pt x="43139" y="0"/>
                </a:lnTo>
                <a:lnTo>
                  <a:pt x="41739" y="1400"/>
                </a:lnTo>
                <a:lnTo>
                  <a:pt x="1400" y="1400"/>
                </a:lnTo>
                <a:close/>
              </a:path>
              <a:path fill="darken" w="43139" h="21600">
                <a:moveTo>
                  <a:pt x="43139" y="0"/>
                </a:moveTo>
                <a:lnTo>
                  <a:pt x="43139" y="21600"/>
                </a:lnTo>
                <a:lnTo>
                  <a:pt x="41739" y="20200"/>
                </a:lnTo>
                <a:lnTo>
                  <a:pt x="41739" y="1400"/>
                </a:lnTo>
                <a:close/>
              </a:path>
              <a:path fill="darkenLess" w="43139" h="21600">
                <a:moveTo>
                  <a:pt x="43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39" y="20200"/>
                </a:lnTo>
                <a:close/>
              </a:path>
              <a:path fill="lighten" w="43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39" h="21600">
                <a:moveTo>
                  <a:pt x="14563" y="3794"/>
                </a:moveTo>
                <a:lnTo>
                  <a:pt x="28576" y="10800"/>
                </a:lnTo>
                <a:lnTo>
                  <a:pt x="1456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3581280" y="6324480"/>
            <a:ext cx="762120" cy="38124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59" h="21600">
                <a:moveTo>
                  <a:pt x="0" y="0"/>
                </a:moveTo>
                <a:lnTo>
                  <a:pt x="43159" y="0"/>
                </a:lnTo>
                <a:lnTo>
                  <a:pt x="43159" y="21600"/>
                </a:lnTo>
                <a:lnTo>
                  <a:pt x="0" y="21600"/>
                </a:lnTo>
                <a:close/>
              </a:path>
              <a:path fill="lightenLess" w="43159" h="21600">
                <a:moveTo>
                  <a:pt x="0" y="0"/>
                </a:moveTo>
                <a:lnTo>
                  <a:pt x="43159" y="0"/>
                </a:lnTo>
                <a:lnTo>
                  <a:pt x="41759" y="1400"/>
                </a:lnTo>
                <a:lnTo>
                  <a:pt x="1400" y="1400"/>
                </a:lnTo>
                <a:close/>
              </a:path>
              <a:path fill="darken" w="43159" h="21600">
                <a:moveTo>
                  <a:pt x="43159" y="0"/>
                </a:moveTo>
                <a:lnTo>
                  <a:pt x="43159" y="21600"/>
                </a:lnTo>
                <a:lnTo>
                  <a:pt x="41759" y="20200"/>
                </a:lnTo>
                <a:lnTo>
                  <a:pt x="41759" y="1400"/>
                </a:lnTo>
                <a:close/>
              </a:path>
              <a:path fill="darkenLess" w="43159" h="21600">
                <a:moveTo>
                  <a:pt x="43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9" y="20200"/>
                </a:lnTo>
                <a:close/>
              </a:path>
              <a:path fill="lighten" w="43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9" h="21600">
                <a:moveTo>
                  <a:pt x="14573" y="10800"/>
                </a:moveTo>
                <a:lnTo>
                  <a:pt x="28586" y="3794"/>
                </a:lnTo>
                <a:lnTo>
                  <a:pt x="2858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BJ_048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848720" cy="4876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54920" y="1600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How salty are different lakes and se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46280" y="2610000"/>
            <a:ext cx="4511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1b6f"/>
                </a:solidFill>
                <a:latin typeface="Times New Roman"/>
              </a:rPr>
              <a:t>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cean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editerranea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ead Se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Great Salt Lak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29200" y="238608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1b6f"/>
                </a:solidFill>
                <a:latin typeface="Times New Roman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680" y="3200400"/>
            <a:ext cx="10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3.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90240" y="388620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3.7—3.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68000" y="4495680"/>
            <a:ext cx="9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68000" y="5105520"/>
            <a:ext cx="9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27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3840" y="533520"/>
            <a:ext cx="793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ad the text carefully and make some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7543800" y="6324480"/>
            <a:ext cx="762120" cy="38124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59" h="21600">
                <a:moveTo>
                  <a:pt x="0" y="0"/>
                </a:moveTo>
                <a:lnTo>
                  <a:pt x="43159" y="0"/>
                </a:lnTo>
                <a:lnTo>
                  <a:pt x="43159" y="21600"/>
                </a:lnTo>
                <a:lnTo>
                  <a:pt x="0" y="21600"/>
                </a:lnTo>
                <a:close/>
              </a:path>
              <a:path fill="lightenLess" w="43159" h="21600">
                <a:moveTo>
                  <a:pt x="0" y="0"/>
                </a:moveTo>
                <a:lnTo>
                  <a:pt x="43159" y="0"/>
                </a:lnTo>
                <a:lnTo>
                  <a:pt x="41759" y="1400"/>
                </a:lnTo>
                <a:lnTo>
                  <a:pt x="1400" y="1400"/>
                </a:lnTo>
                <a:close/>
              </a:path>
              <a:path fill="darken" w="43159" h="21600">
                <a:moveTo>
                  <a:pt x="43159" y="0"/>
                </a:moveTo>
                <a:lnTo>
                  <a:pt x="43159" y="21600"/>
                </a:lnTo>
                <a:lnTo>
                  <a:pt x="41759" y="20200"/>
                </a:lnTo>
                <a:lnTo>
                  <a:pt x="41759" y="1400"/>
                </a:lnTo>
                <a:close/>
              </a:path>
              <a:path fill="darkenLess" w="43159" h="21600">
                <a:moveTo>
                  <a:pt x="43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9" y="20200"/>
                </a:lnTo>
                <a:close/>
              </a:path>
              <a:path fill="lighten" w="43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9" h="21600">
                <a:moveTo>
                  <a:pt x="14573" y="3794"/>
                </a:moveTo>
                <a:lnTo>
                  <a:pt x="28586" y="10800"/>
                </a:lnTo>
                <a:lnTo>
                  <a:pt x="1457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bas206_01b_pic" descr=""/>
          <p:cNvPicPr/>
          <p:nvPr/>
        </p:nvPicPr>
        <p:blipFill>
          <a:blip r:embed="rId1"/>
          <a:stretch/>
        </p:blipFill>
        <p:spPr>
          <a:xfrm>
            <a:off x="4343400" y="2133720"/>
            <a:ext cx="4343400" cy="4038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03400" y="2016000"/>
            <a:ext cx="39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ngth: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2680" y="3311640"/>
            <a:ext cx="40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idth: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4440" y="4530600"/>
            <a:ext cx="39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emperature: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1480" y="5673600"/>
            <a:ext cx="38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alt: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320" y="533520"/>
            <a:ext cx="793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ad the text carefully and make some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46440" y="194004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3,700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22760" y="323532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1,800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14360" y="4495680"/>
            <a:ext cx="15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25℃-29 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32400" y="567360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37-39 parts per thous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560" y="1295280"/>
            <a:ext cx="45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omething about Mediterrane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7162920" y="6324480"/>
            <a:ext cx="761760" cy="38124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39" h="21600">
                <a:moveTo>
                  <a:pt x="0" y="0"/>
                </a:moveTo>
                <a:lnTo>
                  <a:pt x="43139" y="0"/>
                </a:lnTo>
                <a:lnTo>
                  <a:pt x="43139" y="21600"/>
                </a:lnTo>
                <a:lnTo>
                  <a:pt x="0" y="21600"/>
                </a:lnTo>
                <a:close/>
              </a:path>
              <a:path fill="lightenLess" w="43139" h="21600">
                <a:moveTo>
                  <a:pt x="0" y="0"/>
                </a:moveTo>
                <a:lnTo>
                  <a:pt x="43139" y="0"/>
                </a:lnTo>
                <a:lnTo>
                  <a:pt x="41739" y="1400"/>
                </a:lnTo>
                <a:lnTo>
                  <a:pt x="1400" y="1400"/>
                </a:lnTo>
                <a:close/>
              </a:path>
              <a:path fill="darken" w="43139" h="21600">
                <a:moveTo>
                  <a:pt x="43139" y="0"/>
                </a:moveTo>
                <a:lnTo>
                  <a:pt x="43139" y="21600"/>
                </a:lnTo>
                <a:lnTo>
                  <a:pt x="41739" y="20200"/>
                </a:lnTo>
                <a:lnTo>
                  <a:pt x="41739" y="1400"/>
                </a:lnTo>
                <a:close/>
              </a:path>
              <a:path fill="darkenLess" w="43139" h="21600">
                <a:moveTo>
                  <a:pt x="43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39" y="20200"/>
                </a:lnTo>
                <a:close/>
              </a:path>
              <a:path fill="lighten" w="43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39" h="21600">
                <a:moveTo>
                  <a:pt x="14563" y="3794"/>
                </a:moveTo>
                <a:lnTo>
                  <a:pt x="28576" y="10800"/>
                </a:lnTo>
                <a:lnTo>
                  <a:pt x="1456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sh0026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962520" cy="3962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869080" y="4724280"/>
            <a:ext cx="219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coral b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3720" y="1371600"/>
            <a:ext cx="33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ditions for cor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000" y="533520"/>
            <a:ext cx="793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ad the text carefully and make some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0040" y="2209680"/>
            <a:ext cx="43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.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920" y="3241800"/>
            <a:ext cx="438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.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4200" y="4156200"/>
            <a:ext cx="43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.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0760" y="5181480"/>
            <a:ext cx="438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.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280" y="2209680"/>
            <a:ext cx="415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water temperature above 20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3640" y="324180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plenty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419112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lear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3640" y="5146560"/>
            <a:ext cx="38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depth of less than 60 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6781680" y="60199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4000" y="533520"/>
            <a:ext cx="793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ad the text carefully and make some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7160" y="1523880"/>
            <a:ext cx="801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y did the Dead Sea become the saltiest lake in the wor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8640" y="2438280"/>
            <a:ext cx="48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.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9000" y="3733920"/>
            <a:ext cx="42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.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8280" y="4952880"/>
            <a:ext cx="42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.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israel99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2590920" cy="3429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723080" y="3452760"/>
            <a:ext cx="405000" cy="1014480"/>
          </a:xfrm>
          <a:custGeom>
            <a:avLst/>
            <a:gdLst/>
            <a:ahLst/>
            <a:rect l="l" t="t" r="r" b="b"/>
            <a:pathLst>
              <a:path w="255" h="639">
                <a:moveTo>
                  <a:pt x="214" y="50"/>
                </a:moveTo>
                <a:cubicBezTo>
                  <a:pt x="166" y="83"/>
                  <a:pt x="167" y="143"/>
                  <a:pt x="136" y="190"/>
                </a:cubicBezTo>
                <a:cubicBezTo>
                  <a:pt x="128" y="244"/>
                  <a:pt x="124" y="315"/>
                  <a:pt x="83" y="356"/>
                </a:cubicBezTo>
                <a:cubicBezTo>
                  <a:pt x="69" y="416"/>
                  <a:pt x="80" y="380"/>
                  <a:pt x="40" y="461"/>
                </a:cubicBezTo>
                <a:cubicBezTo>
                  <a:pt x="24" y="493"/>
                  <a:pt x="14" y="539"/>
                  <a:pt x="5" y="574"/>
                </a:cubicBezTo>
                <a:cubicBezTo>
                  <a:pt x="8" y="589"/>
                  <a:pt x="0" y="612"/>
                  <a:pt x="14" y="618"/>
                </a:cubicBezTo>
                <a:cubicBezTo>
                  <a:pt x="67" y="639"/>
                  <a:pt x="83" y="617"/>
                  <a:pt x="110" y="592"/>
                </a:cubicBezTo>
                <a:cubicBezTo>
                  <a:pt x="148" y="513"/>
                  <a:pt x="106" y="610"/>
                  <a:pt x="136" y="469"/>
                </a:cubicBezTo>
                <a:cubicBezTo>
                  <a:pt x="143" y="436"/>
                  <a:pt x="188" y="382"/>
                  <a:pt x="188" y="382"/>
                </a:cubicBezTo>
                <a:cubicBezTo>
                  <a:pt x="191" y="370"/>
                  <a:pt x="193" y="358"/>
                  <a:pt x="197" y="347"/>
                </a:cubicBezTo>
                <a:cubicBezTo>
                  <a:pt x="202" y="335"/>
                  <a:pt x="210" y="324"/>
                  <a:pt x="214" y="312"/>
                </a:cubicBezTo>
                <a:cubicBezTo>
                  <a:pt x="229" y="266"/>
                  <a:pt x="233" y="218"/>
                  <a:pt x="249" y="173"/>
                </a:cubicBezTo>
                <a:cubicBezTo>
                  <a:pt x="246" y="123"/>
                  <a:pt x="255" y="72"/>
                  <a:pt x="240" y="24"/>
                </a:cubicBezTo>
                <a:cubicBezTo>
                  <a:pt x="233" y="0"/>
                  <a:pt x="157" y="80"/>
                  <a:pt x="214" y="5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7720" y="2362320"/>
            <a:ext cx="480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minerals from thousands of na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springs and the River Jord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2240" y="3733920"/>
            <a:ext cx="21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little rain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5920" y="4876920"/>
            <a:ext cx="43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no river flowing out of the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53080" y="408780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The Dead 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5105520" y="624852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62485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74400" y="152280"/>
            <a:ext cx="85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ll in the blanks with proper words or phra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685800"/>
            <a:ext cx="8763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_____from space,the earth looks blue.This is becau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____ _____of the earth’s surface is_____ __ ___v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ceans.The oceans of the world are_____.The Dead Sea,where there is merely 60mm rain in a year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________,is the most famous salt lake in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water of the Dead Sea_______about 250 parts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alt to every thousand parts of water,or25%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eight.The saltiest lake in the World is the______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_____.Hot parts of the world where the sea is not deep have______ ______.The largest coral bed _____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northeast coast of Austral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9760" y="7365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S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5880" y="119376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Two thi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40480" y="114300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made  up 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42800" y="1574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s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5960" y="19810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880" y="24382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7120" y="281952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ont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241040" y="32767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86240" y="365760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Great  S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5320" y="41148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L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2320" y="457200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oral   b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62560" y="457200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lies 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5334120"/>
            <a:ext cx="8229600" cy="1523880"/>
          </a:xfrm>
          <a:prstGeom prst="horizontalScroll">
            <a:avLst>
              <a:gd name="adj" fmla="val 93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en from the plane,(=When it is seen from the plane,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.Folded up along the lines, the paper will be a little bo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When/If it is folded up along the lines,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5334120"/>
            <a:ext cx="8305920" cy="167616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up /be made up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three stories make up the whole bo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ook is made up of these three sto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5181480"/>
            <a:ext cx="8305920" cy="190512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workers are pai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ar is sol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pound, eggs by the do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d cloth by the y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77120" y="647712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777240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4T15:02:01Z</dcterms:created>
  <dc:creator>Terence</dc:creator>
  <dc:description/>
  <dc:language>en-US</dc:language>
  <cp:lastModifiedBy>Terence</cp:lastModifiedBy>
  <dcterms:modified xsi:type="dcterms:W3CDTF">1999-12-16T17:06:39Z</dcterms:modified>
  <cp:revision>16</cp:revision>
  <dc:subject/>
  <dc:title>PowerPoint 演示文稿</dc:title>
</cp:coreProperties>
</file>