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4F7-B3FD-4EF7-97C5-6D83619F3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422-AF1A-48E1-B5EF-9DEFEBD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E6E-FFE8-4D31-93BF-B65BA74D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7AD4-87BA-42F3-8D64-6537BE1BE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A0A1-31BA-4A8A-A75C-45FA227B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6F0-FA8C-41E3-BD89-897DE1E1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3A8-CA00-48B7-A11B-F3F5DA72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75EB-8359-4E2E-8E70-5E0BCA7E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655-6AE5-450B-80B1-99681DB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C27-4B4C-4BA9-96F2-9488A56C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45E-D6E0-4F51-B8C3-129D2BDC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5FA-71FE-4916-B797-75B84BAD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C6BF-291C-41E2-BEA3-88A64EF20520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013" TargetMode="External"/><Relationship Id="rId2" Type="http://schemas.openxmlformats.org/officeDocument/2006/relationships/hyperlink" Target="http://images.webshots.com/scripts/PhotoDownload.fcgi?targetmode=&amp;photos=19013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ebshots.com/g/66/495-sh/2237.html" TargetMode="External"/><Relationship Id="rId2" Type="http://schemas.openxmlformats.org/officeDocument/2006/relationships/hyperlink" Target="http://www.webshots.com/g/66/495-sh/2237.html" TargetMode="External"/><Relationship Id="rId3" Type="http://schemas.openxmlformats.org/officeDocument/2006/relationships/hyperlink" Target="http://images.webshots.com/scripts/PhotoDownload.fcgi?targetmode=&amp;photos=2237" TargetMode="External"/><Relationship Id="rId4" Type="http://schemas.openxmlformats.org/officeDocument/2006/relationships/hyperlink" Target="http://images.webshots.com/scripts/PhotoDownload.fcgi?targetmode=&amp;photos=2237" TargetMode="External"/><Relationship Id="rId5" Type="http://schemas.openxmlformats.org/officeDocument/2006/relationships/hyperlink" Target="http://images.webshots.com/scripts/PhotoDownload.fcgi?targetmode=&amp;photos=2237" TargetMode="External"/><Relationship Id="rId6" Type="http://schemas.openxmlformats.org/officeDocument/2006/relationships/hyperlink" Target="http://images.webshots.com/scripts/PhotoDownload.fcgi?targetmode=&amp;photos=2237" TargetMode="External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19360" TargetMode="External"/><Relationship Id="rId2" Type="http://schemas.openxmlformats.org/officeDocument/2006/relationships/hyperlink" Target="http://images.webshots.com/scripts/PhotoDownload.fcgi?targetmode=&amp;photos=19360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502" TargetMode="External"/><Relationship Id="rId2" Type="http://schemas.openxmlformats.org/officeDocument/2006/relationships/hyperlink" Target="http://images.webshots.com/scripts/PhotoDownload.fcgi?targetmode=&amp;photos=502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21101" TargetMode="External"/><Relationship Id="rId2" Type="http://schemas.openxmlformats.org/officeDocument/2006/relationships/hyperlink" Target="http://images.webshots.com/scripts/PhotoDownload.fcgi?targetmode=&amp;photos=2110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6376" TargetMode="External"/><Relationship Id="rId2" Type="http://schemas.openxmlformats.org/officeDocument/2006/relationships/hyperlink" Target="http://images.webshots.com/scripts/PhotoDownload.fcgi?targetmode=&amp;photos=6376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webshots.com/scripts/PhotoDownload.fcgi?targetmode=&amp;photos=9024" TargetMode="External"/><Relationship Id="rId2" Type="http://schemas.openxmlformats.org/officeDocument/2006/relationships/hyperlink" Target="http://images.webshots.com/scripts/PhotoDownload.fcgi?targetmode=&amp;photos=11001" TargetMode="External"/><Relationship Id="rId3" Type="http://schemas.openxmlformats.org/officeDocument/2006/relationships/hyperlink" Target="http://images.webshots.com/scripts/PhotoDownload.fcgi?targetmode=&amp;photos=11001" TargetMode="External"/><Relationship Id="rId4" Type="http://schemas.openxmlformats.org/officeDocument/2006/relationships/hyperlink" Target="http://images.webshots.com/scripts/PhotoDownload.fcgi?targetmode=&amp;photos=11001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000" spc="-1" strike="noStrike">
                <a:solidFill>
                  <a:srgbClr val="666633"/>
                </a:solidFill>
                <a:latin typeface="Monotype Corsiva"/>
              </a:rPr>
              <a:t>10 ROSES FOR YO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beau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9024_wallpaper280" descr="&quot;Frosted English Rose&quot; © The Image Ban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081160"/>
            <a:ext cx="5333760" cy="4000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ami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0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6" name="19824_wallpaper280" descr="&quot;Sensuous Beauties&quot; © SuperStock, Inc."/>
          <p:cNvPicPr/>
          <p:nvPr/>
        </p:nvPicPr>
        <p:blipFill>
          <a:blip r:embed="rId1"/>
          <a:stretch/>
        </p:blipFill>
        <p:spPr>
          <a:xfrm>
            <a:off x="2590920" y="225252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ones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2" name="5469_wallpaper280" descr="&quot;English Roses&quot; © The Image Bank"/>
          <p:cNvPicPr/>
          <p:nvPr/>
        </p:nvPicPr>
        <p:blipFill>
          <a:blip r:embed="rId1"/>
          <a:stretch/>
        </p:blipFill>
        <p:spPr>
          <a:xfrm>
            <a:off x="2514600" y="225252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nd the last one for a long and healthy lif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1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19013_wallpaper280" descr="&quot;Gentle Blossom&quot; © Byron W. Moore /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096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e original message says tha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You should not keep this message to yourself alon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648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end it on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If you send it to 2 persons,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wish will be granted within the year</a:t>
            </a:r>
            <a:r>
              <a:rPr b="0" i="1" lang="fr-CA" sz="4400" spc="-1" strike="noStrike">
                <a:solidFill>
                  <a:srgbClr val="808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Send it to 5 persons …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 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And your wishes will come true 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within 3 month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To 15 and more …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your dream will come true ...</a:t>
            </a:r>
            <a:br>
              <a:rPr sz="4400"/>
            </a:b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  <a:ea typeface="Times New Roman"/>
              </a:rPr>
              <a:t>… tomorrow alrea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Now I am not superstitious at all,</a:t>
            </a:r>
            <a:br>
              <a:rPr sz="4400"/>
            </a:b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but I do believ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If you receive this 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600" spc="-1" strike="noStrike">
                <a:solidFill>
                  <a:srgbClr val="808000"/>
                </a:solidFill>
                <a:latin typeface="Monotype Corsiva"/>
              </a:rPr>
              <a:t>It’s because you’re  a special per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That it alway feels nice to be send flowers</a:t>
            </a:r>
            <a:br>
              <a:rPr sz="4400"/>
            </a:br>
            <a:r>
              <a:rPr b="1" i="1" lang="fr-CA" sz="4400" spc="-1" strike="noStrike">
                <a:solidFill>
                  <a:srgbClr val="808000"/>
                </a:solidFill>
                <a:latin typeface="Monotype Corsiva"/>
              </a:rPr>
              <a:t>s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Monotype Corsiva"/>
              </a:rPr>
              <a:t>Send these flowers to all persons you care about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000000"/>
                </a:solidFill>
                <a:latin typeface="CommercialScript BT"/>
              </a:rPr>
              <a:t>Thanks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14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9" name="11456_wallpaper280" descr="&quot;Rose Bridal Bouquet&quot; © SuperStock, Inc."/>
          <p:cNvPicPr/>
          <p:nvPr/>
        </p:nvPicPr>
        <p:blipFill>
          <a:blip r:embed="rId1"/>
          <a:stretch/>
        </p:blipFill>
        <p:spPr>
          <a:xfrm>
            <a:off x="1295280" y="17524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4400" spc="-1" strike="noStrike">
                <a:solidFill>
                  <a:srgbClr val="808000"/>
                </a:solidFill>
                <a:latin typeface="Book Antiqua"/>
              </a:rPr>
              <a:t>I send you 10 wishes for</a:t>
            </a:r>
            <a:br>
              <a:rPr sz="4400"/>
            </a:br>
            <a:r>
              <a:rPr b="0" i="1" lang="fr-CA" sz="9600" spc="-1" strike="noStrike">
                <a:solidFill>
                  <a:srgbClr val="808000"/>
                </a:solidFill>
                <a:latin typeface="Lucida Handwriting"/>
              </a:rPr>
              <a:t>20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rose for frien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362320" y="2895480"/>
            <a:ext cx="4342680" cy="2133000"/>
            <a:chOff x="2362320" y="2895480"/>
            <a:chExt cx="4342680" cy="2133000"/>
          </a:xfrm>
        </p:grpSpPr>
        <p:sp>
          <p:nvSpPr>
            <p:cNvPr id="54" name=""/>
            <p:cNvSpPr/>
            <p:nvPr/>
          </p:nvSpPr>
          <p:spPr>
            <a:xfrm>
              <a:off x="2362320" y="28954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62320" y="2895480"/>
              <a:ext cx="4342680" cy="21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276720" y="2932200"/>
            <a:ext cx="2128320" cy="1791720"/>
            <a:chOff x="3276720" y="2932200"/>
            <a:chExt cx="2128320" cy="1791720"/>
          </a:xfrm>
        </p:grpSpPr>
        <p:sp>
          <p:nvSpPr>
            <p:cNvPr id="58" name=""/>
            <p:cNvSpPr/>
            <p:nvPr/>
          </p:nvSpPr>
          <p:spPr>
            <a:xfrm>
              <a:off x="3276720" y="2932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276720" y="2932200"/>
              <a:ext cx="2128320" cy="17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fr-CA" sz="5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2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5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" name="2237_wallpaper280" descr="&quot;Rose Dew, Coos County, Oregon&quot; © Wood Sabold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666880" y="270504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A second one for lo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68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19360_wallpaper280" descr="&quot;Prime of Life&quot; © Roma St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73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5" name="502_wallpaper280" descr="&quot;Rosebud&quot; © Rob Perr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66880" y="25527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financial weal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happ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0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2" name="21101_wallpaper280" descr="&quot;Hope Blooms&quot; © SuperStock, Inc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225252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suc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8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" name="6376_wallpaper280" descr="&quot;Birthday Roses&quot; © The Image Ba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057400" y="225252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Monotype Corsiva"/>
              </a:rPr>
              <a:t>One for knowl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371600" y="2206800"/>
            <a:ext cx="6933960" cy="3355560"/>
            <a:chOff x="1371600" y="2206800"/>
            <a:chExt cx="6933960" cy="3355560"/>
          </a:xfrm>
        </p:grpSpPr>
        <p:sp>
          <p:nvSpPr>
            <p:cNvPr id="92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71600" y="2206800"/>
              <a:ext cx="6933960" cy="335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3"/>
                </a:rPr>
                <a:t> 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206800"/>
            <a:ext cx="6400800" cy="2393640"/>
            <a:chOff x="1371600" y="2206800"/>
            <a:chExt cx="6400800" cy="2393640"/>
          </a:xfrm>
        </p:grpSpPr>
        <p:sp>
          <p:nvSpPr>
            <p:cNvPr id="96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71600" y="2206800"/>
              <a:ext cx="6400800" cy="239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fr-CA" sz="1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fr-CA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11001_wallpaper280" descr="&quot;True Love Forever&quot; © SuperStock, Inc."/>
          <p:cNvPicPr/>
          <p:nvPr/>
        </p:nvPicPr>
        <p:blipFill>
          <a:blip r:embed="rId5"/>
          <a:stretch/>
        </p:blipFill>
        <p:spPr>
          <a:xfrm>
            <a:off x="2286000" y="225252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20:31Z</dcterms:created>
  <dc:creator>Sylvie Simoneau</dc:creator>
  <dc:description/>
  <dc:language>en-US</dc:language>
  <cp:lastModifiedBy>Nike</cp:lastModifiedBy>
  <dcterms:modified xsi:type="dcterms:W3CDTF">2002-01-10T14:53:45Z</dcterms:modified>
  <cp:revision>38</cp:revision>
  <dc:subject/>
  <dc:title>Mots d’enfants</dc:title>
</cp:coreProperties>
</file>