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B43F-8656-4DF5-82F3-CE894A39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0F79-EC15-47F9-80A0-7B5FB398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2EA3-1CED-4ABE-8740-5A585EFD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0B8-58AE-4A7C-8D38-E29AF4F3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1113-2B33-4220-8B9F-C88F5A33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BB65-7279-4547-B577-D39D0CA9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00F6-3B64-44DF-B93E-9C731409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D868-548C-4503-96BE-A1CDE2F4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CA28-6F35-4E20-8C94-D06BFC50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49C7-4EC5-4471-B02C-C2A3A836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80D7-E98C-4BFE-8472-5673D9C0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A7ED-FB83-4EC3-9450-B3535239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C308-2F71-4D4F-A4C9-646741D5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7D74-3DF3-4201-B4F1-514B9897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B6ED-10DC-4803-BD0F-E56B0E17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F63C-377E-4ADA-8AB5-897ABE1D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6B23-DA7D-416E-965A-2EFB897A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21D3-F840-496E-8BAE-8EDE635A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EFDF-6F3A-43F4-9985-58E3840C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B360-4930-4D24-B73E-A1AC265C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CC3C-80C9-4DDD-A273-D11FC737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C597-58B8-4A52-BFD1-27E32D9C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7176-E7DC-403F-85FE-D2FC43F5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3950-A39A-42C8-BF52-A0E89ABA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CA24-603C-4AA8-9D9C-F497BFA9F6EF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E050-C71F-4071-9875-E8F6146AD424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09680" y="2286000"/>
            <a:ext cx="5791320" cy="1556280"/>
          </a:xfrm>
          <a:prstGeom prst="rect">
            <a:avLst/>
          </a:prstGeom>
          <a:noFill/>
          <a:ln cap="sq"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介词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+ which\whom\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在定语从句中的用法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96720" y="1676520"/>
            <a:ext cx="6988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2.In the dark street,ther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asn't a single person___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I could turn for help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whom            B.that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to whom        D.by whom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76360" y="5373720"/>
            <a:ext cx="280836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95280" y="1676520"/>
            <a:ext cx="7486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3.I'll never forget the days___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we spent togethe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on which        B.in which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that                 D.wh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648320"/>
            <a:ext cx="129528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33680" y="4992840"/>
            <a:ext cx="3838320" cy="703440"/>
          </a:xfrm>
          <a:prstGeom prst="rect">
            <a:avLst/>
          </a:prstGeom>
          <a:noFill/>
          <a:ln cap="sq" w="3816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定语从句中缺少什么成分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95280" y="1676520"/>
            <a:ext cx="705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4.I'll remember the days __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we worked togethe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en              B.in which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on which        D.\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3886200"/>
            <a:ext cx="198108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8960" y="1295280"/>
            <a:ext cx="7666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5.There are several buildings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in our school,the highest on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__ was built last yea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of which          B.of  them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\                 D.among them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4267080"/>
            <a:ext cx="274320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91120" y="5410080"/>
            <a:ext cx="2466360" cy="764280"/>
          </a:xfrm>
          <a:prstGeom prst="rect">
            <a:avLst/>
          </a:prstGeom>
          <a:noFill/>
          <a:ln cap="sq" w="3816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确定句子类型</a:t>
            </a: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94920" y="1447920"/>
            <a:ext cx="7345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6.They gave us some Englis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books, ___ were difficult to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understand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a few of them        B.they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a few of which      D.tha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5181480"/>
            <a:ext cx="403848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9360" y="1219320"/>
            <a:ext cx="7444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7.This dictionary,the first few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pages___ are missing,is of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no us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A.of which       B.for which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.to that           D.to whic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191120"/>
            <a:ext cx="251460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0640" y="1523880"/>
            <a:ext cx="678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e old Olympic Games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rom which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the modern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games came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began around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e year 776BC in Greec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1676520"/>
            <a:ext cx="7259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Some of the games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 which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the young men competed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ere: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running,jumping an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restling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28800" y="1905120"/>
            <a:ext cx="619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e country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 which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the first Olympic Game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were held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is Greec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71240" y="1676520"/>
            <a:ext cx="6548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In Barcelona the Chines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eam got 16 gold medals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f which </a:t>
            </a: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12 were won by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9fc56"/>
                </a:solidFill>
                <a:latin typeface="Times New Roman"/>
              </a:rPr>
              <a:t>women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00440" y="914400"/>
            <a:ext cx="63406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ink: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1.This is the room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ich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 lived </a:t>
            </a:r>
            <a:r>
              <a:rPr b="0" lang="en-US" sz="4400" spc="-1" strike="noStrike">
                <a:solidFill>
                  <a:srgbClr val="a9fc56"/>
                </a:solidFill>
                <a:latin typeface="Times New Roman"/>
              </a:rPr>
              <a:t>in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last year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2.This is the room </a:t>
            </a:r>
            <a:r>
              <a:rPr b="0" lang="en-US" sz="4400" spc="-1" strike="noStrike">
                <a:solidFill>
                  <a:srgbClr val="a9fc56"/>
                </a:solidFill>
                <a:latin typeface="Times New Roman"/>
              </a:rPr>
              <a:t>in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ich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 lived last year.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3.This is the room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re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 lived last year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35440" y="1776240"/>
            <a:ext cx="7149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4.The comrad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ith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a9fc56"/>
                </a:solidFill>
                <a:latin typeface="Times New Roman"/>
              </a:rPr>
              <a:t>whom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 came knows French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 girl  </a:t>
            </a:r>
            <a:r>
              <a:rPr b="0" lang="en-US" sz="4400" spc="-1" strike="noStrike">
                <a:solidFill>
                  <a:srgbClr val="a9fc56"/>
                </a:solidFill>
                <a:latin typeface="Times New Roman"/>
              </a:rPr>
              <a:t>whom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you're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ooking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is in the classroom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3429000"/>
            <a:ext cx="304920" cy="609480"/>
          </a:xfrm>
          <a:custGeom>
            <a:avLst/>
            <a:gdLst>
              <a:gd name="textAreaLeft" fmla="*/ 0 w 304920"/>
              <a:gd name="textAreaRight" fmla="*/ 305280 w 3049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727de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860480" y="1066680"/>
            <a:ext cx="6459840" cy="1312920"/>
          </a:xfrm>
          <a:prstGeom prst="rect">
            <a:avLst/>
          </a:prstGeom>
          <a:noFill/>
          <a:ln cap="sq"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介词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或介词短语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)+which/whom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in front of whom/whic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43200" y="2286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类型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93200" y="2514600"/>
            <a:ext cx="5145840" cy="3141360"/>
          </a:xfrm>
          <a:prstGeom prst="rect">
            <a:avLst/>
          </a:prstGeom>
          <a:noFill/>
          <a:ln cap="sq"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2.a few of whom/which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most of whom/whic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many of whom/which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ome of whom/whic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none of whom/whic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93920" y="5867280"/>
            <a:ext cx="4103640" cy="703440"/>
          </a:xfrm>
          <a:prstGeom prst="rect">
            <a:avLst/>
          </a:prstGeom>
          <a:noFill/>
          <a:ln cap="sq"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3.NOUN+of which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4960" y="1828800"/>
            <a:ext cx="7512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1.They came to a farm house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in front of ___sat a small boy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A.which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　　　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B.that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C.what  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　　　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D.wher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4038480"/>
            <a:ext cx="1981080" cy="0"/>
          </a:xfrm>
          <a:prstGeom prst="line">
            <a:avLst/>
          </a:prstGeom>
          <a:ln cap="sq" w="57240">
            <a:solidFill>
              <a:srgbClr val="a9fc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2:36:14Z</dcterms:created>
  <dc:creator>Legend User</dc:creator>
  <dc:description/>
  <dc:language>en-US</dc:language>
  <cp:lastModifiedBy>赵晨盼</cp:lastModifiedBy>
  <dcterms:modified xsi:type="dcterms:W3CDTF">2002-10-13T10:32:04Z</dcterms:modified>
  <cp:revision>5</cp:revision>
  <dc:subject/>
  <dc:title>PowerPoint 演示文稿</dc:title>
</cp:coreProperties>
</file>