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D08-8C43-48DB-A348-658B3808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04B-0D53-4809-847C-9CDEEBC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C70-018F-409F-9707-AA420E0A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F01-8789-41E4-A984-75263368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FF09-F9FB-43BD-BB29-95EF8CF3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26E6-014B-4BCE-82F0-D3E4928E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8F3-EFED-49B9-88CC-158302C2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31E8-C4A4-4918-9B5B-54482D2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8404-729F-4B8A-8C2E-D7BD414A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7AD9-3986-4FA9-B4D6-B54F0948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ADFD-1AE9-43CE-8CA0-49C8CC2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BB9-C16F-4091-975C-7B3D49E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CBD2-F668-4646-B812-E636FB9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FFF0-6C06-418C-9E06-E63923F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876-2DD5-4BEE-884F-2193F77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7D22-1D54-4C36-B300-B7475C0C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644-759D-4668-92C0-FECB39A9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637-66A6-4180-90B0-82D5B61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7D1-14BD-4366-A3E2-B79314E7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AB7-149B-4619-A819-EB9B9C1E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78A-347A-474E-B4C9-F233D6C5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838-2A80-4F3E-800F-25C8288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613-BA08-4EDD-8A22-5866BCD5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971-9148-4673-9B80-E974F46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9C33-0812-4FD9-848A-A080AEB58A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CB4-E1D3-4971-AF0F-90B58B5269D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7560" y="4648320"/>
            <a:ext cx="32896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限制性定语从句起补充说明的作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去后不影响主句的意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逗号与主句分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并列的分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37200" y="685800"/>
            <a:ext cx="67111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非限制性定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is note was left by Joh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s here a moment ag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这条子是约翰留的，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他刚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来过这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35200" y="1447920"/>
            <a:ext cx="6735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地点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went to the Stat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st of the fil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ere made at that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9280" y="1143000"/>
            <a:ext cx="78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se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句中作定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plin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mother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ll for many years,had to d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treets to earn 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415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92640" y="1143000"/>
            <a:ext cx="7241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介词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/whom/w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the office,I never se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have time until 5:30 p.m.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by 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ime many peop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ve gon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320" y="533520"/>
            <a:ext cx="66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 introduced me to h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oommates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oth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from Californi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84440" y="2971800"/>
            <a:ext cx="7002360" cy="34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f,many of,most of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e of,two of, half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h of,neither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ch of,all of,several of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f, little of, a number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9440" y="1676520"/>
            <a:ext cx="710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teachers discussed J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e of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os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problems wa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or study hab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65240" y="1544760"/>
            <a:ext cx="664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正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Last night I took a taxi,and which took me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048120"/>
            <a:ext cx="914400" cy="5331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2819520"/>
            <a:ext cx="2514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  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95280" y="1752480"/>
            <a:ext cx="746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expressed the hope which Mr. and Mrs. smith would come to visit China the nex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828800"/>
            <a:ext cx="15397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50440" y="1295280"/>
            <a:ext cx="692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Tom's mother kept te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im that he should 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arder,but ___didn't hel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he  B.which  C.she  D.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4191120"/>
            <a:ext cx="91440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0160" y="838080"/>
            <a:ext cx="7311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I shall never forget tho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ars  ___ I lived in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untry with the farm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has a great effect 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y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hat,which   B.when,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which,that   D.when,w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257800"/>
            <a:ext cx="33526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880" y="990720"/>
            <a:ext cx="6598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st of ___hadn't be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leaned 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410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1400" y="609480"/>
            <a:ext cx="5529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较：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ose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who want to go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please sign their nam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想去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人请在这里签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26320" y="4343400"/>
            <a:ext cx="432288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限制性定语从句起限定作用，是主句不可缺少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先行词间无逗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翻译时常译作前置定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93840" y="685800"/>
            <a:ext cx="6499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.There are twenty-fi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upils in the class,___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the United St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ree of 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some of wh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ll of them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five of 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4343400"/>
            <a:ext cx="40384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533520"/>
            <a:ext cx="705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.The students climbed 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ill,___ they could get 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onderful vi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on its top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on the top of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on whose top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on the top of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876920"/>
            <a:ext cx="37335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93840" y="1371600"/>
            <a:ext cx="7056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6. The weather turned ou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 B.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4444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ages___ are missing,i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of which    B.for whi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o that        D.to 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114800"/>
            <a:ext cx="26672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360" y="1143000"/>
            <a:ext cx="792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Beijing,___,is a beauti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which is the capital of Chin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which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.that is the capital of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.that is the capital c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3352680"/>
            <a:ext cx="74678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0160" y="838080"/>
            <a:ext cx="7462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9.He made another wond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iscovery ,___ of gre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mport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ich I think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which I think it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ich I think 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 think which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9880"/>
            <a:ext cx="441972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8600" y="1371600"/>
            <a:ext cx="7293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0.She heard a terrible noi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___ brought her heart i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u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   B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is            D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43434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19680" y="1523880"/>
            <a:ext cx="766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1.Carol said the work woul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e done by October,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ersonally I doubt very mu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it             B.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when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51814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3880" y="1066680"/>
            <a:ext cx="7620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2.The weather turned 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o be very good,___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more than we could exp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what       B.which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D.i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038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07320" y="1270080"/>
            <a:ext cx="726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3.He paid the boy $10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ashing ten windows,mo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of ___hadn't been clean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t least a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ese          B.th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D.whi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6386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4400" y="990720"/>
            <a:ext cx="622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ook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traveller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 k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about the floods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,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nother ro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62600" y="4572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只有那些知道前面有洪水的旅客们才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4000" y="5486400"/>
            <a:ext cx="3301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旅客们知道前面有洪水，因而绕道而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27160" y="507960"/>
            <a:ext cx="7818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4.___ is mentioned ab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number of the stud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senior high school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creas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         B.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That             D.I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76920"/>
            <a:ext cx="7696080" cy="1739880"/>
          </a:xfrm>
          <a:prstGeom prst="rect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导非限制性定语从句，位于句首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定语从句中作主语，代表整个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所表达的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4600" y="380880"/>
            <a:ext cx="722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5.___ is known to all,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ill be an ___ and powerfu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ountry in 20 or 30 years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.Tha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.Thi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.As…advan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D.It…advanc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5562720"/>
            <a:ext cx="396216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762120"/>
            <a:ext cx="6345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　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种情况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此时不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BBC World Serv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roadcasts all kind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programs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from month to mon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212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lock struck thirte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de everyone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5480" y="2514600"/>
            <a:ext cx="710064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修饰整个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代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lock struck thirteen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又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30720" y="4419720"/>
            <a:ext cx="6986880" cy="15562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elevator is out of ord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oo ba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06200" y="1752480"/>
            <a:ext cx="693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said that the man w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thief,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urned ou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 tr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1295280"/>
            <a:ext cx="6616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来指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harlie Chaplin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di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n 1977,was one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orld’s greatest actors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1371600"/>
            <a:ext cx="719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宾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The doctor 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om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the nurs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s talking to, is leaving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frica next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22200" y="1447920"/>
            <a:ext cx="75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在句中作时间状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He went to the Stat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912,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when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he was notic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y an important film direct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7:34:46Z</dcterms:created>
  <dc:creator>Legend User</dc:creator>
  <dc:description/>
  <dc:language>en-US</dc:language>
  <cp:lastModifiedBy>Legend User</cp:lastModifiedBy>
  <dcterms:modified xsi:type="dcterms:W3CDTF">2002-09-29T01:59:18Z</dcterms:modified>
  <cp:revision>19</cp:revision>
  <dc:subject/>
  <dc:title>PowerPoint 演示文稿</dc:title>
</cp:coreProperties>
</file>