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A4A-1FBB-479D-8169-AE0F1565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AD5-7EAC-4D67-A2F9-6A075F22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CC1-964E-4E68-8F4A-8CD98753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337-2EC7-408F-A018-F691A571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8D5B-D62F-4537-B99D-7D7E972E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E1A-9B41-4A82-86AF-A46F9698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5345-2352-431B-A511-437F69AF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CE94-CA0B-4565-9DAD-08B4914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47BC-E2D0-4A10-98EA-8E564E99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43D2-0A54-40DA-8C0E-50066C6E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D3D4-32E9-4422-A528-938DF465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88F-E5DD-444E-B90E-3DAFE833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B622-22AB-4911-B6C7-7651B900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A119-C347-40FF-A9B6-539763C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57F4-C4EC-47B1-978E-5D5292E2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96F1-A586-4777-AE61-695AA4AE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53E0-BAA5-43E9-B73D-041A93FA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E18-B174-46B4-BE96-4EFB125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665-13D0-452F-BF97-FD605BA0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026-8473-4E26-85AA-CAA86DBD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A24-62BF-49E8-A07B-8188E7A1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065-B49B-48C8-B665-53DB297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728-0303-4B7E-A625-A8B7CC2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8A4-E347-4BD8-B771-69731B5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EE3-1F7A-46B3-B869-F0268930517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C081-6E15-4015-8F8A-9F34424019D0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27920" y="838080"/>
            <a:ext cx="5956200" cy="143460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where &amp;when 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在定语从句中作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地点状语和时间状语的用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0560" y="2743200"/>
            <a:ext cx="694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building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very old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0080" y="4648320"/>
            <a:ext cx="1964880" cy="11912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re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在定语从句中修饰一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地点名词，作地点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17920" y="1727280"/>
            <a:ext cx="782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8.Mother was worried becaus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little Alice was ill,especiall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__father was away in Fran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en                   B.that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during            D.if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2590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umbrella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it w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20" y="3757680"/>
            <a:ext cx="825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ut the books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 you took the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4360" y="1219320"/>
            <a:ext cx="1704600" cy="703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600" y="1981080"/>
            <a:ext cx="807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ut the book____it is when you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have finished read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ich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in which     D.at the plac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39560" y="1498680"/>
            <a:ext cx="8462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en you read the book,you'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better make a mark ___ you ha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ny ques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at which                B.at 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he place where     D.wher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51814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1447920"/>
            <a:ext cx="687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I’ll never forget the day 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when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I met you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64929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When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修饰一个时间名词，作时间状语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29528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Can you tell me the name of the factory ___ you visited last week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     B.wher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/     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9528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066680"/>
            <a:ext cx="7924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2.I can still remember the sitting-room___my mother and I used to sit in the even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at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72428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0760" y="1066680"/>
            <a:ext cx="8206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 shall never forget those year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_ I lived in the country wit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he farmers ,____has a grea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effect on my lif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that,which       B.when,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,that       D.when,who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724280"/>
            <a:ext cx="35812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1000" y="1295280"/>
            <a:ext cx="824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After living in Paris for fift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years, he returned to the small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own ___ he grew up as a chi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        B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4267080"/>
            <a:ext cx="1981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6000" y="1219320"/>
            <a:ext cx="85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She thought I was talking abou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her daughter,___in fact,I wa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talking about my daught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om            B.wher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ich            D.whil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7692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1295280"/>
            <a:ext cx="8763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6.It was an exciting moment fo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se football fans this year,___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the first time in years their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won the World Cu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B.whil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ich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5715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69960" y="1574640"/>
            <a:ext cx="761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I still remember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 studi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that                B.which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where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2:04:58Z</dcterms:created>
  <dc:creator>赵晨盼</dc:creator>
  <dc:description/>
  <dc:language>en-US</dc:language>
  <cp:lastModifiedBy>Legend User</cp:lastModifiedBy>
  <dcterms:modified xsi:type="dcterms:W3CDTF">2002-09-30T10:45:45Z</dcterms:modified>
  <cp:revision>4</cp:revision>
  <dc:subject/>
  <dc:title>PowerPoint 演示文稿</dc:title>
</cp:coreProperties>
</file>