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6CD-1C35-4B0F-BFB0-2A767EA7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E48-49EB-4CD5-A218-D33B5B9E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851-3337-41B1-A59C-B1015B4C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524-E5B3-4E2D-838F-C92EC12F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E7B4-1C14-46DC-81AC-C98420B7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85F8-B200-4057-87CE-834CBC1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D3A7-7FA9-48BD-9BEA-1C1AACE4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AA8B-109A-4B63-87C9-7BF4A307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B46B-F3F5-424C-9ED1-C52F42C0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1BDC-61C0-4B52-8272-151039D6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579D-B4E2-46E0-9248-7D66243F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070-7AEF-48D6-B9AB-9A9F6AB7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2E4C-684C-489C-B54E-17AC8DE5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BC6B-D135-43E5-AC19-40627D48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2315-2A6B-4EBA-BCC8-619A6247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0DCE-E880-4D5F-8141-4DB6F174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1A2-9858-4E42-9B0F-9B5B3253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906-D015-498C-9CCE-853C4FF9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EEF-7E42-4929-BBA4-CBE5A919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F56-97DF-4AEF-8D55-1F750C92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C7C-6BC4-47B0-8093-692968E1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706-9970-4D7D-A5C8-A377BBDF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AFA6-A137-4B62-82D4-6173038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67C-FA5D-40AC-B3E1-EA891E68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B4D6-8A5F-42B6-83EC-A3F630399C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DE44-5332-478F-AF44-C1733C9E3B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2362320"/>
            <a:ext cx="693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at/which/who/wh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定语从句中作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语或宾语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5040" y="1752480"/>
            <a:ext cx="791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.This is the mountain villa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______ we visited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ich            B.in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ere            D.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1280" y="1752480"/>
            <a:ext cx="5781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.This is the factory 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visited last Fri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se     B.in 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o         D.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8098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58760" y="1752480"/>
            <a:ext cx="7479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.Is this the store ____ sel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ll kinds 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12408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20320" y="1547640"/>
            <a:ext cx="7494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.Is this store ___ sells all kin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fresh flow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ere                B.which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in which            D.the one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657600"/>
            <a:ext cx="3276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57680" y="1752480"/>
            <a:ext cx="679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.He has done ____ he can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elp 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all that        B.all what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hich         D.all whi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213372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6120" y="1828800"/>
            <a:ext cx="7925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.The man ___ is our new teac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you spok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B.whom you spoke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with who you spok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.you spoke with wh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3276720"/>
            <a:ext cx="49528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34720" y="1828800"/>
            <a:ext cx="7354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9.On the bus I saw a student 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I thought was your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.whom       B.who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.that           D.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3200400"/>
            <a:ext cx="20574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190512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It was in the bookstore 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</a:rPr>
              <a:t>that I met your brother-in-law the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838080"/>
            <a:ext cx="6096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met your brother-in-law </a:t>
            </a: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in the booksto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/was… that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733920"/>
            <a:ext cx="6705720" cy="21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t w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 the bookstore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ha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 met your brother-in-law the other 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17524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定语从句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e expressed the hope </a:t>
            </a:r>
            <a:r>
              <a:rPr b="0" lang="zh-CN" sz="4400" spc="-1" strike="noStrike">
                <a:solidFill>
                  <a:srgbClr val="000099"/>
                </a:solidFill>
                <a:latin typeface="Times New Roman"/>
              </a:rPr>
              <a:t>that Mr and Mrs smith would come to visit China th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96240" y="1600200"/>
            <a:ext cx="45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复合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句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包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句子的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主要主语和动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从句不是一个完整的句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它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须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和一个主句连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49760" y="251460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定语从句是从属分句，修饰先行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143000"/>
            <a:ext cx="7543800" cy="609480"/>
          </a:xfrm>
          <a:prstGeom prst="wedgeRectCallout">
            <a:avLst>
              <a:gd name="adj1" fmla="val 36152"/>
              <a:gd name="adj2" fmla="val 177865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先行词由名词（或代词）来充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4840" y="3809880"/>
            <a:ext cx="4752720" cy="19224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：定语从句对一个先行词进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描写、限定或提供进一步的信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又称为形容词性从句或关系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83160" y="658800"/>
            <a:ext cx="716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ost homes in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thqua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5200" y="3809880"/>
            <a:ext cx="76604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ople </a:t>
            </a: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who lo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homes in the earthqua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ach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y as 250,00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2819520"/>
            <a:ext cx="2133720" cy="761760"/>
          </a:xfrm>
          <a:prstGeom prst="cloudCallout">
            <a:avLst>
              <a:gd name="adj1" fmla="val -20462"/>
              <a:gd name="adj2" fmla="val 9583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3048120"/>
            <a:ext cx="1752840" cy="609480"/>
          </a:xfrm>
          <a:prstGeom prst="cloudCallout">
            <a:avLst>
              <a:gd name="adj1" fmla="val -46740"/>
              <a:gd name="adj2" fmla="val 7005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00840" y="1928880"/>
            <a:ext cx="645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aw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hi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yester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1360" y="3886200"/>
            <a:ext cx="6892560" cy="14346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o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m we s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yesterday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was John's bro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3048120"/>
            <a:ext cx="2133360" cy="761760"/>
          </a:xfrm>
          <a:prstGeom prst="cloudCallout">
            <a:avLst>
              <a:gd name="adj1" fmla="val -18972"/>
              <a:gd name="adj2" fmla="val 9916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1752480" cy="609480"/>
          </a:xfrm>
          <a:prstGeom prst="cloudCallout">
            <a:avLst>
              <a:gd name="adj1" fmla="val 34240"/>
              <a:gd name="adj2" fmla="val 102606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行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838080" y="1676520"/>
            <a:ext cx="8001000" cy="3504960"/>
            <a:chOff x="838080" y="1676520"/>
            <a:chExt cx="8001000" cy="3504960"/>
          </a:xfrm>
        </p:grpSpPr>
        <p:sp>
          <p:nvSpPr>
            <p:cNvPr id="103" name=""/>
            <p:cNvSpPr/>
            <p:nvPr/>
          </p:nvSpPr>
          <p:spPr>
            <a:xfrm>
              <a:off x="838080" y="1676520"/>
              <a:ext cx="8001000" cy="3445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主语             　宾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人　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o               who\whom\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              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物  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which              whic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　　　　</a:t>
              </a:r>
              <a:r>
                <a:rPr b="0" lang="zh-CN" sz="4400" spc="-1" strike="noStrike">
                  <a:solidFill>
                    <a:srgbClr val="0033cc"/>
                  </a:solidFill>
                  <a:latin typeface="Times New Roman"/>
                </a:rPr>
                <a:t>that                  tha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24382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8080" y="320040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38098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8080" y="4495680"/>
              <a:ext cx="8001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1676520"/>
              <a:ext cx="0" cy="350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58160" y="1555920"/>
            <a:ext cx="306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确定主句和从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55120" y="2209680"/>
            <a:ext cx="24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先行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55120" y="2819520"/>
            <a:ext cx="258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找出连接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0000" y="3505320"/>
            <a:ext cx="495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连接词在定语从句中作何成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62360" y="4191120"/>
            <a:ext cx="407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用其他连接词替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是什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2880" y="5486400"/>
            <a:ext cx="225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否省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7000" y="7621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如何分析含有定语从句的复合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06840" y="803160"/>
            <a:ext cx="772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用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定语从句合并每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1.The long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still looks n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The 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been there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nearly fifty ye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7840" y="3809880"/>
            <a:ext cx="771048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.The long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ridg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ich /that 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een there for nearly fifty years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still looks nic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0720" y="914400"/>
            <a:ext cx="63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has a great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f 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65840" y="3505320"/>
            <a:ext cx="6974640" cy="210492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biologis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is a person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has a great knowledg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biolog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1:28:47Z</dcterms:created>
  <dc:creator>Legend User</dc:creator>
  <dc:description/>
  <dc:language>en-US</dc:language>
  <cp:lastModifiedBy>Legend User</cp:lastModifiedBy>
  <dcterms:modified xsi:type="dcterms:W3CDTF">2002-09-30T10:33:22Z</dcterms:modified>
  <cp:revision>10</cp:revision>
  <dc:subject/>
  <dc:title>PowerPoint 演示文稿</dc:title>
</cp:coreProperties>
</file>