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831-A701-4F84-847B-DDC76386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77D-400E-4D83-A85A-3B76826E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5FD-1841-467E-B972-C7C725D8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2C43-1EF5-4A1B-80F6-3873298A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479C-2DA6-41F8-A2E1-B564A235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89C8-8426-4358-9B83-D0169111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F36E-D512-4234-A425-FEBE8BD2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93F0-B37F-49A3-8A7F-C22CC976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0AC9-E47E-4450-A8C7-2CDC9A11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5F76-E55B-4EC7-8D2D-05570A69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517E-9789-4E23-9391-14B2A2BF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F05F-986A-4F19-A02C-7B338D62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9E50-6D45-4C0B-B6D6-6074DA81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4F4E-05A6-43AB-A1BF-FE0E0BEB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D119-08A4-436B-B1A1-0431C8DD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5EBB-1AC7-425C-848F-D1F735A6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8350-C5A4-4B67-9558-7F921F3F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F1C-0AC2-4C6C-ABDC-8E03FB3D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03E-6D9A-471A-990E-1AD39C22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3B8-FF28-4B0F-B3F2-BE106400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4D8-3623-4511-B870-DE70F1F2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A8CD-DC1C-4441-9093-D96263A0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5CB-30E8-4505-9542-8BA6D511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BA2-24A1-4E33-A155-37AD5E97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8DCC-2EBE-4BEA-91B2-DF5419866A28}" type="slidenum"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DA55-7602-418B-ADC2-0FCD265EA17E}" type="slidenum">
              <a:rPr b="0" lang="zh-CN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1066680"/>
            <a:ext cx="7772400" cy="825120"/>
          </a:xfrm>
          <a:prstGeom prst="rect">
            <a:avLst/>
          </a:prstGeom>
          <a:noFill/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在定语从句中的用法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3480" y="2590920"/>
            <a:ext cx="819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.Mr King was taken to hosp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is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legs were badly hurt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760" y="4419720"/>
            <a:ext cx="8446680" cy="1556280"/>
          </a:xfrm>
          <a:prstGeom prst="rect">
            <a:avLst/>
          </a:prstGeom>
          <a:noFill/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.Mr King,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hose legs were badly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urt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,was taken to hosp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1720" y="2057400"/>
            <a:ext cx="7785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7.Do you know Mrs Jackson,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___ daughter is a famous poet?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ich                  B.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who                     D.of 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4343400"/>
            <a:ext cx="236196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46600" y="3962520"/>
            <a:ext cx="8597880" cy="1556280"/>
          </a:xfrm>
          <a:prstGeom prst="rect">
            <a:avLst/>
          </a:prstGeom>
          <a:noFill/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.The boss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in whose department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Mr king worked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called at host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523880"/>
            <a:ext cx="927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.The boss called at the hospital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Mr King worked in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his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department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12480" y="1523880"/>
            <a:ext cx="6515640" cy="4480920"/>
          </a:xfrm>
          <a:prstGeom prst="rect">
            <a:avLst/>
          </a:prstGeom>
          <a:noFill/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取代 了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one’s,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表示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所属关系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在从句中作定语，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与名词连用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hose =of which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，不能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省略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800" y="1752480"/>
            <a:ext cx="77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1.I'd like a room____ windows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look out over the sea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ose             B.of 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of which         D.in 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4038480"/>
            <a:ext cx="23623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8400" y="1828800"/>
            <a:ext cx="7768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2.I'd like a room____ the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windows look out over the sea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ose             B.of 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of which         D.in 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876920"/>
            <a:ext cx="23623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2800" y="1523880"/>
            <a:ext cx="817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3.The river____are covered wit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trees is very long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which banks        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B.of which banks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whose the banks  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D.the banks of 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943600"/>
            <a:ext cx="51055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44880" y="1905120"/>
            <a:ext cx="8800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4.The book,____the cover is green 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belongs to the school library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of which       B.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that               D.which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191120"/>
            <a:ext cx="236196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79800" y="1523880"/>
            <a:ext cx="8428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5.The old lady has two daughters,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____ are nurses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two of the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B.both of 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all of 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D.neither of the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4495680"/>
            <a:ext cx="380988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47000" y="1574640"/>
            <a:ext cx="7614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6.His parents wouldn’t let hi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marry anyone___ family was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poor.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A.of whom            B.whom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</a:rPr>
              <a:t>C.of whose            D.whose</a:t>
            </a:r>
            <a:endParaRPr b="0" lang="en-US" sz="4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5181480"/>
            <a:ext cx="2362320" cy="0"/>
          </a:xfrm>
          <a:prstGeom prst="line">
            <a:avLst/>
          </a:prstGeom>
          <a:ln cap="sq"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9T01:12:59Z</dcterms:created>
  <dc:creator>Legend User</dc:creator>
  <dc:description/>
  <dc:language>en-US</dc:language>
  <cp:lastModifiedBy>Legend User</cp:lastModifiedBy>
  <dcterms:modified xsi:type="dcterms:W3CDTF">2002-09-30T12:15:59Z</dcterms:modified>
  <cp:revision>3</cp:revision>
  <dc:subject/>
  <dc:title>PowerPoint 演示文稿</dc:title>
</cp:coreProperties>
</file>