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5756275" cy="79819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9ED-88E8-4096-B33F-7BAC3C3A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0917-92E3-4206-BFE4-C50FEF0A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300-6169-4618-AE1A-0DD8098E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B29-16C0-470D-8AAE-12BEBC86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E66-93CD-4378-B2BD-2B466708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513-D19B-4B1C-8C08-CE701872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00D-BB31-40E8-B464-25597C9C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A0A-15AB-4A04-85C4-386C75B0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BED-817E-408D-A2FD-D3413DCC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9F4-1A76-41E7-A051-E81D5256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347-5F88-41E6-A065-4DB742C6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E10-B48E-4CC9-9328-C5C2B2DA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3B1E-BEB7-4ABE-97CC-03488B9DC2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1080" y="1828800"/>
            <a:ext cx="7512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They came to a farm hous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front of ___sat a small bo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ich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that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what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w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6720" y="1676520"/>
            <a:ext cx="698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In the dark street,t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n't a single person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could turn for hel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om            B.that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o whom        D.by wh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1676520"/>
            <a:ext cx="748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I'll never forget the days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pent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n which        B.in which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hat                 D.wh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1676520"/>
            <a:ext cx="705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I'll remember the days 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orked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en              B.in whic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on which        D.\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18960" y="1295280"/>
            <a:ext cx="7666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There are several building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school,the highest 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 was built last ye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f which          B.of  them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\                 D.among th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94920" y="1447920"/>
            <a:ext cx="734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They gave us some Engl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ooks, ___ were difficult t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derst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a few of them        B.the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a few of which      D.th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936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ages___ are missing,is 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f which       B.for which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o that           D.to whi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0:05:36Z</dcterms:created>
  <dc:creator>Legend User</dc:creator>
  <dc:description/>
  <dc:language>en-US</dc:language>
  <cp:lastModifiedBy>Legend User</cp:lastModifiedBy>
  <dcterms:modified xsi:type="dcterms:W3CDTF">2003-01-06T10:33:53Z</dcterms:modified>
  <cp:revision>2</cp:revision>
  <dc:subject/>
  <dc:title>幻灯片 1</dc:title>
</cp:coreProperties>
</file>