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ACC-B453-4958-9906-C8FEC85E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4D8-BE58-4A14-84DA-01E94011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EEA-CBFF-4C9C-A298-8FE7BBD1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A22-9CF1-4638-851C-0F4B342A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45E-45C5-410F-8697-007AFAF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EC9-92A7-4381-B137-86604C6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801-DE93-4EA9-8B10-0A1F43D0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D2E-C3E2-48B6-BFDE-049624A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940-5F31-480D-B6F4-DDE1CE56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770-F7DB-4F23-967C-514FA00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957-6A8A-4A08-B3A1-7837676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709-0E80-4F60-8B3D-FB29ED3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C1A4-EF31-4AF0-9FB2-004F4208C6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名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371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有名词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Proper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05320"/>
            <a:ext cx="1981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(Common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438280"/>
            <a:ext cx="685800" cy="3505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Individual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91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集体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Collectiv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124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物质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抽象名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Abstract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137160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7524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不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Un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4267080"/>
            <a:ext cx="533520" cy="1676520"/>
          </a:xfrm>
          <a:custGeom>
            <a:avLst/>
            <a:gdLst>
              <a:gd name="textAreaLeft" fmla="*/ 0 w 533520"/>
              <a:gd name="textAreaRight" fmla="*/ 192600 w 533520"/>
              <a:gd name="textAreaTop" fmla="*/ 71280 h 1676520"/>
              <a:gd name="textAreaBottom" fmla="*/ 16052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73"/>
                  <a:pt x="10800" y="2945"/>
                </a:cubicBezTo>
                <a:lnTo>
                  <a:pt x="10800" y="7855"/>
                </a:lnTo>
                <a:cubicBezTo>
                  <a:pt x="10800" y="9328"/>
                  <a:pt x="16200" y="10800"/>
                  <a:pt x="21600" y="10800"/>
                </a:cubicBezTo>
                <a:cubicBezTo>
                  <a:pt x="16200" y="10800"/>
                  <a:pt x="10800" y="12273"/>
                  <a:pt x="10800" y="13745"/>
                </a:cubicBezTo>
                <a:lnTo>
                  <a:pt x="10800" y="18655"/>
                </a:lnTo>
                <a:cubicBezTo>
                  <a:pt x="10800" y="2012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4419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可数名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(Countable 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28600"/>
            <a:ext cx="4267080" cy="1447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094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名词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810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666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9528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19051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73392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581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,x,ch,sh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7913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辅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尾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971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5257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6019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/f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thers;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;watches;dishes*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495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dies;countries;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oes; tomatoes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6019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ves; leaves;*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85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1: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990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8610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2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以专有名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的名词，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boys; toys; Germanys; Henr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590920"/>
            <a:ext cx="58672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3: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元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videos; stu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zoos; bamboos;kanga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外来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特别是音乐方面的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缩写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kilos; photos; m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些专有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Eskimos; Filip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0040" y="36576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接在词尾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819520"/>
            <a:ext cx="685800" cy="2286000"/>
          </a:xfrm>
          <a:custGeom>
            <a:avLst/>
            <a:gdLst>
              <a:gd name="textAreaLeft" fmla="*/ 0 w 685800"/>
              <a:gd name="textAreaRight" fmla="*/ 247680 w 6858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562720"/>
            <a:ext cx="7467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4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f/f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结尾只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ofs;gulfs; cliffs; roofs;serfs; beliefs;ch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304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规则复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1066680"/>
            <a:ext cx="5790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woman– women; chairman-chai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9051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8640" y="1905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190512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foot-feet; tooth-teeth; goose-ge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+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819520"/>
            <a:ext cx="586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child-children; ox-ox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581280"/>
            <a:ext cx="8839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35812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581280"/>
            <a:ext cx="5639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mouse-mice; louse-l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虱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91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有些外来词的不规则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analy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ba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the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   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cri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6386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criter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phenome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medi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复数相同的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90720"/>
            <a:ext cx="769644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eep; deer; means; fish; works; species; Chinese;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以及由汉语音译表示度量衡、货币等单位的名词。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yuan,jiao,fen, jin,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124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复合名词的复数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038480"/>
            <a:ext cx="8915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词末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+-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eg:film-go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forget-me-not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主体名词变为复数形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oke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on; editor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chief;son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in-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个组成部分皆变为复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men doctors; men cooks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* 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这种形式的第一个名词必须是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man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名词所有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The Possessive Case of Nou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some patt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371600"/>
            <a:ext cx="54100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ll take the risk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friendship’s s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e wa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her wit’s 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w they could sing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their heart’s cont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should get the children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 of harm’s w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had best keep them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arm’s leng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goodness’ sa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stop argu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ane got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ney’s wor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out of the co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为了友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1905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黔驴技穷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尽情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不受损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724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保持距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看在上帝的份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9120" y="6172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很合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28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主谓一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914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１。语法形式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单谓单；主复谓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765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２。意义上的一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单意复，谓语用复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people;pol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主语形复意单，谓语用单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news;economic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24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就近原则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ither…or; neither…nor; not only…but a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03848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单复数视情况而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集体名词作主语：强调整体，用单数；强调个体，用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单复数同形名词作主语，按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means,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571500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）中心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, most, half, r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按意义一致原则。即主语单数意义，谓语用单数；主语复数意义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6094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主语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接两个名词时，指一样东西，谓语单数；指两样东西，谓语复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knife and fork is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7524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作主语，取决于它代替的是单数还是复数。意义一致原则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urs, yours; such, the same; who, that, which; any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ith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ither,(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单独作主语，谓语单数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ne, all, some, mo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505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分数，量词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lf of, part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作主语，于中心词保持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343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主语从句。通常用单数；所指的具体内容为复数时，谓语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562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）主谓倒装，谓语与其后主语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５。　谓语用单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12193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名词所有格之后的名词被省略。（指商店，工场，住宅等）作主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doctor’s, my uncle’s, the bak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2362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心词是时间、距离、金额、度量、书名等复数名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ree years; The selected poems of Li Ba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each, every, n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修饰名词，即使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逗号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ach boy and each girl ; every man and w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52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re than one…; man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kind of; a pair of; a serie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is kind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) The number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05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) A great deal of…; a large amount of… +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89548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) One and a hal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One and a half bananas is left on the 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343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) The departe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死者）意义上指个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334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) the only one of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。从句中的谓语用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６。谓语用复数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8380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lice,;people;cattle; militi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民兵）作主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有两个部分构成的名词。（表示衣物或工具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glasses; chopsti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2590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these kind of m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口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 men of this ki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3344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oth…and…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4191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A number of; large quantities of; large amounts 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饰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主语，一般情况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5707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）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 of th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数名词复数＋定语从句，从句中谓语动词用复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533520"/>
            <a:ext cx="784872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Proper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指人名、地名及某些人和事物专有的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195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Diana; Beijing; Americans;English; May; New Year’s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cc6600"/>
                </a:solidFill>
                <a:latin typeface="Times New Roman"/>
              </a:rPr>
              <a:t>专有名词的第一个字母要大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3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. Try to learn these words by heart: (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通常用于复数形式的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1532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isso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剪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pa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裤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ss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脚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cor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灯心絨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arm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武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arpho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耳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 pyjam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睡衣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h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灰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overal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trop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ctac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眼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       brac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背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i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楼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il-clippe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甲刀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lack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便装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ai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elong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有物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v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积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为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rit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品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nding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查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And 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the words in  your note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60958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2. Finish Ex. Book Chapter 2. Nouns. (P7-P16)&amp;Chapter 12(P133-P13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8600"/>
            <a:ext cx="59436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Common Nouns</a:t>
            </a:r>
            <a:r>
              <a:rPr b="0" lang="zh-CN" sz="2800" spc="-1" strike="noStrike">
                <a:solidFill>
                  <a:srgbClr val="993366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专有名词以外的名词都是普通名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Individual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作为个体而存在的人或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200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指具体的人或物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unts; a panda; a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指抽象东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a year; fairy tales; a 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 Collective Nouns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由个体组成的集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: army; audience; crew; family; team; police; government;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828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集体名词有时作单数看待，有时作复数看。一般来说，视为整体时作单数看，突出它的成员时作复数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971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is family isn’t lar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f: His family are all music lo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不少情况下，集体名词后单复数动词都可以用，没什么差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audience was (were) excited by the 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380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少数集体名词通常用作单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19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gang is being hunted by the pol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133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company is sending him to work in Berl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971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别集体名词则多作复数看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33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he police are looking for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Material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无法分为个体的东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beer; cake; cloth; cotton; detergent; fur; ice; paint; paper;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47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般来说，物质名词是不可数的，因而没有复数形式。但有一些特殊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有些物质名词可用作可数名词，表示“一份”、“一杯”、“一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48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Two strong black coffee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两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657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ree beers, please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三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a special te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一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个别物质名词的复数形式可以表示特别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18148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rain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雨季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nows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雪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ters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e note pap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Abstract Nou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些抽象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education; love; policy; trust; nature; fashion; relief; silence; truth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9051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数情况下，这种名词常用于单数形式，不加任何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590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g: He’s learning French for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3124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you good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u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时也可以加冠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orks hard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welf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po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257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rie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ac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ar broke out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些名词可以兼作可数名词和不可数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457200"/>
            <a:ext cx="228600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木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子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力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愉快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系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366840"/>
            <a:ext cx="4419720" cy="65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lass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玻璃杯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 cop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铜币／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ti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罐头，听头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ap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报纸，证件，论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 iron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熨斗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wood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树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old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牌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youth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青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wer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国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eauty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人，美的东西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leasure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人感到愉快的事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relat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亲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4290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英语中有许多对词，一个可数，一个不可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335268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oem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首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machin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台机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ob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augh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permit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许可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garmen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衣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bag(case)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件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loaf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只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hai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根头发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276720"/>
            <a:ext cx="1523880" cy="7617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1219320"/>
            <a:ext cx="3429000" cy="490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et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歌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chiner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机器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k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aughte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笑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ermission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允许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othing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衣裳总称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uggage, baggage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李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rea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包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ir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头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03:57:11Z</dcterms:created>
  <dc:creator>weiyu</dc:creator>
  <dc:description/>
  <dc:language>en-US</dc:language>
  <cp:lastModifiedBy>weiyu</cp:lastModifiedBy>
  <dcterms:modified xsi:type="dcterms:W3CDTF">2003-06-23T01:59:47Z</dcterms:modified>
  <cp:revision>58</cp:revision>
  <dc:subject/>
  <dc:title>PowerPoint 演示文稿</dc:title>
</cp:coreProperties>
</file>