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5D5-285E-427F-B93A-5E67AD54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E03-7D51-4E06-8F38-C1F9994A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D93-4CAA-4F72-A9B1-BC687B4D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8B5-B1A1-44A6-BAF1-D236478B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7CF-AE05-492B-9803-F5BC182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D19-8FA9-47C3-9C4A-B740BA8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72D-0382-4AB5-A446-D4E106E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D20-5CDA-401A-89CD-9C92FD48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058-0AF5-46B6-B813-808F6A6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EAE-02EC-4D9A-9E04-EBDA4A2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2B1-0CA9-4F4F-9B85-1AD606C8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FB3-34CC-41A3-9F24-9678E9F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DB02-00F0-44E0-A4AF-C6915288C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9523494914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三英语总复习语法系列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步状语从句专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, wher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，同时也分别是时间状语从句和地点状语从句，这里作为让步状语从句来看待，是强调它们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, no matter whe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含义。在口语中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+wh-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比较常见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at I did, no one paid any attention. (= Whatever I di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 and how the invaders come, they will be wiped out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o it is, I don’t want to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how difficult the task may be, we must fulfil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true, no matter what you may sa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believe the rumour, no matter who repeat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口语中还可以这样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doesn’t matter (= No matter) what he may say, I am 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通常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although, no matter, even if, if, even though, however, whatev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引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可以前置，也可以后置；前置时强调主句内容，后置时强调从句内容。有时也可以采取中位（插入句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词同义，一般情况下可以互换使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didn’t light the fire though / although it was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较正式，语气较重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nsisted on doing it although I warned him no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③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用，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可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(Even though) the traffic held us up, we got to the airpor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让步状语从句是指一种假设的情况，不指事实时，通常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不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ever do such a thing though he (should) be forced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all the world were against me, I shall still hold to my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⑤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在非正式文体中用作连接性状语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不行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放在句中或句末，通常用逗号隔开）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said he would come; he didn’t, th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⑥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可用倒装语序（即把从句中的表语或状语等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前）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这样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 though she is, yet she is fit for the job.  (= Young as she i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⑦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可用副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, still, nevertheless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不能用连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配合连接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加强语气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he is over seventy, yet / still / nevertheless he can ride the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⑧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面的主语和谓语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省略，如果这个主语和主句中的主语指同一个人或物时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it was) cold, it was a fine winter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he was) severely wounded, yet he refused to leave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they were) very tired, they continued to march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if, 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义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do it, even if it takes me all th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there even if we didn’t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you fail, you can t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help you, even if I don’t sleep for a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也可以用于让步含义，但要注意条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让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区别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ow can he buy the house?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e is at least hones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won’t be able to accomplish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is at any rate eager to learn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had been there, I would have seen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was there, I didn’t see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, that, though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特殊让步状语从句结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正式文体或文学作品中，为了强调让步的含义，可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让步从句。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不置于句首，而将从句中的表语或状语置于句首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，也可以用于这种结构），如下面几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语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he was, he still went on with hi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ld as I am, I can still f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as you may be, you canno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l as / though he was, he couldn’t reach the top sh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 though the task was, they managed to accomplish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状语的倒装：（这时不可在状语之前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ery, 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修饰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I admire him as a writer, I do not like him as a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he likes the bike, he doesn’t want to bu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rd as I studied, I could not catch up wit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谓语动词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would, he could not remember a word of it. (= No matter how he would tr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might, he didn’t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te him as we may, we must admit his grea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rch as they would, they could find nothing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you may, you will never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是单数名词或形容词最高级作表语，不再用冠词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acher as Michael is, he is not capable of teaching all su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/ that he was, he knew what was the right thing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est as he is in our class, he speaks English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knows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可以置于主句前、主句后或句中，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置于句首时，主句前可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, brave as she is, is afraid of sn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unable to make much progress, hard as he t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ch as he is, (yet) I don’t envy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作表语的形容词提前时，如果从句的主语是人称代词，那么它只能放在动词之前；如果从句的主语是名词，则可用倒装语序，也可用陈述语序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were the workers, they did not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though / as you may be, you can’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与主句在时态上可以不一致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was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⑤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原因从句与让步从句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explains the reason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因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can’t explain the reason very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 (= even if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把握不大或假设的事情，意为“即使”、“纵然”；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事实，意为“尽管”、“虽然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, even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知道，也可能不知道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然知道，却不说出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(= although)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引导的让步状语从句只能前置，位于句首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you may be right, I can’t altogether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that the problems are difficult, I don’t agree that they cannot be 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比较下列各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his good points, I can see his shortcomings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understand what you say, I can’t agree with you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was reading, the light went ou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 is absolute while stagnation is relative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idle, while his brother is diligen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J_051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ether…or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种从句也称“选择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”，可位于主句之前或之后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he drives or (whether he) flies, he will be here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you like it or not, you’ll hav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or not it rains, I’m giving a part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hold that all countries, (whether they are) big or small, (whether they are) rich or poor, should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it rains or snows, I will go to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had to go, whether or not she want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代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oever, whomever, whatever, whichev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o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o) is unwilling to go,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who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连接词短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代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mever (= no matter whom) you are dealing with, this method is no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(= no matter what) happens, keep ca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others may say, you are certainly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you choose, we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形容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at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at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at) difficulties may arise, we must and can overcome them one by one.  (what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形容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ie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room is assigned to him, he will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method you use, the result is much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副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ever, wher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n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( = no matter how) difficult the task may be, we will fulfil i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how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副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ver ( = no matter where) they went, they were warmly welco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 I’m unhappy, he cheers m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dog follows me wherever I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956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以上几种结构的省略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difficult the task (may be), it will be fulfilled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great the difficulties (may be), we will never retr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the difficulties (may be), they must and can be over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04-08-17T14:39:33Z</dcterms:modified>
  <cp:revision>9</cp:revision>
  <dc:subject/>
  <dc:title>PowerPoint Presentation</dc:title>
</cp:coreProperties>
</file>