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6E540-BD69-46CC-9DA9-48399F9F8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7621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C3CF19-05E1-48E3-A11C-F96C0B3E6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8897B4-E3C9-4C1A-AAF4-C91641855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C50586-A57E-492F-8C7D-3CEEB5ACE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815185-42AA-4086-89D9-857BD4EAD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7621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A8BD7B-238E-414A-B04C-5D42F2AFF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744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C42462-50FA-4B57-A938-BFA498735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7621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0C4684-B190-4188-93B2-F51BACE3B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7621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E6286D-933B-461A-B9E6-A219BB669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7621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744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4E8278-14B3-45AD-AE54-A3CA9A27C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3901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177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7621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3901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177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C2EA08-D73D-41DC-A734-65B7EE61A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574990-74C9-4418-A3EB-127B0218E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7621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744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50A8E9-137E-406F-B1DC-81CCF517B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5E5A27-CCF2-44C5-A0CC-9F373D028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978122-71D0-41D4-A8F0-370526F28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66433A-7CE9-4555-9324-A879D9431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2A0A9B-C263-4D5B-807A-A7316C2FC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391D96-18D1-44A4-9FBD-37573CEC3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7621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AD7125-31DD-404A-9327-F07D32CCB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744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D717BB-26BD-4EC2-9939-FFA153561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7621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9A9D8E-F13C-40D5-9424-C43179788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7621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334556-83A1-44D4-9911-16DCD5B39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7621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744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DE80B4-40E3-40FF-86FD-8D1BEF59C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3901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177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7621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3901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177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3F66DF-D9E4-45F8-B467-E5BF7A13B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3901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0177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7621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3901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60177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D27E00-CE2B-433D-A3FD-9EDC7697C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FD68A87-C610-4EE1-AEA4-E1D8AE8AB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9A74A67-AE5B-4D37-B6E3-632DEB11E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2403501-31AD-4DCA-B3B0-0DD648ABB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5B77F97-39E0-42C0-B414-CACC73AC0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DB2FED6-FFDE-49AB-A99F-9AC2D4E1F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DF553B0-27DC-48A0-AF75-AED70E0DD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7621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1B51358-C8B2-479C-8BC0-28D654692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744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2713474-530F-45EC-B8EC-113152BC4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7621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D8D3688-0BF8-448C-B8EB-10CB0F92C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E796A-3525-4939-BAF9-6DB2695B5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7621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87A7DC0-E340-4334-A61A-FFDAD9976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7621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744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7B5748B-1921-4254-B9BA-33691E60C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3901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177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7621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3901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177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BFDCCD3-1D69-4D04-AA8E-6C5D87FE1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B575B3-20B8-4A2B-9754-A0278D98E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subTitle"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CBF277-6387-424A-86BC-CF80BA020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162554-1A1F-4D90-B56E-1555AF200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AB607C-D509-4110-B976-6CCDDF8B4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47D4E8-1EFC-4278-B4E0-89178C75B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2198DD-133C-44B2-B99F-C5DF72349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7621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AB127B-CAB9-45B2-8FF1-FC849AA20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9E08D-246C-4409-B66D-52F38449D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744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74C7E8-964D-40E5-AF32-02BB84D60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7621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9BC573-441D-4840-B5A5-93AFBF8E7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7621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C067F9-CFF9-479C-81AE-E900A573F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7621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4744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9ED2FB-B042-46AF-98A6-4D244DDFC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33901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60177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/>
          </p:nvPr>
        </p:nvSpPr>
        <p:spPr>
          <a:xfrm>
            <a:off x="7621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19" name="PlaceHolder 6"/>
          <p:cNvSpPr>
            <a:spLocks noGrp="1"/>
          </p:cNvSpPr>
          <p:nvPr>
            <p:ph/>
          </p:nvPr>
        </p:nvSpPr>
        <p:spPr>
          <a:xfrm>
            <a:off x="33901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20" name="PlaceHolder 7"/>
          <p:cNvSpPr>
            <a:spLocks noGrp="1"/>
          </p:cNvSpPr>
          <p:nvPr>
            <p:ph/>
          </p:nvPr>
        </p:nvSpPr>
        <p:spPr>
          <a:xfrm>
            <a:off x="60177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90E2A4-9F08-4073-994C-DDAF57FBF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B4434EE-7304-4859-AAF0-A581CB916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 type="subTitle"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6576D08-6E10-43DD-8863-38636A624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CAE88CB-530D-421D-8BCE-FA435F16F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FB88000-3C26-4F7A-BBF0-6C785A6BE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FB17CBC-EFD1-44E4-9B94-F0DC37D8A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38E2A-0D39-4FED-BE39-8FF966190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841BB75-2CC2-4605-ABA5-05B02AA55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7621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4EFEB9B-C77B-40FF-B3B6-EF773919D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4744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8233413-B5BD-4F74-8A89-2AEADBC0E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7621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5CE72B4-84B3-4F3D-ABDC-93E3E4A18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7621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B1F155D-2FEE-47A2-B89E-360E3F3CE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7621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4744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1555F0B-C6E4-4FEB-900B-2605F04A3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33901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60177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/>
          </p:nvPr>
        </p:nvSpPr>
        <p:spPr>
          <a:xfrm>
            <a:off x="7621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79" name="PlaceHolder 6"/>
          <p:cNvSpPr>
            <a:spLocks noGrp="1"/>
          </p:cNvSpPr>
          <p:nvPr>
            <p:ph/>
          </p:nvPr>
        </p:nvSpPr>
        <p:spPr>
          <a:xfrm>
            <a:off x="33901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80" name="PlaceHolder 7"/>
          <p:cNvSpPr>
            <a:spLocks noGrp="1"/>
          </p:cNvSpPr>
          <p:nvPr>
            <p:ph/>
          </p:nvPr>
        </p:nvSpPr>
        <p:spPr>
          <a:xfrm>
            <a:off x="60177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F053B29-09DA-489F-87CF-238664B95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DF583-AC7A-44A8-A467-8645EF061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40C4C-C7E0-4607-99D6-2B8498DD6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7C0A4-7A85-4EA6-8766-E5C9669FA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7621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E77A2-B4AF-4E77-8461-118F85F72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E6B304-CD2C-4CAB-BCFD-2AA1A5A80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744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98809-6863-4876-9D2E-52E042AB0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7621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5A67E-1AB6-4044-A9F2-7C49DF70A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7621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843EA-6E4F-416A-AECA-B7CE2F14B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7621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744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0D472-80BF-4859-810D-6FBB15184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3901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177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7621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3901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177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F6683-D37F-4E00-AB46-6D9AD5ADF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E0A5EE-C880-44B7-BEC3-C381F70A8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D9C37E-00BB-432F-9BC9-9A0EAD17F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062C55-7F18-4DC8-8C3A-FBD461649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ADE4A7-A989-41B0-A0F3-043FC49FC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F2FCB3-B276-4E64-8B96-8DABC49D2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512284-8915-45E7-BA84-8DB33EE57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3CE680-B994-4D95-B4AF-CFC87E3BB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7621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82F43F-8421-431D-8809-C8E478007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744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CC7452-DAA7-4B8D-AE85-41833659B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7621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CE8140-F82C-41CA-85C7-44226DC15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7621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9DBEC1-82E2-4579-A4EE-70D5A6C00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7621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744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C5A282-3CB7-4FF5-A6F7-1D28D6406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3901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177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7621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3901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177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A59401-72A8-4995-A6A1-91E314DAF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F2B643-547B-4B28-B4DC-CC675B906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2DD716-5747-42C9-8A2E-CFF2FC830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399A1E-4E11-4EF9-9B07-6D2F490D9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E8DB8C-9F4C-4A91-B023-0427EF09F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3E7516-87E1-40D1-843A-EBC9DEA24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0B3C0B-EFD3-4C33-8066-0418E8336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31B811-9F6F-413E-A5C9-C22B86046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7621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42C806-1F20-4AE5-9C20-CB3CC6719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744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102807-A0ED-4637-980C-0918D698D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7621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9139D9-75DD-428A-9096-4307F5463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7621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3B1399-7639-47C0-BF2B-C4FBF6324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7621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744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C8D939-371C-4CD0-8CCF-D9CF33CE7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3901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177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7621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3901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177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17E553-40AD-4EEC-A758-DAB1D3218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A82FCC-E130-46D5-9D5B-874940CEE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4E1474-A027-45E4-830E-FCA704772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A41E9F-7828-4866-B878-F697727BC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744C97-14FC-473F-A701-53180510E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EDA938-836A-4BB3-BF77-FB6264450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35DB51-A38F-4809-8BB0-8C1FDC864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2DE530-EFAE-4A0E-A519-137A11C47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7621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20510E-F75D-4AF6-B787-C90A672BC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744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5B9500-3001-40E7-8E61-AF373AACB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7621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2B2D4E-785C-499D-9971-C419964B1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7621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0E796C-C13D-4F5C-84C5-C5ADBCB56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7621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744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57B0A2-3710-468F-8AC4-3A4918C44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EAE0F1-EE6E-4C3E-8306-C4006CFBD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3901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0177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7621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3901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60177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991207-4683-4FA0-B674-207297147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1A3BA93-C241-4A9D-B722-426C30D93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0A23349-D05A-47B2-A6E9-C06DB0ABE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28B0963-6722-40AE-80E3-36C38F08A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D6F929-5E59-4C0D-B219-64E2E25C3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EC55D05-642C-4D9A-8121-8EBA216D6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DB53650-10AC-4687-9B54-EF228205B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7621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A813F3F-B9A8-43C9-A661-5D015F92B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744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4DAAA7A-6A12-4C7C-9F12-4FD9D95ED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7621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7B439FA-2181-4EED-A770-5C334BD0A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7621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F83E12-5406-4116-8675-46E797193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7621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9A35790-23AE-4CAE-94E0-DF32912CA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7621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744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689DB18-8636-4525-85D5-F65457E0C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3901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0177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7621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3901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60177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772C9B1-D9D4-4D02-A07B-73EB95315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B16FCFD-6B4E-4795-8FAC-776510FCC371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16FC943-7E36-4AFB-9480-E9704D828D09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F277833-2F3A-4016-9E84-F8BA0B06BEF2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E55D1E1-BF92-4ED3-A6D5-5A92C9ED3983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295E7DC-4BE2-4B9B-B5F1-F45894C02A6A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85C02C1-926C-4343-9E3C-D8641D43699B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7621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2069519-E479-4FBB-BD58-A64AC1AAD8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744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AED187-C7A3-4122-8BC8-762BFFB82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744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C30D8A7-073F-4780-BDDB-7B0430ED8E66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7621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61149D0-404B-43D6-AF7B-386D162541CF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7621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68CE7DF-BD68-48EB-90F9-62DAF93897F4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7621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744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287A9E7-13D4-4B42-A106-24F62BE1B6CB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3901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0177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7621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3901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60177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2559F2A-9A13-47D8-9FEB-B0F2063DB7BF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E421606-C66A-486D-AFB5-34AD6CA84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23F41C9-22B2-4958-A28F-1FB3B9031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6635A92-B2A2-40AD-B595-77A312B52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711DDD0-ABF0-43D6-BD80-6CC138BE0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91CD742-CF90-4362-AA4F-D40A6F1BE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7621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0658C2-243B-4E9F-A9E5-E063F0FE7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3072E4D-600F-491C-9229-32D95103F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7621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74EFFB2-E03F-407A-B7D8-5444708D6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744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A180670-8ED6-4F4C-8AE8-87D30FD87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7621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EA88586-F30C-4701-88F4-ED07983AE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7621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636B32E-2FA6-43E5-9A62-6B85B2791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7621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744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5B2C381-446C-438F-BE42-63EBACC86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3901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177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7621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3901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177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F5247D5-6CED-4583-ACA9-85974296D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CD0F2E-22ED-44B0-B602-CCA92FC8A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F944B9-9DA2-42CA-90E3-3C1AC36A6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043A22-833C-46BA-9DB9-0CD5E28E5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45.xml"/><Relationship Id="rId7" Type="http://schemas.openxmlformats.org/officeDocument/2006/relationships/slideLayout" Target="../slideLayouts/slideLayout146.xml"/><Relationship Id="rId8" Type="http://schemas.openxmlformats.org/officeDocument/2006/relationships/slideLayout" Target="../slideLayouts/slideLayout147.xml"/><Relationship Id="rId9" Type="http://schemas.openxmlformats.org/officeDocument/2006/relationships/slideLayout" Target="../slideLayouts/slideLayout148.xml"/><Relationship Id="rId10" Type="http://schemas.openxmlformats.org/officeDocument/2006/relationships/slideLayout" Target="../slideLayouts/slideLayout149.xml"/><Relationship Id="rId11" Type="http://schemas.openxmlformats.org/officeDocument/2006/relationships/slideLayout" Target="../slideLayouts/slideLayout150.xml"/><Relationship Id="rId12" Type="http://schemas.openxmlformats.org/officeDocument/2006/relationships/slideLayout" Target="../slideLayouts/slideLayout151.xml"/><Relationship Id="rId13" Type="http://schemas.openxmlformats.org/officeDocument/2006/relationships/slideLayout" Target="../slideLayouts/slideLayout152.xml"/><Relationship Id="rId14" Type="http://schemas.openxmlformats.org/officeDocument/2006/relationships/slideLayout" Target="../slideLayouts/slideLayout153.xml"/><Relationship Id="rId15" Type="http://schemas.openxmlformats.org/officeDocument/2006/relationships/slideLayout" Target="../slideLayouts/slideLayout154.xml"/><Relationship Id="rId16" Type="http://schemas.openxmlformats.org/officeDocument/2006/relationships/slideLayout" Target="../slideLayouts/slideLayout155.xml"/><Relationship Id="rId17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355FC-EFB4-43AD-8E51-5CD3572059B2}" type="slidenum">
              <a:rPr b="0" lang="zh-CN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CF99E-36A0-4A68-866D-5F0E9DE9292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body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51560" indent="-210240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472040" indent="-210240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1892520" indent="-210240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1892520" indent="-2102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1892520" indent="-2102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3" name=""/>
          <p:cNvSpPr/>
          <p:nvPr/>
        </p:nvSpPr>
        <p:spPr>
          <a:xfrm>
            <a:off x="0" y="2286000"/>
            <a:ext cx="53352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33520" y="2819520"/>
            <a:ext cx="533160" cy="53316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981080" y="533520"/>
            <a:ext cx="381240" cy="38088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62120" y="1066680"/>
            <a:ext cx="380880" cy="38124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143000" y="685800"/>
            <a:ext cx="380880" cy="38088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2362320" y="152280"/>
            <a:ext cx="380880" cy="38124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0" y="755640"/>
            <a:ext cx="5867280" cy="763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715000" y="609480"/>
            <a:ext cx="304920" cy="304920"/>
          </a:xfrm>
          <a:prstGeom prst="rect">
            <a:avLst/>
          </a:prstGeom>
          <a:solidFill>
            <a:srgbClr val="0099cc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5562720" y="457200"/>
            <a:ext cx="304560" cy="30492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8458200" y="3962520"/>
            <a:ext cx="380880" cy="380880"/>
          </a:xfrm>
          <a:prstGeom prst="rect">
            <a:avLst/>
          </a:prstGeom>
          <a:solidFill>
            <a:srgbClr val="0099cc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8686800" y="3657600"/>
            <a:ext cx="380880" cy="380880"/>
          </a:xfrm>
          <a:prstGeom prst="rect">
            <a:avLst/>
          </a:prstGeom>
          <a:solidFill>
            <a:srgbClr val="009999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14" name=""/>
          <p:cNvGrpSpPr/>
          <p:nvPr/>
        </p:nvGrpSpPr>
        <p:grpSpPr>
          <a:xfrm>
            <a:off x="0" y="2286000"/>
            <a:ext cx="1066680" cy="1066680"/>
            <a:chOff x="0" y="2286000"/>
            <a:chExt cx="1066680" cy="1066680"/>
          </a:xfrm>
        </p:grpSpPr>
        <p:sp>
          <p:nvSpPr>
            <p:cNvPr id="515" name=""/>
            <p:cNvSpPr/>
            <p:nvPr/>
          </p:nvSpPr>
          <p:spPr>
            <a:xfrm>
              <a:off x="0" y="2286000"/>
              <a:ext cx="533520" cy="53316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33520" y="281916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7" name="PlaceHolder 2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 type="dt" idx="29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b2b2b2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 type="ftr" idx="30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 type="sldNum" idx="31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8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6FE04-965A-4B78-9003-9A14A14B1D7D}" type="slidenum">
              <a:rPr b="1" lang="zh-CN" sz="28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1" name=""/>
          <p:cNvGrpSpPr/>
          <p:nvPr/>
        </p:nvGrpSpPr>
        <p:grpSpPr>
          <a:xfrm>
            <a:off x="762120" y="152280"/>
            <a:ext cx="1981080" cy="1295640"/>
            <a:chOff x="762120" y="152280"/>
            <a:chExt cx="1981080" cy="1295640"/>
          </a:xfrm>
        </p:grpSpPr>
        <p:sp>
          <p:nvSpPr>
            <p:cNvPr id="522" name=""/>
            <p:cNvSpPr/>
            <p:nvPr/>
          </p:nvSpPr>
          <p:spPr>
            <a:xfrm>
              <a:off x="1981440" y="533520"/>
              <a:ext cx="380880" cy="38088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62120" y="1066680"/>
              <a:ext cx="380880" cy="38124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1143000" y="685800"/>
              <a:ext cx="381240" cy="38088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362320" y="152280"/>
              <a:ext cx="380880" cy="38124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"/>
          <p:cNvSpPr/>
          <p:nvPr/>
        </p:nvSpPr>
        <p:spPr>
          <a:xfrm>
            <a:off x="2895480" y="4303800"/>
            <a:ext cx="3276720" cy="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4" name=""/>
          <p:cNvSpPr/>
          <p:nvPr/>
        </p:nvSpPr>
        <p:spPr>
          <a:xfrm>
            <a:off x="0" y="1066680"/>
            <a:ext cx="868680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65" name=""/>
          <p:cNvGrpSpPr/>
          <p:nvPr/>
        </p:nvGrpSpPr>
        <p:grpSpPr>
          <a:xfrm>
            <a:off x="533520" y="0"/>
            <a:ext cx="3276360" cy="2133720"/>
            <a:chOff x="533520" y="0"/>
            <a:chExt cx="3276360" cy="2133720"/>
          </a:xfrm>
        </p:grpSpPr>
        <p:sp>
          <p:nvSpPr>
            <p:cNvPr id="566" name=""/>
            <p:cNvSpPr/>
            <p:nvPr/>
          </p:nvSpPr>
          <p:spPr>
            <a:xfrm>
              <a:off x="1600200" y="1066680"/>
              <a:ext cx="53352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133720" y="160020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74320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276720" y="106668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06668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72" name=""/>
          <p:cNvGrpSpPr/>
          <p:nvPr/>
        </p:nvGrpSpPr>
        <p:grpSpPr>
          <a:xfrm>
            <a:off x="533520" y="0"/>
            <a:ext cx="3276000" cy="2133720"/>
            <a:chOff x="533520" y="0"/>
            <a:chExt cx="3276000" cy="2133720"/>
          </a:xfrm>
        </p:grpSpPr>
        <p:sp>
          <p:nvSpPr>
            <p:cNvPr id="573" name=""/>
            <p:cNvSpPr/>
            <p:nvPr/>
          </p:nvSpPr>
          <p:spPr>
            <a:xfrm>
              <a:off x="1599840" y="1067040"/>
              <a:ext cx="533160" cy="53316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133360" y="160020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2742840" y="53352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3276360" y="1067040"/>
              <a:ext cx="533160" cy="53316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066680" y="533520"/>
              <a:ext cx="532800" cy="53352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9" name=""/>
          <p:cNvSpPr/>
          <p:nvPr/>
        </p:nvSpPr>
        <p:spPr>
          <a:xfrm>
            <a:off x="4114800" y="4191120"/>
            <a:ext cx="210960" cy="210960"/>
          </a:xfrm>
          <a:prstGeom prst="rect">
            <a:avLst/>
          </a:prstGeom>
          <a:solidFill>
            <a:srgbClr val="0099cc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419720" y="4191120"/>
            <a:ext cx="210960" cy="210960"/>
          </a:xfrm>
          <a:prstGeom prst="rect">
            <a:avLst/>
          </a:prstGeom>
          <a:solidFill>
            <a:srgbClr val="0099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724280" y="4191120"/>
            <a:ext cx="211320" cy="210960"/>
          </a:xfrm>
          <a:prstGeom prst="rect">
            <a:avLst/>
          </a:prstGeom>
          <a:solidFill>
            <a:srgbClr val="00cc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dt" idx="32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b2b2b2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 type="ftr" idx="33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 type="sldNum" idx="34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32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C2F05-5234-4578-ACC3-3FFEBC22288D}" type="slidenum">
              <a:rPr b="1" lang="zh-CN" sz="3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1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622" name=""/>
            <p:cNvSpPr/>
            <p:nvPr/>
          </p:nvSpPr>
          <p:spPr>
            <a:xfrm>
              <a:off x="457200" y="76320"/>
              <a:ext cx="8229600" cy="3808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76320" y="457200"/>
              <a:ext cx="380880" cy="59436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457200" y="6400800"/>
              <a:ext cx="8229600" cy="38088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8686800" y="457200"/>
              <a:ext cx="380880" cy="59436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457200" y="457200"/>
              <a:ext cx="8229600" cy="5943600"/>
            </a:xfrm>
            <a:prstGeom prst="rect">
              <a:avLst/>
            </a:prstGeom>
            <a:noFill/>
            <a:ln cap="sq" w="57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76320" y="76320"/>
              <a:ext cx="8991360" cy="6705360"/>
            </a:xfrm>
            <a:prstGeom prst="rect">
              <a:avLst/>
            </a:prstGeom>
            <a:noFill/>
            <a:ln cap="sq"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28" name=""/>
            <p:cNvGrpSpPr/>
            <p:nvPr/>
          </p:nvGrpSpPr>
          <p:grpSpPr>
            <a:xfrm>
              <a:off x="0" y="0"/>
              <a:ext cx="609480" cy="609480"/>
              <a:chOff x="0" y="0"/>
              <a:chExt cx="609480" cy="609480"/>
            </a:xfrm>
          </p:grpSpPr>
          <p:sp>
            <p:nvSpPr>
              <p:cNvPr id="629" name=""/>
              <p:cNvSpPr/>
              <p:nvPr/>
            </p:nvSpPr>
            <p:spPr>
              <a:xfrm>
                <a:off x="0" y="0"/>
                <a:ext cx="609480" cy="60948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160200" y="160200"/>
                <a:ext cx="289080" cy="289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57575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31" name=""/>
            <p:cNvGrpSpPr/>
            <p:nvPr/>
          </p:nvGrpSpPr>
          <p:grpSpPr>
            <a:xfrm>
              <a:off x="0" y="6246720"/>
              <a:ext cx="609480" cy="609840"/>
              <a:chOff x="0" y="6246720"/>
              <a:chExt cx="609480" cy="609840"/>
            </a:xfrm>
          </p:grpSpPr>
          <p:sp>
            <p:nvSpPr>
              <p:cNvPr id="632" name=""/>
              <p:cNvSpPr/>
              <p:nvPr/>
            </p:nvSpPr>
            <p:spPr>
              <a:xfrm>
                <a:off x="0" y="6246720"/>
                <a:ext cx="609480" cy="60984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160200" y="6407280"/>
                <a:ext cx="289080" cy="288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57575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34" name=""/>
            <p:cNvGrpSpPr/>
            <p:nvPr/>
          </p:nvGrpSpPr>
          <p:grpSpPr>
            <a:xfrm>
              <a:off x="8532720" y="6246720"/>
              <a:ext cx="609840" cy="609840"/>
              <a:chOff x="8532720" y="6246720"/>
              <a:chExt cx="609840" cy="609840"/>
            </a:xfrm>
          </p:grpSpPr>
          <p:sp>
            <p:nvSpPr>
              <p:cNvPr id="635" name=""/>
              <p:cNvSpPr/>
              <p:nvPr/>
            </p:nvSpPr>
            <p:spPr>
              <a:xfrm>
                <a:off x="8532720" y="6246720"/>
                <a:ext cx="609840" cy="60984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8693280" y="6407280"/>
                <a:ext cx="288720" cy="288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57575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37" name=""/>
            <p:cNvGrpSpPr/>
            <p:nvPr/>
          </p:nvGrpSpPr>
          <p:grpSpPr>
            <a:xfrm>
              <a:off x="8532720" y="0"/>
              <a:ext cx="609840" cy="609480"/>
              <a:chOff x="8532720" y="0"/>
              <a:chExt cx="609840" cy="609480"/>
            </a:xfrm>
          </p:grpSpPr>
          <p:sp>
            <p:nvSpPr>
              <p:cNvPr id="638" name=""/>
              <p:cNvSpPr/>
              <p:nvPr/>
            </p:nvSpPr>
            <p:spPr>
              <a:xfrm>
                <a:off x="8532720" y="0"/>
                <a:ext cx="609840" cy="60948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8693280" y="160200"/>
                <a:ext cx="288720" cy="289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57575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1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2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3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4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5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6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 type="dt" idx="35"/>
          </p:nvPr>
        </p:nvSpPr>
        <p:spPr>
          <a:xfrm>
            <a:off x="6705720" y="5486400"/>
            <a:ext cx="18288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8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Monotype Corsiva"/>
              </a:rPr>
              <a:t>&lt;date/time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 type="ftr" idx="3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 type="sldNum" idx="3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7E580-C3FA-48CB-BF6B-BD93495EE0F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6"/>
    <p:sldLayoutId id="2147483806" r:id="rId7"/>
    <p:sldLayoutId id="2147483807" r:id="rId8"/>
    <p:sldLayoutId id="2147483808" r:id="rId9"/>
    <p:sldLayoutId id="2147483809" r:id="rId10"/>
    <p:sldLayoutId id="2147483810" r:id="rId11"/>
    <p:sldLayoutId id="2147483811" r:id="rId12"/>
    <p:sldLayoutId id="2147483812" r:id="rId13"/>
    <p:sldLayoutId id="2147483813" r:id="rId14"/>
    <p:sldLayoutId id="2147483814" r:id="rId15"/>
    <p:sldLayoutId id="2147483815" r:id="rId16"/>
    <p:sldLayoutId id="2147483816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B6CE3-D0CA-4F28-B7DA-8AFF3F945D25}" type="slidenum">
              <a:rPr b="0" lang="zh-CN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"/>
          <p:cNvGrpSpPr/>
          <p:nvPr/>
        </p:nvGrpSpPr>
        <p:grpSpPr>
          <a:xfrm>
            <a:off x="-8405280" y="4680"/>
            <a:ext cx="17538120" cy="27381240"/>
            <a:chOff x="-8405280" y="4680"/>
            <a:chExt cx="17538120" cy="27381240"/>
          </a:xfrm>
        </p:grpSpPr>
        <p:sp>
          <p:nvSpPr>
            <p:cNvPr id="127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-8405280" y="4680"/>
              <a:ext cx="773094112920" cy="27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0"/>
                </a:path>
              </a:pathLst>
            </a:custGeom>
            <a:noFill/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E314B-636D-4528-94FD-426C95054DEB}" type="slidenum"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"/>
          <p:cNvGrpSpPr/>
          <p:nvPr/>
        </p:nvGrpSpPr>
        <p:grpSpPr>
          <a:xfrm>
            <a:off x="-93752280" y="1463760"/>
            <a:ext cx="171988200" cy="21589560"/>
            <a:chOff x="-93752280" y="1463760"/>
            <a:chExt cx="171988200" cy="21589560"/>
          </a:xfrm>
        </p:grpSpPr>
        <p:sp>
          <p:nvSpPr>
            <p:cNvPr id="171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-93752280" y="1463760"/>
              <a:ext cx="171988200" cy="215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"/>
                </a:path>
              </a:pathLst>
            </a:custGeom>
            <a:noFill/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dt" idx="10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ftr" idx="11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sldNum" idx="12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DE4F4-BE4D-4C25-8A95-F9756CEC6B8E}" type="slidenum">
              <a: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14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218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19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220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27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8977B-5BEB-4E12-9195-78399E51A3C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4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275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7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279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281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86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88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E4023-A7F6-45D6-89E5-AA2B420FF1B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" descr=""/>
          <p:cNvPicPr/>
          <p:nvPr/>
        </p:nvPicPr>
        <p:blipFill>
          <a:blip r:embed="rId2"/>
          <a:stretch/>
        </p:blipFill>
        <p:spPr>
          <a:xfrm>
            <a:off x="0" y="4303800"/>
            <a:ext cx="9144000" cy="255420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3"/>
          <a:stretch/>
        </p:blipFill>
        <p:spPr>
          <a:xfrm>
            <a:off x="8686800" y="64008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 type="sldNum" idx="19"/>
          </p:nvPr>
        </p:nvSpPr>
        <p:spPr>
          <a:xfrm>
            <a:off x="8686800" y="6459480"/>
            <a:ext cx="3808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5A571-D22B-49B4-B8CD-11F341413077}" type="slidenum">
              <a:rPr b="0" lang="zh-CN" sz="1400" spc="-1" strike="noStrike">
                <a:solidFill>
                  <a:srgbClr val="ffff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4"/>
          <a:stretch/>
        </p:blipFill>
        <p:spPr>
          <a:xfrm>
            <a:off x="609480" y="0"/>
            <a:ext cx="1685880" cy="6858000"/>
          </a:xfrm>
          <a:prstGeom prst="rect">
            <a:avLst/>
          </a:prstGeom>
          <a:ln w="0">
            <a:noFill/>
          </a:ln>
        </p:spPr>
      </p:pic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2438280" y="762120"/>
            <a:ext cx="60199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title"/>
          </p:nvPr>
        </p:nvSpPr>
        <p:spPr>
          <a:xfrm>
            <a:off x="861480" y="774720"/>
            <a:ext cx="1143000" cy="53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377" name="" descr=""/>
            <p:cNvPicPr/>
            <p:nvPr/>
          </p:nvPicPr>
          <p:blipFill>
            <a:blip r:embed="rId2"/>
            <a:stretch/>
          </p:blipFill>
          <p:spPr>
            <a:xfrm>
              <a:off x="1676520" y="4772160"/>
              <a:ext cx="7467480" cy="208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8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68588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9" name="" descr=""/>
            <p:cNvPicPr/>
            <p:nvPr/>
          </p:nvPicPr>
          <p:blipFill>
            <a:blip r:embed="rId4"/>
            <a:stretch/>
          </p:blipFill>
          <p:spPr>
            <a:xfrm>
              <a:off x="304920" y="1371600"/>
              <a:ext cx="8534160" cy="3772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dt" idx="2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ftr" idx="2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 type="sldNum" idx="2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22B46-12A6-49BF-BD14-0E62CD31DCB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2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ftr" idx="2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sldNum" idx="2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E1B1C-BE82-4C2E-B77D-E4B8BD9CE4E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"/>
          <p:cNvSpPr/>
          <p:nvPr/>
        </p:nvSpPr>
        <p:spPr>
          <a:xfrm>
            <a:off x="1187280" y="2449440"/>
            <a:ext cx="6626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5. </a:t>
            </a:r>
            <a:r>
              <a:rPr b="1" lang="en-US" sz="4800" spc="-1" strike="noStrike">
                <a:solidFill>
                  <a:srgbClr val="ffff00"/>
                </a:solidFill>
                <a:latin typeface="Arial Black"/>
              </a:rPr>
              <a:t>why don’t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 you do something about it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/>
          </p:nvPr>
        </p:nvSpPr>
        <p:spPr>
          <a:xfrm>
            <a:off x="324000" y="1989000"/>
            <a:ext cx="853272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7279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1. There seems (to be)…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2. I would like you to…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3. It  looks as if…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4. I insist that you (should)…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5. why don’t you do something about it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6" name=""/>
          <p:cNvSpPr txBox="1"/>
          <p:nvPr/>
        </p:nvSpPr>
        <p:spPr>
          <a:xfrm>
            <a:off x="2843280" y="981000"/>
            <a:ext cx="3390840" cy="99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 Black"/>
              </a:rPr>
              <a:t>Oral practic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p:transition spd="med"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7" name="" descr=""/>
          <p:cNvPicPr/>
          <p:nvPr/>
        </p:nvPicPr>
        <p:blipFill>
          <a:blip r:embed="rId1"/>
          <a:stretch/>
        </p:blipFill>
        <p:spPr>
          <a:xfrm>
            <a:off x="468360" y="441360"/>
            <a:ext cx="8136000" cy="5840280"/>
          </a:xfrm>
          <a:prstGeom prst="rect">
            <a:avLst/>
          </a:prstGeom>
          <a:ln w="0">
            <a:noFill/>
          </a:ln>
        </p:spPr>
      </p:pic>
      <p:sp>
        <p:nvSpPr>
          <p:cNvPr id="698" name=""/>
          <p:cNvSpPr txBox="1"/>
          <p:nvPr/>
        </p:nvSpPr>
        <p:spPr>
          <a:xfrm>
            <a:off x="3203640" y="1628640"/>
            <a:ext cx="2727360" cy="169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Thanks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699" name=""/>
          <p:cNvSpPr txBox="1"/>
          <p:nvPr/>
        </p:nvSpPr>
        <p:spPr>
          <a:xfrm>
            <a:off x="3132000" y="2997360"/>
            <a:ext cx="3168720" cy="122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hanks</a:t>
            </a:r>
            <a:endParaRPr b="1" lang="en-US" sz="40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2339640" y="1341000"/>
            <a:ext cx="4103640" cy="107964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Black"/>
              </a:rPr>
              <a:t>At the shop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2" name=""/>
          <p:cNvSpPr/>
          <p:nvPr/>
        </p:nvSpPr>
        <p:spPr>
          <a:xfrm>
            <a:off x="1403280" y="3429000"/>
            <a:ext cx="62658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 Black"/>
              </a:rPr>
              <a:t>How to talk when shopping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1331640" y="1773360"/>
            <a:ext cx="6264360" cy="302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Arial Black"/>
              </a:rPr>
              <a:t>What’s happening?</a:t>
            </a:r>
            <a:br>
              <a:rPr sz="48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shop assistant and a customer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6840" y="1988640"/>
            <a:ext cx="8939160" cy="4030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100800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3300"/>
                </a:solidFill>
                <a:latin typeface="Arial Black"/>
              </a:rPr>
              <a:t>?</a:t>
            </a:r>
            <a:r>
              <a:rPr b="0" lang="en-US" sz="9600" spc="-1" strike="noStrike">
                <a:solidFill>
                  <a:srgbClr val="e3e3ff"/>
                </a:solidFill>
                <a:latin typeface="Arial Black"/>
              </a:rPr>
              <a:t> </a:t>
            </a:r>
            <a:r>
              <a:rPr b="0" lang="en-US" sz="9600" spc="-1" strike="noStrike">
                <a:solidFill>
                  <a:srgbClr val="e3e3ff"/>
                </a:solidFill>
                <a:latin typeface="Arial"/>
              </a:rPr>
              <a:t>    </a:t>
            </a:r>
            <a:endParaRPr b="0" lang="en-US" sz="9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68360" y="1457280"/>
            <a:ext cx="84247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 Black"/>
              </a:rPr>
              <a:t>1 </a:t>
            </a: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what did the customer buy 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2 Why did she return to the shop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3 what did she want the assistant to d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4 what did they both agree to do at las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6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" dur="80"/>
                                        <p:tgtEl>
                                          <p:spTgt spid="6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8" name=""/>
          <p:cNvSpPr/>
          <p:nvPr/>
        </p:nvSpPr>
        <p:spPr>
          <a:xfrm>
            <a:off x="3434760" y="3213000"/>
            <a:ext cx="190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anguage stud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"/>
          <p:cNvSpPr txBox="1"/>
          <p:nvPr/>
        </p:nvSpPr>
        <p:spPr>
          <a:xfrm>
            <a:off x="2411280" y="2492280"/>
            <a:ext cx="431964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language study</a:t>
            </a:r>
            <a:endParaRPr b="0" lang="en-US" sz="4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"/>
          <p:cNvSpPr/>
          <p:nvPr/>
        </p:nvSpPr>
        <p:spPr>
          <a:xfrm>
            <a:off x="900000" y="2133720"/>
            <a:ext cx="7201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1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. </a:t>
            </a:r>
            <a:r>
              <a:rPr b="1" lang="en-US" sz="4800" spc="-1" strike="noStrike">
                <a:solidFill>
                  <a:srgbClr val="ffff00"/>
                </a:solidFill>
                <a:latin typeface="Arial Black"/>
              </a:rPr>
              <a:t>There seems to be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 something wrong with it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"/>
          <p:cNvSpPr/>
          <p:nvPr/>
        </p:nvSpPr>
        <p:spPr>
          <a:xfrm>
            <a:off x="1116000" y="2349360"/>
            <a:ext cx="7416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2. I </a:t>
            </a:r>
            <a:r>
              <a:rPr b="1" lang="en-US" sz="4800" spc="-1" strike="noStrike">
                <a:solidFill>
                  <a:srgbClr val="ffff00"/>
                </a:solidFill>
                <a:latin typeface="Arial Black"/>
              </a:rPr>
              <a:t>would like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 you </a:t>
            </a:r>
            <a:r>
              <a:rPr b="1" lang="en-US" sz="4800" spc="-1" strike="noStrike">
                <a:solidFill>
                  <a:srgbClr val="ffff00"/>
                </a:solidFill>
                <a:latin typeface="Arial Black"/>
              </a:rPr>
              <a:t>to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 change this blouse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"/>
          <p:cNvSpPr/>
          <p:nvPr/>
        </p:nvSpPr>
        <p:spPr>
          <a:xfrm>
            <a:off x="395280" y="2149560"/>
            <a:ext cx="8640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3. </a:t>
            </a:r>
            <a:r>
              <a:rPr b="1" lang="en-US" sz="4800" spc="-1" strike="noStrike">
                <a:solidFill>
                  <a:srgbClr val="ffff00"/>
                </a:solidFill>
                <a:latin typeface="Arial Black"/>
              </a:rPr>
              <a:t>It looks as if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 it has not been washed following the instruction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"/>
          <p:cNvSpPr/>
          <p:nvPr/>
        </p:nvSpPr>
        <p:spPr>
          <a:xfrm>
            <a:off x="539640" y="2378160"/>
            <a:ext cx="820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4. I </a:t>
            </a:r>
            <a:r>
              <a:rPr b="1" lang="en-US" sz="4800" spc="-1" strike="noStrike">
                <a:solidFill>
                  <a:srgbClr val="ffff00"/>
                </a:solidFill>
                <a:latin typeface="Arial Black"/>
              </a:rPr>
              <a:t>insist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 that you give me my money back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03:21:52Z</dcterms:created>
  <dc:creator>zz</dc:creator>
  <dc:description/>
  <dc:language>en-US</dc:language>
  <cp:lastModifiedBy>Legend User</cp:lastModifiedBy>
  <dcterms:modified xsi:type="dcterms:W3CDTF">2002-12-01T06:49:10Z</dcterms:modified>
  <cp:revision>18</cp:revision>
  <dc:subject/>
  <dc:title>介绍演讲者</dc:title>
</cp:coreProperties>
</file>