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275-7027-4588-B34C-86F0A361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8DA-BD88-427E-ADA0-C1CEF893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E47-866C-48B3-BCBB-443BE5B0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C25-8EAA-4393-ACEC-FE1D4108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EF5-18B3-4E0D-AB79-CF544247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DCC-1C92-4231-9AAE-9E389858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14C-06F9-418F-89A7-0F73F4E5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55A-CA78-4A58-BF21-59B3E724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E4C-2407-4923-8597-B101C549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6A5-283C-4B79-93AF-D3178DD1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310-4D89-4E7B-B3B5-FA737F11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1CA-1C48-434A-9140-FB3B96B5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AF88-FD18-4215-8789-FE521671DF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8001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基本的用法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要代表刚提到的东西以避免重复。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ook at that car. It’s going much too fast.  Eg2: Where is the car key? ---- I put it in your dra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代表抽象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ll my faul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指动物或未知性别的婴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at a beautiful baby--- is it a boy? Eg2: How about the baby? ---- I’ll take care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代表一个彼此都知其何所指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ere does it hurt?  Eg2: If he doesn’t come, I can’t help it.  Eg3: You have saved my life. I shall never forget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99601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引导的主语从句，有下面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atural that they should have different view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shame that you’re s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happened that she wasn’t in that 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never occurred to me that perhaps she was ly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said/believed/thought/expected/report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known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said that there has been an earthquake in Indi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84582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代表不定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he found it difficult to convince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He felt it his duty to take care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took it for granted (that) you would be com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或代表连接代（副）词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e hasn’t made it clear when he is coming bac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They haven’t made it known where the meeting is to take pl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52280"/>
            <a:ext cx="89154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clear to me why he behaved like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puzzle how life be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doesn’t matter much where we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makes no difference whether we go by train or by boa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decided who will edit i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549360"/>
            <a:ext cx="820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, it couldn’t be that they were interested in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点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was Christmas Eve when I got the news of his being killed in a car cr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段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sin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/has been three week since I last heard from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is time to do/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用过去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ime for us to gi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is time that we ga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6600" y="765000"/>
            <a:ext cx="8530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be + the first/second time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动词用完成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he first time in history that two Nobel Prizes have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warded to the same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takes sb. Time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took Mary 20 minutes to choose a suitable dress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96400" y="496800"/>
            <a:ext cx="8009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The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live/stand/lie/ex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tands a big tree at the entrance to the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lay a ditch two metres wide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There come/go/appear/occur/follow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描述某事的发生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个动作的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will follow a break of 10 minutes and then w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o on with the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568440"/>
            <a:ext cx="814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There being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独立主格结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being nothing left in the fridge, we had to do 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hopping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…there to 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常见于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nd, mean, consider, h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词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 one would expect there to be a war in his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 don’t want there to be another accident like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1770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There is no need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need to wait for the bus since we can take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our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名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, good, harm, sense, 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is n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in do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point in arguing with him. He won’t list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ere appear/seem/is likely/is certain to b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eems to be something wrong with the electric f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is likely to be more people at the speech co0n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n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28600"/>
            <a:ext cx="7848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强调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调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who(whom)/tha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他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用来对句子的某一成分加以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Eg: Nancy saw your sister in Tokyo last wee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Nancy</a:t>
            </a:r>
            <a:r>
              <a:rPr b="1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aw your sister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your sis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m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in Toky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Nancy saw your sister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last week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your sister in Tok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0"/>
            <a:ext cx="7696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否定句也可以改成这种强调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hear from her until last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until last summer that I heard from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do all this for mysel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for myself that I did all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句也可变成这种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Who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ho was it that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How did you forge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w was it that you forgo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762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053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72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9000"/>
            <a:ext cx="82296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人称代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代替指示代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表示“是谁（在某处或做某事）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“Who’s that?” “It’s me.” Eg2: It’s your mother on the phone.  Eg3: “Why, it’s you!” she cr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以用来泛指某件事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sn’t it aw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doesn’t ma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时并不指具体东西，而指天气、时间、环境、距离等，称为非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raining. Eg2: It’s Tuesday today.  Eg3: It’s quiet here. Eg4: It’s two miles to the be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85800"/>
            <a:ext cx="75438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x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把下列句子改为强调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m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broke the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ndo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s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nigh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nt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mon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saw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his frie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the par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 I didn’t have an opportunity  of seeing her agai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veral year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does everyone think I’m narrow-mi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 I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dn’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receive my letter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til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7. Did 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c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call the meeting last w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8. Did it happe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198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3520" y="352440"/>
            <a:ext cx="97988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替代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one, ones, that, those, it, this,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, ones, that,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单数可数名词或不可数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替换单数的可数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vase on the left is more beautiful than the one on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ffee produced in Brazil is more famous than tha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e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用于替换表示事物的名词， 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表示人和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的名词皆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is younger sister is taller than the eld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need tha plastic bags, not the paper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6960" y="352440"/>
            <a:ext cx="8562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mputers in our school are connected to the Interne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in their school ar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football players on our team seem to be more energetic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on your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定冠词的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不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冠词的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style of the building is similar to that of a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CD player made in Japan costs more than one mad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ng K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5600" y="1052640"/>
            <a:ext cx="804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不带前置定语，但必须有后置定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。当替换词的后置定语用所有格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语或当替换词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格修饰时，不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 of/those 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like the vase better than the one / that in another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windows of your flat are cleaner than those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grandparent’s job is easier than that of a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920" y="496800"/>
            <a:ext cx="86954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) it, this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以替代前文已提到的事或情况，细微差别在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如其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者那么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o she decided to paint the door pink. It upset the neighb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o she decided to paint the house pink. That really upse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ighbours, as you can ima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前面提到的事物不止一件时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指最先提到的事物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/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指最后提到的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960" y="476280"/>
            <a:ext cx="8902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e keep the ice cream machine in the spare room. It is mai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used by the children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keep the ice cream machine in the spare room. This/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s mainly used by the childre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spare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出现在它所指代的事物之前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指上文所提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isten to this! We will have three days o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penny saved is a penny earned.” Who said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9320" y="568440"/>
            <a:ext cx="8483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) I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以指特定的前面提到过的事物，即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替换的是同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无修饰语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与前提事物有共同之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并不完全一样的事物，因此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前或之后一定有修饰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加以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bought a dictionary three years ago and I am still using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bought a dictionary three years ago but I am going to 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new one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144000" cy="49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主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有下面几种类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tter to be ear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was his duty to take care of the orphan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介词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yond me to say wh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物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makes me sick to think about i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名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no good standing here in the col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+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容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helpless trying to convince he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其他结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 doesn’t matter waiting a few more days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8:49:25Z</dcterms:created>
  <dc:creator>weiyu</dc:creator>
  <dc:description/>
  <dc:language>en-US</dc:language>
  <cp:lastModifiedBy>wxd</cp:lastModifiedBy>
  <dcterms:modified xsi:type="dcterms:W3CDTF">2003-06-28T10:11:20Z</dcterms:modified>
  <cp:revision>23</cp:revision>
  <dc:subject/>
  <dc:title>PowerPoint 演示文稿</dc:title>
</cp:coreProperties>
</file>