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0E4D-0F54-4302-BAC8-6445727E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702F-8EBC-494C-ACE7-0E71B8A3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6527-B34F-4AB3-B312-5F825B7D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7323-6AA6-4A6E-BA69-627A24D0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406E-090C-4A93-9310-7EF4AE97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6ABF-35B6-4EA8-8111-DC911F66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7B70-B88B-4620-84FB-5A13DF3C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1CD1-1FC9-4611-9514-7BFCEE1F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156-DCE3-4A80-BD80-DA238108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BE11-7D6D-4733-85D6-ADEFD271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181-67DD-43F1-A67A-A7801143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0FC3-6556-46D4-BEEA-2CD61513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AECC-CB61-4153-9247-AAA14E3D6A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859240YIZAAgwxQ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0720" y="33660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Money is not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It can buy you a house but not a 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It can buy you a bed but not slee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6694789DCxkenpKXn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0" y="289548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a clock but no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books but not knowled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6695026qjUlFEoDK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5480" y="1523880"/>
            <a:ext cx="5953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blood but not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sex but not lo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6793365FabZdmYCCF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518148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a position but not resp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medicine but not heal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6695245LzskAPqpjQ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05120" y="2590920"/>
            <a:ext cx="693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ney may not be the root of all evi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 it often brings us anguish and regr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694891lLxigTZtRh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2286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I would like to tell you how to solve the problem, my dear frien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d I hope you will forward the solution to other friends of yo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6694676DHnqOTFmA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5280" y="457200"/>
            <a:ext cx="61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Give all your money to me. Let me suffer from the anguish for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Right now, Ok? :-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06:32:35Z</dcterms:created>
  <dc:creator>Peggy Pan</dc:creator>
  <dc:description/>
  <dc:language>en-US</dc:language>
  <cp:lastModifiedBy>Lyq</cp:lastModifiedBy>
  <dcterms:modified xsi:type="dcterms:W3CDTF">2001-12-14T06:41:37Z</dcterms:modified>
  <cp:revision>19</cp:revision>
  <dc:subject/>
  <dc:title>没有幻灯片标题</dc:title>
</cp:coreProperties>
</file>