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75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17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70.xml.rels" ContentType="application/vnd.openxmlformats-package.relationships+xml"/>
  <Override PartName="/ppt/slides/_rels/slide63.xml.rels" ContentType="application/vnd.openxmlformats-package.relationships+xml"/>
  <Override PartName="/ppt/slides/_rels/slide5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E0283-46B0-469C-A5C8-4E4BE1B19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07E9-0F21-4353-A3CB-4203665C8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9F92-EF4B-4838-AB61-95A2A431D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A894F-846D-404D-895E-BB6E9D5346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7CF16-EAA8-402A-BB1A-94167E9AA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D6E24-7C14-40FE-B8AF-DE97D8F5F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14EFB-E379-4F07-99AF-D59F82E46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67CFB-5C5F-427B-BD54-23FB4D06C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73242-9902-46E9-8A9B-0AB923BAA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C5F13-E87F-4D09-B03C-9EB4C2440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281AB-C754-4DAC-A6E6-6C10F70A3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74190-9E0F-4D39-8760-819D34E68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935BD-BDDB-4DF3-B7C0-2D46062D7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9975B-560D-4BA6-BC3E-DE97BD5FA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69BDD6-57E0-4D44-BD39-4AAC2A884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838CB-7EAC-405E-9AB9-D3BF94516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DFA79-E6E8-46E4-8129-3438D8AFB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A5FD6-1E5F-4EED-9C31-65DA01F7C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0E922-4146-4B89-8484-BF6281D5B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6056B-129B-4E63-B359-27F28752D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58AB1-A35C-44DD-944A-FA742CC62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D4069-DDCE-4B8A-B2E6-70116D1A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FECF-6B53-413A-9528-BA73AF384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0EE43-D46A-4E97-BDBC-59C07253C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1BEF4-7FB6-4911-9C3A-968C6120A975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FC64A-B9F2-4DBE-BC90-90C649E74AF0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年级  高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学科  英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1BU25   At the Conference (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下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播放时间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月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19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日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星期四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 9:10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讲课教师   邢淑琴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          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首都师大育新中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899640" y="1676520"/>
            <a:ext cx="8015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2251"/>
              </a:spcBef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- Is John coming by trai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- He should, but he ____ not. 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ikes driving his ca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must    B. can     C. need  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D. ma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(NMET2002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Choose the answe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899640" y="1828800"/>
            <a:ext cx="8015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. ---- My house is very near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otorwa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- It ____ be very nois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may   B. can   C. must   D. might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442440" y="609120"/>
            <a:ext cx="8015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Choose the answe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. ---- My house is very near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otorwa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- It ____ be very nois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may   B. can  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C. must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D. might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Choose the answe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Choose the answe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143000" y="1973160"/>
            <a:ext cx="6858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990720" y="1676520"/>
            <a:ext cx="7315200" cy="42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. ---- Are you coming to Jeff’s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art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- I’m not sure. I ____ go to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ncert instea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must         B. would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 should      D. might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(NMET2000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685800" y="1699920"/>
            <a:ext cx="777240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1000"/>
          </a:bodyPr>
          <a:p>
            <a:pPr marL="27756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. ---- Are you coming to Jeff’s part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7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- I’m not sure. I ____ go to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7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ncert instea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7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must         B. would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7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 should     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D. migh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7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             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(NMET2000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7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277560" indent="0">
              <a:lnSpc>
                <a:spcPct val="7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Choose the answe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4. The restaurant _____ be very good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t’s always empt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can’t              B. may not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 could             D. mu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Choose the answe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4. The restaurant _____ be very good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t’s always empt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A. can’t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B. may not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. could             D. mu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Choose the answe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2193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ceive an invitation to ..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19320" y="1949400"/>
            <a:ext cx="6095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ccept the invitation 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219320" y="3112920"/>
            <a:ext cx="792468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ive a talk on … knew nothing ..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219320" y="3854520"/>
            <a:ext cx="601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ake a careless mistake 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4572000"/>
            <a:ext cx="673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r. Lively… talk on ENT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19320" y="5105520"/>
            <a:ext cx="5790960" cy="6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ive a very good talk 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219320" y="25588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rrive… were surprised 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            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Retell the tex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3048120" y="1905120"/>
            <a:ext cx="2209680" cy="198108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219320" y="438768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received an invitation to ..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            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Retell the tex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676160" y="2590560"/>
            <a:ext cx="2971800" cy="2819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received an invitation t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a Medical Conference in Londo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4648320" y="2766960"/>
            <a:ext cx="2286000" cy="21859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            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Retell the tex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057400" y="202572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ne day Dr. Bak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Unit 25</a:t>
            </a:r>
            <a:br>
              <a:rPr sz="4400"/>
            </a:br>
            <a:r>
              <a:rPr b="0" lang="zh-CN" sz="4400" spc="-1" strike="noStrike">
                <a:solidFill>
                  <a:srgbClr val="ffcc66"/>
                </a:solidFill>
                <a:latin typeface="Times New Roman"/>
              </a:rPr>
              <a:t>At the conference 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(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下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523880" y="2133720"/>
            <a:ext cx="586764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2971800" y="1981080"/>
            <a:ext cx="2286000" cy="198144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          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Retell the tex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295280" y="444816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ccepted the invitation 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4211640" y="2637000"/>
            <a:ext cx="2417760" cy="237636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752480" y="2362320"/>
            <a:ext cx="2286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ough he was a bit surprised, because he wasn’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             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Retell the tex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752480" y="17524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accepted the invit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52480" y="5105520"/>
            <a:ext cx="502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 expert on DN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3124080" y="2057400"/>
            <a:ext cx="2210040" cy="19810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1219320" y="4295880"/>
            <a:ext cx="662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rrived… were surprised 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             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Retell the tex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4859280" y="2565360"/>
            <a:ext cx="2527200" cy="275904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1752480"/>
            <a:ext cx="320040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en he 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arriv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, some people 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were also surpris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to see him ther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38080" y="7621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             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Retell the tex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Retell the tex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3348000" y="1773360"/>
            <a:ext cx="2232000" cy="21603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2050920" y="4292640"/>
            <a:ext cx="482616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right speaker …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o give a talk on …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knew nothing ..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68580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Retell the tex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5651640" y="3573360"/>
            <a:ext cx="2361960" cy="190512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1371600" y="3429000"/>
            <a:ext cx="403848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e was even more surprised, because he 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knew nothing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about it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371600" y="1676520"/>
            <a:ext cx="7238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n that morning, 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the right speaker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couldn’t come, and Dr. Baker was asked  to 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give a talk on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DN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Retell the tex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3203640" y="2205000"/>
            <a:ext cx="2209680" cy="18795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1600200" y="426708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ade a careless mistake 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5003640" y="2421000"/>
            <a:ext cx="2232360" cy="280836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295280" y="1447920"/>
            <a:ext cx="342900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n they found out someone 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had made a careless mistak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about the name lis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Retell the tex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Retell the tex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3348000" y="1989000"/>
            <a:ext cx="2062080" cy="182088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2195640" y="4038480"/>
            <a:ext cx="519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r. Lively… talk on ENT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5219640" y="3357720"/>
            <a:ext cx="1905120" cy="1780920"/>
          </a:xfrm>
          <a:prstGeom prst="rect">
            <a:avLst/>
          </a:prstGeom>
          <a:ln w="0">
            <a:noFill/>
          </a:ln>
        </p:spPr>
      </p:pic>
      <p:sp>
        <p:nvSpPr>
          <p:cNvPr id="194" name=""/>
          <p:cNvSpPr/>
          <p:nvPr/>
        </p:nvSpPr>
        <p:spPr>
          <a:xfrm>
            <a:off x="1371600" y="2946240"/>
            <a:ext cx="4648320" cy="246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ich stands for illnesses of ear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nose and throa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371600" y="1700280"/>
            <a:ext cx="6324480" cy="14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ortunately, 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Dr. Lively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was just going to 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talk on ENT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Retell the tex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1523880"/>
            <a:ext cx="805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. __________ a conference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组织一次会议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838080" y="2286000"/>
            <a:ext cx="7391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. send ______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发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14400" y="3048120"/>
            <a:ext cx="74674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3. ______ sb. at the station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接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914400" y="3886200"/>
            <a:ext cx="79786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4. get _______ the phone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打通电话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Retell the tex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3352680" y="1916280"/>
            <a:ext cx="2305080" cy="17287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905120" y="3809880"/>
            <a:ext cx="5790960" cy="15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gave a very good talk 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…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as interested 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68580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Retell the tex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4932360" y="2276640"/>
            <a:ext cx="2592360" cy="33526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1295280" y="1523880"/>
            <a:ext cx="3657600" cy="43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Dr. Baker 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gave a very good talk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later that day and everyone at the conference 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was very interest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68360" y="609120"/>
            <a:ext cx="7989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68360" y="15238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ne day David Baker was at home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e ____ an invitation from a  Medical Conference ____ London. He got a bit ____ because they didn’t usually ____ him to such conferences. He wondered ____ they had invited hi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5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wever, he ____ the invitation. A few months ____, Dr. David Baker arrived ____ the conference. Some of his friends were surprised to ____ him. They didn’t know why he ____ invited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268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/>
          </p:nvPr>
        </p:nvSpPr>
        <p:spPr>
          <a:xfrm>
            <a:off x="685800" y="1773000"/>
            <a:ext cx="7772400" cy="394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ile everyone was waiting ____ the speaker of that morning, the organizer told them ____ the speaker would be late ____ of the bad weather ____ the airport. So the organizer had to ask another expert to ____ a talk on DN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989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6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e then ____ Dr. Baker to give the talk. Dr. Baker ____ very surprised because he was not an ____ on DN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989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14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 fact, there were ____ Bakers. One was Peter Baker and the ____ was David Baker. They got the same family ____, but different given ____. It was Peter Baker ____ was really wanted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/>
          <p:nvPr/>
        </p:nvSpPr>
        <p:spPr>
          <a:xfrm>
            <a:off x="822240" y="1163520"/>
            <a:ext cx="786456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ne day David Baker was at home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e _______ an invitation from a  Medical Conference _____ London. He got a bit _________ because they didn’t usually _____ him to such conferences. He wondered ______ they had invited hi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523880" y="1905120"/>
            <a:ext cx="190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receiv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029200" y="259092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i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590920" y="3244680"/>
            <a:ext cx="212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surpris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388620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invit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657600" y="4572000"/>
            <a:ext cx="134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wh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1066680" y="1317600"/>
            <a:ext cx="7239240" cy="47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wever, he ________ the invitation. A few months ______, Dr. David Baker arrived ____ the conference. Some of his friends were surprised to ____ him. They didn’t know why he ____ invited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581280" y="149220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accept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012000" y="2205000"/>
            <a:ext cx="146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lat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364000" y="2997360"/>
            <a:ext cx="76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716360" y="458136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se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076720" y="53737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w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1143000" y="1273320"/>
            <a:ext cx="762012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ile everyone was waiting ____ the speaker of that morning, the organizer told them ____ the speaker would be late _______ of the bad weather ____ the airport. So the organizer had to ask another expert to ____ a talk on DN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77080" y="1268280"/>
            <a:ext cx="8380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f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148360" y="2492280"/>
            <a:ext cx="121896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tha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851280" y="3141720"/>
            <a:ext cx="208764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becaus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916360" y="3792600"/>
            <a:ext cx="6858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a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92360" y="5084640"/>
            <a:ext cx="11430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giv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800" y="34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85800" y="609480"/>
            <a:ext cx="81421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838080" y="2178000"/>
            <a:ext cx="798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. __________ a conference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组织一次会议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2982960"/>
            <a:ext cx="77425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2. send ______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发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3897360"/>
            <a:ext cx="7821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3. ______ sb. at the station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接站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4735440"/>
            <a:ext cx="7902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4. get __________  the phone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打通电话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600200" y="2209680"/>
            <a:ext cx="191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organiz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438280" y="3048120"/>
            <a:ext cx="111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ou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523880" y="3962520"/>
            <a:ext cx="12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mee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133720" y="4800600"/>
            <a:ext cx="243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throug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1295280" y="1523880"/>
            <a:ext cx="6934320" cy="38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e then ______ Dr. Baker to give the talk. Dr. Baker ____ very surprised because he was not an ______ on DNA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987640" y="184464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ask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5076720" y="2781360"/>
            <a:ext cx="1067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wa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371600" y="4616280"/>
            <a:ext cx="1523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exper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/>
          <p:nvPr/>
        </p:nvSpPr>
        <p:spPr>
          <a:xfrm>
            <a:off x="838080" y="1600200"/>
            <a:ext cx="7696440" cy="43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 fact, there were ____ Bakers. One was Peter Baker and the ____ was David Baker. They got the same family _____, but different given _______. It was Peter Baker ____ was really wanted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859280" y="1773360"/>
            <a:ext cx="9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tw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443640" y="458136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wh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651640" y="2421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o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124000" y="386064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nam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971640" y="458136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nam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191120" y="1844640"/>
            <a:ext cx="3809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an invitation </a:t>
            </a:r>
            <a:r>
              <a:rPr b="1" lang="en-US" sz="3600" spc="-1" strike="noStrike" u="sng">
                <a:solidFill>
                  <a:srgbClr val="66ffff"/>
                </a:solidFill>
                <a:uFillTx/>
                <a:latin typeface="Times New Roman"/>
              </a:rPr>
              <a:t>to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114800" y="256536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reply </a:t>
            </a:r>
            <a:r>
              <a:rPr b="1" lang="en-US" sz="3600" spc="-1" strike="noStrike" u="sng">
                <a:solidFill>
                  <a:srgbClr val="66ffff"/>
                </a:solidFill>
                <a:uFillTx/>
                <a:latin typeface="Times New Roman"/>
              </a:rPr>
              <a:t>to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114800" y="3284640"/>
            <a:ext cx="412920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Would you min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 </a:t>
            </a:r>
            <a:r>
              <a:rPr b="1" lang="en-US" sz="3600" spc="-1" strike="noStrike" u="sng">
                <a:solidFill>
                  <a:srgbClr val="66ffff"/>
                </a:solidFill>
                <a:uFillTx/>
                <a:latin typeface="Times New Roman"/>
              </a:rPr>
              <a:t>doing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 …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191120" y="4464000"/>
            <a:ext cx="373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the </a:t>
            </a:r>
            <a:r>
              <a:rPr b="1" lang="en-US" sz="3600" spc="-1" strike="noStrike" u="sng">
                <a:solidFill>
                  <a:srgbClr val="66ffff"/>
                </a:solidFill>
                <a:uFillTx/>
                <a:latin typeface="Times New Roman"/>
              </a:rPr>
              <a:t>very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 subjec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191120" y="52261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make oneself </a:t>
            </a:r>
            <a:r>
              <a:rPr b="1" lang="en-US" sz="3600" spc="-1" strike="noStrike" u="sng">
                <a:solidFill>
                  <a:srgbClr val="66ffff"/>
                </a:solidFill>
                <a:uFillTx/>
                <a:latin typeface="Times New Roman"/>
              </a:rPr>
              <a:t>know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219320" y="191628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一个…的邀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219320" y="263700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答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219320" y="342900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请您做…好吗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219320" y="458640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正是这个主题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219320" y="527220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自我介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      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1. invitation 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A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与动词搭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B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与介词搭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Arial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1143000" y="2286000"/>
            <a:ext cx="2209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接受邀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285920" y="312408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邀请某人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219320" y="3886200"/>
            <a:ext cx="2057400" cy="4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收到邀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143000" y="451008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拒绝某人的邀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219320" y="5291280"/>
            <a:ext cx="205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发出邀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3962520" y="2362320"/>
            <a:ext cx="40384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accept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an invit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962520" y="304812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give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sb. an invit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962520" y="3809880"/>
            <a:ext cx="47131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receiv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an invitatio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962520" y="4572000"/>
            <a:ext cx="47862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refuse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sb’s invit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038480" y="5562720"/>
            <a:ext cx="472464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962520" y="5335560"/>
            <a:ext cx="4572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send out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an invit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971640" y="1628640"/>
            <a:ext cx="37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A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与动词搭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3" dur="indefinite" restart="never" nodeType="tmRoot">
          <p:childTnLst>
            <p:seq>
              <p:cTn id="444" dur="indefinite" nodeType="mainSeq">
                <p:childTnLst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1371600" y="225432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应某人邀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371600" y="309240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应邀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1371600" y="391788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一个…的邀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447920" y="4645080"/>
            <a:ext cx="25905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来自某人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/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某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组织的邀请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114800" y="21780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at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the invitation of sb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114800" y="3016080"/>
            <a:ext cx="4114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on / upon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invit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114800" y="377820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 invitation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to 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114800" y="45403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n invitation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from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971640" y="160020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B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与介词连用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5" dur="indefinite" restart="never" nodeType="tmRoot">
          <p:childTnLst>
            <p:seq>
              <p:cTn id="506" dur="indefinite" nodeType="mainSeq">
                <p:childTnLst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fill="hold">
                      <p:stCondLst>
                        <p:cond delay="indefinite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fill="hold">
                      <p:stCondLst>
                        <p:cond delay="indefinite"/>
                      </p:stCondLst>
                      <p:childTnLst>
                        <p:par>
                          <p:cTn id="550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3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An invitation t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the 1996 Medical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nference in London. (P.42 L.1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38080" y="3414600"/>
            <a:ext cx="776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昨天我收到了汤姆请我参加生日聚会的请帖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62120" y="3979800"/>
            <a:ext cx="7697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received an invitation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from Tom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o his birthday party yesterda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1219320" y="1905120"/>
            <a:ext cx="716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怀特小姐拒绝了汤姆请她吃晚饭的邀请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619280" y="2781360"/>
            <a:ext cx="632448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iss White refused Tom’s 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invitation t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supp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990720" y="2492280"/>
            <a:ext cx="62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295280" y="2025720"/>
            <a:ext cx="6705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她发出了许多参加她的婚礼的邀请，但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还没有收到任何答复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600200" y="3124080"/>
            <a:ext cx="6400800" cy="190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he sent out many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invitations t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her wedding, but she hasn’t received any reply to them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5" dur="indefinite" restart="never" nodeType="tmRoot">
          <p:childTnLst>
            <p:seq>
              <p:cTn id="596" dur="indefinite" nodeType="mainSeq">
                <p:childTnLst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685800" y="1447920"/>
            <a:ext cx="7989840" cy="16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ff"/>
                </a:solidFill>
                <a:latin typeface="Times New Roman"/>
              </a:rPr>
              <a:t>invite </a:t>
            </a:r>
            <a:r>
              <a:rPr b="1" i="1" lang="zh-CN" sz="3600" spc="-1" strike="noStrike">
                <a:solidFill>
                  <a:srgbClr val="66ffff"/>
                </a:solidFill>
                <a:latin typeface="Times New Roman"/>
              </a:rPr>
              <a:t>v.</a:t>
            </a:r>
            <a:r>
              <a:rPr b="1" lang="zh-CN" sz="3600" spc="-1" strike="noStrike">
                <a:solidFill>
                  <a:srgbClr val="66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ff"/>
                </a:solidFill>
                <a:latin typeface="Times New Roman"/>
              </a:rPr>
              <a:t>invite </a:t>
            </a:r>
            <a:r>
              <a:rPr b="1" i="1" lang="zh-CN" sz="3600" spc="-1" strike="noStrike">
                <a:solidFill>
                  <a:srgbClr val="66ffff"/>
                </a:solidFill>
                <a:latin typeface="Times New Roman"/>
              </a:rPr>
              <a:t>sb.</a:t>
            </a:r>
            <a:r>
              <a:rPr b="1" lang="zh-CN" sz="3600" spc="-1" strike="noStrike">
                <a:solidFill>
                  <a:srgbClr val="66ffff"/>
                </a:solidFill>
                <a:latin typeface="Times New Roman"/>
              </a:rPr>
              <a:t> to + </a:t>
            </a:r>
            <a:r>
              <a:rPr b="1" i="1" lang="zh-CN" sz="3600" spc="-1" strike="noStrike">
                <a:solidFill>
                  <a:srgbClr val="66ffff"/>
                </a:solidFill>
                <a:latin typeface="Times New Roman"/>
              </a:rPr>
              <a:t>n.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o ask sb. to come to a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party, wedding, meal etc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685800" y="3213000"/>
            <a:ext cx="762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o should we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invite t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the part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62120" y="4133880"/>
            <a:ext cx="670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邀请他参加你的生日聚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好吗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914400" y="461484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et’s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invite him t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your birthday party, shall w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9" dur="indefinite" restart="never" nodeType="tmRoot">
          <p:childTnLst>
            <p:seq>
              <p:cTn id="610" dur="indefinite" nodeType="mainSeq">
                <p:childTnLst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2035080"/>
            <a:ext cx="725796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5. _______ a message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捎个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2959200"/>
            <a:ext cx="774216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6. ________ a meeting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参加会议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914400" y="3886200"/>
            <a:ext cx="7902720" cy="15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7. make _______ known to others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自我介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/>
          </p:nvPr>
        </p:nvSpPr>
        <p:spPr>
          <a:xfrm>
            <a:off x="685440" y="1981080"/>
            <a:ext cx="82170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invite </a:t>
            </a:r>
            <a:r>
              <a:rPr b="1" i="1" lang="zh-CN" sz="3600" spc="-1" strike="noStrike">
                <a:solidFill>
                  <a:srgbClr val="00ffff"/>
                </a:solidFill>
                <a:latin typeface="Times New Roman"/>
              </a:rPr>
              <a:t>sb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. for a drink / meal etc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39640" y="2743200"/>
            <a:ext cx="835344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hy don’t you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invite her for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a drin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t the club one evening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755640" y="4508640"/>
            <a:ext cx="554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咱们请他们过来喝点东西吧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90720" y="5105520"/>
            <a:ext cx="789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et’s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invite them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over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 for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a drin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title"/>
          </p:nvPr>
        </p:nvSpPr>
        <p:spPr>
          <a:xfrm>
            <a:off x="685440" y="609120"/>
            <a:ext cx="8217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2" dur="5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8" dur="500" fill="hold"/>
                                        <p:tgtEl>
                                          <p:spTgt spid="3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/>
          <p:nvPr/>
        </p:nvSpPr>
        <p:spPr>
          <a:xfrm>
            <a:off x="838080" y="2057400"/>
            <a:ext cx="798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ff"/>
                </a:solidFill>
                <a:latin typeface="Times New Roman"/>
              </a:rPr>
              <a:t>invite </a:t>
            </a:r>
            <a:r>
              <a:rPr b="1" i="1" lang="zh-CN" sz="3600" spc="-1" strike="noStrike">
                <a:solidFill>
                  <a:srgbClr val="66ffff"/>
                </a:solidFill>
                <a:latin typeface="Times New Roman"/>
              </a:rPr>
              <a:t>sb</a:t>
            </a:r>
            <a:r>
              <a:rPr b="1" lang="zh-CN" sz="3600" spc="-1" strike="noStrike">
                <a:solidFill>
                  <a:srgbClr val="66ffff"/>
                </a:solidFill>
                <a:latin typeface="Times New Roman"/>
              </a:rPr>
              <a:t>. to do </a:t>
            </a:r>
            <a:r>
              <a:rPr b="1" i="1" lang="zh-CN" sz="3600" spc="-1" strike="noStrike">
                <a:solidFill>
                  <a:srgbClr val="66ffff"/>
                </a:solidFill>
                <a:latin typeface="Times New Roman"/>
              </a:rPr>
              <a:t>sth</a:t>
            </a:r>
            <a:r>
              <a:rPr b="1" lang="zh-CN" sz="3600" spc="-1" strike="noStrike">
                <a:solidFill>
                  <a:srgbClr val="66ffff"/>
                </a:solidFill>
                <a:latin typeface="Times New Roman"/>
              </a:rPr>
              <a:t>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539640" y="2781360"/>
            <a:ext cx="798192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’m thinking of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inviting them to spen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e summer with us in Ital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1421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55640" y="4437000"/>
            <a:ext cx="7662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汤姆想邀请他同学周末一起去游泳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826920" y="4797360"/>
            <a:ext cx="774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om wants to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invite his classmates to go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wimming at the weeken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1219320" y="1676520"/>
            <a:ext cx="418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2. reply </a:t>
            </a:r>
            <a:r>
              <a:rPr b="1" i="1" lang="zh-CN" sz="3600" spc="-1" strike="noStrike">
                <a:solidFill>
                  <a:srgbClr val="00ffff"/>
                </a:solidFill>
                <a:latin typeface="Times New Roman"/>
              </a:rPr>
              <a:t>vt.&amp; vi.  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468360" y="2330280"/>
            <a:ext cx="760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reply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zh-CN" sz="3600" spc="-1" strike="noStrike">
                <a:solidFill>
                  <a:srgbClr val="00ffff"/>
                </a:solidFill>
                <a:latin typeface="Times New Roman"/>
              </a:rPr>
              <a:t>vi.</a:t>
            </a:r>
            <a:r>
              <a:rPr b="1" i="1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to</a:t>
            </a:r>
            <a:r>
              <a:rPr b="1" i="1" lang="zh-CN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reply to sth.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55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11280" y="3124080"/>
            <a:ext cx="805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lease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reply t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my question right now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34960" y="4495680"/>
            <a:ext cx="695016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 asked her where she was going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ut she didn’t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 reply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9" dur="indefinite" restart="never" nodeType="tmRoot">
          <p:childTnLst>
            <p:seq>
              <p:cTn id="650" dur="indefinite" nodeType="mainSeq">
                <p:childTnLst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1219320" y="178920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reply </a:t>
            </a:r>
            <a:r>
              <a:rPr b="1" i="1" lang="zh-CN" sz="3600" spc="-1" strike="noStrike">
                <a:solidFill>
                  <a:srgbClr val="00ffff"/>
                </a:solidFill>
                <a:latin typeface="Times New Roman"/>
              </a:rPr>
              <a:t>v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1295280" y="2482920"/>
            <a:ext cx="731520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1. “Certainly, Sir.” he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repli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2. He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repli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that he didn’t know the secre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3" dur="indefinite" restart="never" nodeType="tmRoot">
          <p:childTnLst>
            <p:seq>
              <p:cTn id="664" dur="indefinite" nodeType="mainSeq">
                <p:childTnLst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9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/>
          <p:cNvSpPr/>
          <p:nvPr/>
        </p:nvSpPr>
        <p:spPr>
          <a:xfrm>
            <a:off x="1106640" y="1658880"/>
            <a:ext cx="199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reply </a:t>
            </a:r>
            <a:r>
              <a:rPr b="1" i="1" lang="en-US" sz="3600" spc="-1" strike="noStrike">
                <a:solidFill>
                  <a:srgbClr val="66ffff"/>
                </a:solidFill>
                <a:latin typeface="Times New Roman"/>
              </a:rPr>
              <a:t>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106640" y="667800"/>
            <a:ext cx="84866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258920" y="2421000"/>
            <a:ext cx="723888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e have had 60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replies to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ou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dvertisement so fa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176480" y="4135320"/>
            <a:ext cx="69055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 asked him if I could help, bu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e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made no reply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1" dur="indefinite" restart="never" nodeType="tmRoot">
          <p:childTnLst>
            <p:seq>
              <p:cTn id="672" dur="indefinite" nodeType="mainSeq">
                <p:childTnLst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ill he please </a:t>
            </a: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make himself known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to me? (P.42 Para.3 L.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"/>
          <p:cNvSpPr/>
          <p:nvPr/>
        </p:nvSpPr>
        <p:spPr>
          <a:xfrm>
            <a:off x="762120" y="1523880"/>
            <a:ext cx="7924680" cy="43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                           know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                             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understood   </a:t>
            </a:r>
            <a:r>
              <a:rPr b="1" lang="en-US" sz="40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make oneself        seen               …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                             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hear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                             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believe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505320" y="1828800"/>
            <a:ext cx="533160" cy="3962520"/>
          </a:xfrm>
          <a:custGeom>
            <a:avLst/>
            <a:gdLst>
              <a:gd name="textAreaLeft" fmla="*/ 340560 w 533160"/>
              <a:gd name="textAreaRight" fmla="*/ 533520 w 533160"/>
              <a:gd name="textAreaTop" fmla="*/ 58320 h 3962520"/>
              <a:gd name="textAreaBottom" fmla="*/ 3904200 h 3962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10"/>
                  <a:pt x="10800" y="1020"/>
                </a:cubicBezTo>
                <a:lnTo>
                  <a:pt x="10800" y="9780"/>
                </a:lnTo>
                <a:cubicBezTo>
                  <a:pt x="10800" y="10290"/>
                  <a:pt x="5400" y="10800"/>
                  <a:pt x="0" y="10800"/>
                </a:cubicBezTo>
                <a:cubicBezTo>
                  <a:pt x="5400" y="10800"/>
                  <a:pt x="10800" y="11310"/>
                  <a:pt x="10800" y="11820"/>
                </a:cubicBezTo>
                <a:lnTo>
                  <a:pt x="10800" y="20580"/>
                </a:lnTo>
                <a:cubicBezTo>
                  <a:pt x="10800" y="2109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66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&amp; </a:t>
            </a: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685800" y="1828440"/>
            <a:ext cx="723888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ere are all my friends. Woul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you like to </a:t>
            </a: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make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yourself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known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5" dur="indefinite" restart="never" nodeType="tmRoot">
          <p:childTnLst>
            <p:seq>
              <p:cTn id="686" dur="indefinite" nodeType="mainSeq">
                <p:childTnLst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2" dur="500" fill="hold"/>
                                        <p:tgtEl>
                                          <p:spTgt spid="3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fill="hold">
                      <p:stCondLst>
                        <p:cond delay="indefinite"/>
                      </p:stCondLst>
                      <p:childTnLst>
                        <p:par>
                          <p:cTn id="694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3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请你到前面来，这样大家就能看清楚你了。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143000" y="2771640"/>
            <a:ext cx="70866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ould you come to the front in order to </a:t>
            </a: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make yourself seen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clearl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762120" y="4343400"/>
            <a:ext cx="670536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ould you please speak slowl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o make yourself __________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352760" y="4948200"/>
            <a:ext cx="266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understoo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9" dur="indefinite" restart="never" nodeType="tmRoot">
          <p:childTnLst>
            <p:seq>
              <p:cTn id="700" dur="indefinite" nodeType="mainSeq">
                <p:childTnLst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295280" y="2819520"/>
            <a:ext cx="6705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ould you mind giving a tal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oday about DNA? (P.42 Para.5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1295280" y="1752480"/>
            <a:ext cx="632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ffff"/>
                </a:solidFill>
                <a:latin typeface="Times New Roman"/>
              </a:rPr>
              <a:t>4. Would you mind doing sth.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85800" y="609480"/>
            <a:ext cx="8078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2035080"/>
            <a:ext cx="712800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5. _______ a message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捎个信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914400" y="2959200"/>
            <a:ext cx="7602480" cy="77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6. ________ a meeting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参加会议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14400" y="3886200"/>
            <a:ext cx="7761240" cy="15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7. make _______ known to others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</a:rPr>
              <a:t>                     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自我介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76520" y="2209680"/>
            <a:ext cx="110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tak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600200" y="30481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atte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86000" y="3962520"/>
            <a:ext cx="1663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oneself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4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1066680" y="1989000"/>
            <a:ext cx="696132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Would you mind waiting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a few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ore minute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1476360" y="2997360"/>
            <a:ext cx="498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您能再多等一会儿吗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87660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1042560" y="4292280"/>
            <a:ext cx="70470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我外出时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您能帮忙照顾我的孩子吗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143000" y="4960800"/>
            <a:ext cx="696132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Would mind keeping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an ey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n my child while I’m ou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9" dur="indefinite" restart="never" nodeType="tmRoot">
          <p:childTnLst>
            <p:seq>
              <p:cTn id="720" dur="indefinite" nodeType="mainSeq">
                <p:childTnLst>
                  <p:par>
                    <p:cTn id="721" fill="hold">
                      <p:stCondLst>
                        <p:cond delay="indefinite"/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219320" y="1523880"/>
            <a:ext cx="3740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5. very </a:t>
            </a:r>
            <a:r>
              <a:rPr b="1" i="1" lang="en-US" sz="3600" spc="-1" strike="noStrike">
                <a:solidFill>
                  <a:srgbClr val="00ffff"/>
                </a:solidFill>
                <a:latin typeface="Times New Roman"/>
              </a:rPr>
              <a:t>adj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294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1295280" y="2701800"/>
            <a:ext cx="7237440" cy="18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ut Dr. Lively was going to talk o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at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very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subject</a:t>
            </a: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oday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(P.43 Para.5)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5" dur="indefinite" restart="never" nodeType="tmRoot">
          <p:childTnLst>
            <p:seq>
              <p:cTn id="746" dur="indefinite" nodeType="mainSeq">
                <p:childTnLst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at is the</a:t>
            </a:r>
            <a:r>
              <a:rPr b="1" lang="en-US" sz="3600" spc="-1" strike="noStrike">
                <a:solidFill>
                  <a:srgbClr val="66ffff"/>
                </a:solidFill>
                <a:latin typeface="Times New Roman"/>
              </a:rPr>
              <a:t> very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thing I need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685800" y="3132000"/>
            <a:ext cx="754380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She decided to leave on that </a:t>
            </a: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ve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fternoo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/>
          <p:nvPr/>
        </p:nvSpPr>
        <p:spPr>
          <a:xfrm>
            <a:off x="914400" y="175248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这正是我要找的那本书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838080" y="2514600"/>
            <a:ext cx="662940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hat is the </a:t>
            </a: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very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book I am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ooking for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914400" y="3962520"/>
            <a:ext cx="689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年前你就是在这家医院出生的！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066680" y="4572000"/>
            <a:ext cx="6400800" cy="114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You were born in this </a:t>
            </a: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ve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ospital 15 years ago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066680" y="1981080"/>
            <a:ext cx="7466040" cy="17532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nvitation to  /  reply t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he very …</a:t>
            </a: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/ make oneself +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过去分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Would you mind +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现在分词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…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219320" y="4038480"/>
            <a:ext cx="770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ave you got the __________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arty this weeken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990720" y="4173480"/>
            <a:ext cx="78292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Have you got the __________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party this weekend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572000" y="4191120"/>
            <a:ext cx="258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invitation 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232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066680" y="1752480"/>
            <a:ext cx="7586640" cy="17532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nvitation to  /  reply t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he very …</a:t>
            </a: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/ make oneself +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过去分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Would you mind +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现在分词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…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1219320" y="4249800"/>
            <a:ext cx="6513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an you speak louder 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____________________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1010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066680" y="1752480"/>
            <a:ext cx="7466040" cy="17532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nvitation to  /  reply t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he very …</a:t>
            </a: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/ make oneself +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过去分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Would you mind +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现在分词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…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1195560" y="4044960"/>
            <a:ext cx="6406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an you speak louder 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____________________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1805040" y="4900680"/>
            <a:ext cx="429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make yourself hear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661680" y="556920"/>
            <a:ext cx="797076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1042920" y="1700280"/>
            <a:ext cx="7345440" cy="17532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nvitation to  /  reply t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he very …</a:t>
            </a: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/ make oneself +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过去分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Would you mind +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现在分词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…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1039680" y="4121280"/>
            <a:ext cx="73375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You’d better __________ his lette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s soon as possibl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734760" y="556920"/>
            <a:ext cx="80485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16000" y="1700280"/>
            <a:ext cx="7416720" cy="17532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nvitation to  /  reply t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he very …</a:t>
            </a: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/ make oneself +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过去分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Would you mind +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现在分词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…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"/>
          <p:cNvSpPr/>
          <p:nvPr/>
        </p:nvSpPr>
        <p:spPr>
          <a:xfrm>
            <a:off x="990720" y="4325760"/>
            <a:ext cx="74563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You’d better  __________ his letter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s soon as possibl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4195800" y="4300560"/>
            <a:ext cx="217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reply 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17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066680" y="1752480"/>
            <a:ext cx="7537680" cy="17532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nvitation to  /  reply t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he very …</a:t>
            </a: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/ make oneself +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过去分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Would you mind +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现在分词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…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5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6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838080" y="1820880"/>
            <a:ext cx="7747200" cy="14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8. an expert ____ the subject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某领域的专家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38080" y="3429000"/>
            <a:ext cx="727236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9. an invitation ____ the conferenc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参加会议的请帖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5800" y="4800600"/>
            <a:ext cx="806292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0. _______ a careless mistak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犯粗心大意的错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"/>
          <p:cNvSpPr/>
          <p:nvPr/>
        </p:nvSpPr>
        <p:spPr>
          <a:xfrm>
            <a:off x="914400" y="4173480"/>
            <a:ext cx="79390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 found the bag under ________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ig tre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17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066680" y="1676520"/>
            <a:ext cx="7537680" cy="17532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nvitation to  /  reply t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he very …</a:t>
            </a: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/ make oneself +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过去分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Would you mind +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现在分词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…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"/>
          <p:cNvSpPr/>
          <p:nvPr/>
        </p:nvSpPr>
        <p:spPr>
          <a:xfrm>
            <a:off x="914400" y="3944880"/>
            <a:ext cx="80899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 found the bag under ________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big tre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651640" y="4005360"/>
            <a:ext cx="20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the ve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335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1066680" y="1676520"/>
            <a:ext cx="7682040" cy="17532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nvitation to  /  reply t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he very …</a:t>
            </a: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/ make oneself +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过去分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Would you mind +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现在分词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…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"/>
          <p:cNvSpPr/>
          <p:nvPr/>
        </p:nvSpPr>
        <p:spPr>
          <a:xfrm>
            <a:off x="914400" y="4173480"/>
            <a:ext cx="82566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ould you _____________ out all th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vitations before he comes back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256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066680" y="1752480"/>
            <a:ext cx="7608960" cy="1753200"/>
          </a:xfrm>
          <a:prstGeom prst="rect">
            <a:avLst/>
          </a:pr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nvitation to  /  reply t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he very …</a:t>
            </a: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/ make oneself +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过去分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Would you mind +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现在分词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…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"/>
          <p:cNvSpPr/>
          <p:nvPr/>
        </p:nvSpPr>
        <p:spPr>
          <a:xfrm>
            <a:off x="914400" y="4191120"/>
            <a:ext cx="80233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Would you _____________ out all th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invitations before he comes back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3581280" y="4235400"/>
            <a:ext cx="283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ffff"/>
                </a:solidFill>
                <a:latin typeface="Times New Roman"/>
              </a:rPr>
              <a:t>mind sending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23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066680" y="1676520"/>
            <a:ext cx="7392960" cy="17532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invitation to  /  reply t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the very …</a:t>
            </a:r>
            <a:r>
              <a:rPr b="1" lang="zh-CN" sz="3600" spc="-1" strike="noStrike">
                <a:solidFill>
                  <a:srgbClr val="ff0033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/ make oneself +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过去分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Would you mind +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现在分词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…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Summa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1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检查了上节课的部分作业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检查了口头复述课文的情况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3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复习、巩固了上节课的语法要点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4.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继续归纳总结了本单元的语言知识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914400" y="1835280"/>
            <a:ext cx="6705720" cy="21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Exercise in Wb. P.103. 2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Exercise in Wb. P. 101. 2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Preview Unit 26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685800" y="4800600"/>
            <a:ext cx="777240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6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38080" y="1820880"/>
            <a:ext cx="7467840" cy="149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8. an expert ____ the subject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某领域的专家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38080" y="3429000"/>
            <a:ext cx="7837560" cy="127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9. an invitation ____ the conferenc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参加会议的请帖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85800" y="4800600"/>
            <a:ext cx="777240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10. _______ a careless mistak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                                      </a:t>
            </a:r>
            <a:r>
              <a:rPr b="1" lang="zh-CN" sz="2800" spc="-1" strike="noStrike">
                <a:solidFill>
                  <a:srgbClr val="ffffff"/>
                </a:solidFill>
                <a:latin typeface="Times New Roman"/>
              </a:rPr>
              <a:t>犯粗心大意的错误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276720" y="190512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067280" y="3357720"/>
            <a:ext cx="7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to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1600200" y="4648320"/>
            <a:ext cx="145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ccff"/>
                </a:solidFill>
                <a:latin typeface="Times New Roman"/>
              </a:rPr>
              <a:t>mak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971640" y="1828800"/>
            <a:ext cx="779148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- Is John coming by train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---- He should, but he ____ not. 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likes driving his ca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A. must  B. can  C. need  D. ma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                                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(NMET2002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66"/>
                </a:solidFill>
                <a:latin typeface="Times New Roman"/>
              </a:rPr>
              <a:t>Choose the answe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31T09:39:22Z</dcterms:created>
  <dc:creator>acer</dc:creator>
  <dc:description/>
  <dc:language>en-US</dc:language>
  <cp:lastModifiedBy>Zhang Lingdi</cp:lastModifiedBy>
  <dcterms:modified xsi:type="dcterms:W3CDTF">2003-06-15T10:25:39Z</dcterms:modified>
  <cp:revision>203</cp:revision>
  <dc:subject/>
  <dc:title>PowerPoint 演示文稿</dc:title>
</cp:coreProperties>
</file>