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5756275" cy="7981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D68-303B-4942-853D-7A00851A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E76-1D54-48CA-AF08-A861F81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176-A622-4C04-B402-71503CDD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530-82BE-49D4-A4B5-2FDC727A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52D-7957-4339-9C5A-62E16D0E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681-296B-4C33-9DC8-B91A89B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88C-2E22-45FC-BF86-45C54570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1FA-9CD7-4788-9CFC-770030D6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7B5-1DA1-47E0-B183-5011F69E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F67-401E-482E-A920-89D6EE3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27F-5C09-4937-B861-0BD635C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60F-2F66-4D9B-9977-AA6056A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9E44-090A-4DAB-B4F9-AC869EA6B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108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0:05:36Z</dcterms:created>
  <dc:creator>Legend User</dc:creator>
  <dc:description/>
  <dc:language>en-US</dc:language>
  <cp:lastModifiedBy>Legend User</cp:lastModifiedBy>
  <dcterms:modified xsi:type="dcterms:W3CDTF">2003-01-06T10:33:53Z</dcterms:modified>
  <cp:revision>2</cp:revision>
  <dc:subject/>
  <dc:title>幻灯片 1</dc:title>
</cp:coreProperties>
</file>