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14B-EBA9-49EB-9073-94A23FB8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3F6-CBC0-4A5B-BD7C-8127B0BD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06F-0170-46D8-B05C-17D1121E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208-5277-4AA9-A027-EE05C575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B35F-0652-4C8A-93EB-63E49EA9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2739-6B89-44AB-BC41-C1822B9C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30E1-C3E7-4781-B9E2-661F22F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CAA5-700F-4C88-ABED-E2808CC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BCCF-842F-4AF5-BBD1-E565DC42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4B92-DF10-4E9A-B672-BE647CED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DEE7-22ED-48E8-B9A3-0241AA5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756-4D95-4937-8E9D-09FF12A3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27FA-FA78-402C-AA39-9ABB5BE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9A41-236B-4240-A0D1-B9A24C2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5E17-B3B1-4B5B-8F3A-C0B07E67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D3F3-E3E8-4A34-95C0-E12FEC5D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D4D8-9BA4-4E73-9C73-51C759A0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80B-D5AE-4F57-88C2-C5561B0D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5BB-EAFF-44CD-A008-3E738EBE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D4E-4A0D-4C8C-84C7-10F78F6F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C6A-5B66-4298-BD2A-6FE1ABE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6DF-1EE1-40B3-A319-97ACFCD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095-0D01-45B2-80CB-20E93CE4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B6D-3E33-43E7-9414-9DC70A6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ADD1-0155-46DB-B1C3-B010515FD249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3ADC-4552-4EFF-8D4B-F78E03146207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066680"/>
            <a:ext cx="7772400" cy="825120"/>
          </a:xfrm>
          <a:prstGeom prst="rect">
            <a:avLst/>
          </a:prstGeom>
          <a:noFill/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480" y="259092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 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legs were badly hur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760" y="4419720"/>
            <a:ext cx="84466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hose legs were badly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urt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,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1720" y="2057400"/>
            <a:ext cx="778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7.Do you know Mrs Jackson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 daughter is a famous poet?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          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                     D.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34340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6600" y="3962520"/>
            <a:ext cx="85978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n whose department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r king worked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called at host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called at the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r King worked in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departmen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2480" y="1523880"/>
            <a:ext cx="6515640" cy="448092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取代 了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one’s,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表示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所属关系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从句中作定语，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与名词连用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=of which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，不能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省略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800" y="1752480"/>
            <a:ext cx="77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I'd like a room____ window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038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8400" y="1828800"/>
            <a:ext cx="7768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I'd like a room____ the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indows 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87692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2800" y="1523880"/>
            <a:ext cx="817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.The river____are covered wit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trees is very long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banks      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of which bank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se the banks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the banks of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943600"/>
            <a:ext cx="51055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4880" y="1905120"/>
            <a:ext cx="88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4.The book,____the cover is green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elongs to the school library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ich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that               D.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19112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9800" y="1523880"/>
            <a:ext cx="842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5.The old lady has two daughters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_ are nurses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two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both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all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neither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495680"/>
            <a:ext cx="380988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47000" y="1574640"/>
            <a:ext cx="761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6.His parents wouldn’t let hi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arry anyone___ family wa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poor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om            B.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ose            D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181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1:12:59Z</dcterms:created>
  <dc:creator>Legend User</dc:creator>
  <dc:description/>
  <dc:language>en-US</dc:language>
  <cp:lastModifiedBy>Legend User</cp:lastModifiedBy>
  <dcterms:modified xsi:type="dcterms:W3CDTF">2002-09-30T12:15:59Z</dcterms:modified>
  <cp:revision>3</cp:revision>
  <dc:subject/>
  <dc:title>PowerPoint 演示文稿</dc:title>
</cp:coreProperties>
</file>