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DEE-75A9-4E7A-BB47-38D4B38D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30B5-8AA5-47B1-8A29-EAA0EDB2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B2F-5CDC-4E15-B43A-930F0D3D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D5CF-BDE7-4F0F-B5F9-6A6EFACB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E464-C6FB-4A70-B1E7-530466E3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0DA5-6C55-4F20-9CA5-59F3DE10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F4DF-D560-4063-911F-AB23AEB2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4F90-301E-40FB-8C05-3634D0DA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AA96-6F20-45DF-A4C4-57E044CA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CA4C-CDA1-4D42-8ADB-D4000721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CC22-C674-45DD-AF68-FE926D4C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7B3-D24D-4F25-B2D6-54A03D1B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D74A-4895-4DC4-9D5C-E5F32182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DE3E-4C49-4188-B4F1-B867DA1D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ACA8-9F95-4649-B0FE-D400D017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7554-5522-4E45-BCA2-085296F5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D92F-6342-404F-BA7C-3BB73066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E87-628C-48A9-BB6B-E71E865E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C62-FF8A-4A85-9CB6-B4BB8C80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8597-2A3A-461E-85D2-D3310BC2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115B-94E2-44DD-9F40-77C3DBDB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AAC-AF2D-4F02-9B44-F1011CD1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07DA-0B31-4B81-B34D-03A902F7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017-464A-43BB-9B99-49A03551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D599-DEE9-444B-B44E-477229FA3F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4F4C-A858-4F51-B98A-4F523DABE3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2362320"/>
            <a:ext cx="693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连接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at/which/who/wh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在定语从句中作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主语或宾语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用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05040" y="1752480"/>
            <a:ext cx="7914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3.This is the mountain villa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______ we visited the other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ich            B.in whi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where            D.w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3124080"/>
            <a:ext cx="20574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1280" y="1752480"/>
            <a:ext cx="5781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4.This is the factory ___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we visited last Fri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ose     B.in which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who         D.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3809880"/>
            <a:ext cx="20574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58760" y="1752480"/>
            <a:ext cx="7479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.Is this the store ____ sel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ll kinds of fresh flow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ere               B.which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in which           D.the one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3124080"/>
            <a:ext cx="20574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20320" y="1547640"/>
            <a:ext cx="7494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6.Is this store ___ sells all kin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of fresh flow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ere                B.which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in which            D.the one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3657600"/>
            <a:ext cx="327672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57680" y="1752480"/>
            <a:ext cx="6795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.He has done ____ he can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help 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all that        B.all what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which         D.all whi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3124080"/>
            <a:ext cx="213372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06120" y="1828800"/>
            <a:ext cx="7925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8.The man ___ is our new teac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om you spok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B.whom you spoke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with who you spok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D.you spoke with wh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3276720"/>
            <a:ext cx="495288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34720" y="1828800"/>
            <a:ext cx="7354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9.On the bus I saw a student __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I thought was your br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om       B.who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that           D.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3200400"/>
            <a:ext cx="20574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190512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定语从句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t was in the bookstore </a:t>
            </a:r>
            <a:r>
              <a:rPr b="0" lang="zh-CN" sz="4800" spc="-1" strike="noStrike">
                <a:solidFill>
                  <a:srgbClr val="000099"/>
                </a:solidFill>
                <a:latin typeface="Times New Roman"/>
              </a:rPr>
              <a:t>that I met your brother-in-law the other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52480" y="838080"/>
            <a:ext cx="6096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met your brother-in-law </a:t>
            </a: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in the booksto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other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/was… that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3733920"/>
            <a:ext cx="6705720" cy="21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t w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 the bookstore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a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 met your brother-in-law the other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1752480"/>
            <a:ext cx="7086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定语从句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We expressed the hope </a:t>
            </a:r>
            <a:r>
              <a:rPr b="0" lang="zh-CN" sz="4400" spc="-1" strike="noStrike">
                <a:solidFill>
                  <a:srgbClr val="000099"/>
                </a:solidFill>
                <a:latin typeface="Times New Roman"/>
              </a:rPr>
              <a:t>that Mr and Mrs smith would come to visit China the next y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96240" y="1600200"/>
            <a:ext cx="4512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复合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主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主句是一个完整的句子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它包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句子的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主要主语和动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从句不是一个完整的句子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它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须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和一个主句连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649760" y="2514600"/>
            <a:ext cx="67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定语从句是从属分句，修饰先行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1143000"/>
            <a:ext cx="7543800" cy="609480"/>
          </a:xfrm>
          <a:prstGeom prst="wedgeRectCallout">
            <a:avLst>
              <a:gd name="adj1" fmla="val 36152"/>
              <a:gd name="adj2" fmla="val 17786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先行词由名词（或代词）来充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4840" y="3809880"/>
            <a:ext cx="4752720" cy="19224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作用：定语从句对一个先行词进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描写、限定或提供进一步的信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又称为形容词性从句或关系从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83160" y="658800"/>
            <a:ext cx="7162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mber of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ach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y as 250,00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ost homes in 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thquak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5200" y="3809880"/>
            <a:ext cx="7660440" cy="21049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mber of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ople 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who lo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homes in the earthqua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ach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y as 250,00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2819520"/>
            <a:ext cx="2133720" cy="761760"/>
          </a:xfrm>
          <a:prstGeom prst="cloudCallout">
            <a:avLst>
              <a:gd name="adj1" fmla="val -20462"/>
              <a:gd name="adj2" fmla="val 9583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3048120"/>
            <a:ext cx="1752840" cy="609480"/>
          </a:xfrm>
          <a:prstGeom prst="cloudCallout">
            <a:avLst>
              <a:gd name="adj1" fmla="val -46740"/>
              <a:gd name="adj2" fmla="val 7005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行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00840" y="1928880"/>
            <a:ext cx="645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o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as John's br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aw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i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yester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11360" y="3886200"/>
            <a:ext cx="6892560" cy="14346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The boy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whom we sa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yesterday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was John's br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3048120"/>
            <a:ext cx="2133360" cy="761760"/>
          </a:xfrm>
          <a:prstGeom prst="cloudCallout">
            <a:avLst>
              <a:gd name="adj1" fmla="val -18972"/>
              <a:gd name="adj2" fmla="val 9916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1752480" cy="609480"/>
          </a:xfrm>
          <a:prstGeom prst="cloudCallout">
            <a:avLst>
              <a:gd name="adj1" fmla="val 34240"/>
              <a:gd name="adj2" fmla="val 10260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行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838080" y="1676520"/>
            <a:ext cx="8001000" cy="3504960"/>
            <a:chOff x="838080" y="1676520"/>
            <a:chExt cx="8001000" cy="3504960"/>
          </a:xfrm>
        </p:grpSpPr>
        <p:sp>
          <p:nvSpPr>
            <p:cNvPr id="103" name=""/>
            <p:cNvSpPr/>
            <p:nvPr/>
          </p:nvSpPr>
          <p:spPr>
            <a:xfrm>
              <a:off x="838080" y="1676520"/>
              <a:ext cx="8001000" cy="3445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　　　主语             　宾语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　人　  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who               who\whom\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              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that                   tha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　物  　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which              which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　　　　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that                  tha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243828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8080" y="320040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8080" y="380988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8080" y="449568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6880" y="1676520"/>
              <a:ext cx="0" cy="350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81480" y="1676520"/>
              <a:ext cx="0" cy="350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58160" y="1555920"/>
            <a:ext cx="30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确定主句和从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55120" y="2209680"/>
            <a:ext cx="245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找出先行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55120" y="2819520"/>
            <a:ext cx="258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找出连接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0000" y="3505320"/>
            <a:ext cx="49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连接词在定语从句中作何成分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62360" y="4191120"/>
            <a:ext cx="407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否用其他连接词替换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是什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52880" y="5486400"/>
            <a:ext cx="22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否省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7000" y="7621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如何分析含有定语从句的复合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06840" y="803160"/>
            <a:ext cx="7727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请用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定语从句合并每组句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1.The long bridg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still looks ni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The bridg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has been there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nearly fifty yea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77840" y="3809880"/>
            <a:ext cx="7710480" cy="21049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.The long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bridg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which /that h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been there for nearly fifty years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still looks nice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0720" y="914400"/>
            <a:ext cx="6386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has a great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of biolog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biologist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is a pers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65840" y="3505320"/>
            <a:ext cx="6974640" cy="21049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biologist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is a person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w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has a great knowledge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biolog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11:28:47Z</dcterms:created>
  <dc:creator>Legend User</dc:creator>
  <dc:description/>
  <dc:language>en-US</dc:language>
  <cp:lastModifiedBy>Legend User</cp:lastModifiedBy>
  <dcterms:modified xsi:type="dcterms:W3CDTF">2002-09-30T10:33:22Z</dcterms:modified>
  <cp:revision>10</cp:revision>
  <dc:subject/>
  <dc:title>PowerPoint 演示文稿</dc:title>
</cp:coreProperties>
</file>