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E97-3F52-44C3-953C-374082B1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408F-4558-45C8-B683-F28A6111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459B-6A55-4327-B07A-D396C6DE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AA5B-0920-4D67-B090-414865A7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67F9-C54F-4A5C-9C16-51136A63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A690-9423-4728-BFD0-5683D79D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6369-7301-4DCF-AB41-4F722F4C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FEA2-BA6C-4353-AE83-52ADB3A6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618B-872E-4724-8D51-697A5B34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921E-7D37-48F0-BB5C-E9FED4BD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D214-4D13-4DD0-AB4E-1B55FDFB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D972-3672-465F-A3BE-E5BFF6EC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B158-3155-4D60-AA7F-7CE18DA5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3B2A-1369-4C16-95BE-79825B43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4AB0-78EA-4147-95F1-C4207201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FF99-7914-4E2F-9C58-838383EC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4C1C-0EDC-40A8-A427-97EBFF6A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7D73-62F6-4F27-B4DA-A81E64F0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A45F-6814-41BF-A08F-D0C032A0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746F-F75D-4CFF-B925-072AD0B9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D41D-8C47-41FA-9E93-A4E2857F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28BC-9799-46B0-A9CE-AF9A4E07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E227-BB92-4F7A-8112-8F240765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F779-FD61-4329-9EE1-35C74484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B3BE-ABA2-4AAE-B9D8-2E124F61E1C6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0ECF-F31F-4D3B-B7E0-9A66EB94EEB5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27920" y="838080"/>
            <a:ext cx="5956200" cy="1434600"/>
          </a:xfrm>
          <a:prstGeom prst="rect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where &amp;when </a:t>
            </a: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在定语从句中作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地点状语和时间状语的用法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0560" y="2743200"/>
            <a:ext cx="694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 building </a:t>
            </a: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where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 lives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i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very old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10080" y="4648320"/>
            <a:ext cx="1964880" cy="11912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Where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在定语从句中修饰一个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地点名词，作地点状语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17920" y="1727280"/>
            <a:ext cx="7820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8.Mother was worried becaus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little Alice was ill,especially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__father was away in Franc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when                   B.that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during            D.if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472428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259092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ut the umbrell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 it wa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1320" y="3757680"/>
            <a:ext cx="825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ut the book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 you took them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24360" y="1219320"/>
            <a:ext cx="1704600" cy="703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定语从句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7600" y="1981080"/>
            <a:ext cx="8071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Put the book____it is when you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have finished reading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which         B.wher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in which     D.at the plac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419112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39560" y="1498680"/>
            <a:ext cx="846216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hen you read the book,you'd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better make a mark ___ you hav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ny question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at which                B.at wher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the place where     D.wher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518148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1447920"/>
            <a:ext cx="687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I’ll never forget the day </a:t>
            </a: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when</a:t>
            </a: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I met you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3657600"/>
            <a:ext cx="6492960" cy="6426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When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修饰一个时间名词，作时间状语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1295280"/>
            <a:ext cx="82296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1.Can you tell me the name of the factory ___ you visited last week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at               B.wher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/                      D.wh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952880"/>
            <a:ext cx="19814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1066680"/>
            <a:ext cx="79246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2.I can still remember the sitting-room___my mother and I used to sit in the evening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at          B.which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that            D.wher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472428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30760" y="1066680"/>
            <a:ext cx="8206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3.I shall never forget those year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___ I lived in the country with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the farmers ,____has a great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effect on my lif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that,which       B.when,whic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which,that       D.when,who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724280"/>
            <a:ext cx="35812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1000" y="1295280"/>
            <a:ext cx="8242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4.After living in Paris for fifty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years, he returned to the small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town ___ he grew up as a child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ich          B.wher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that              D.wh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4267080"/>
            <a:ext cx="19814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6000" y="1219320"/>
            <a:ext cx="8529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5.She thought I was talking about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her daughter,___in fact,I was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talking about my daughte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om            B.where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which            D.whil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87692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1295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6.It was an exciting moment for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ese football fans this year,___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for the first time in years their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eam won the World Cup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that               B.while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which            D.wh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571500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69960" y="1574640"/>
            <a:ext cx="761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7.I still remember the days___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e studied togethe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that                B.which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where             D.wh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457200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2:04:58Z</dcterms:created>
  <dc:creator>赵晨盼</dc:creator>
  <dc:description/>
  <dc:language>en-US</dc:language>
  <cp:lastModifiedBy>Legend User</cp:lastModifiedBy>
  <dcterms:modified xsi:type="dcterms:W3CDTF">2002-09-30T10:45:45Z</dcterms:modified>
  <cp:revision>4</cp:revision>
  <dc:subject/>
  <dc:title>PowerPoint 演示文稿</dc:title>
</cp:coreProperties>
</file>