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22F-E62B-4091-BA2E-64379339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BE8-E980-4571-8DE5-1780BF12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927-C3A7-456E-A79F-5786EAEF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8F2-11A5-4242-A2CF-5A1F85D9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3B86-9A5F-4D2D-84BE-7B2C34D2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F064-7713-466D-8100-2FEDFDAB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1640-85AE-414A-A36D-EFD7C9D4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857A-A338-4331-8FE4-CBD6C7D5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AC58-7FAC-4934-BEDC-425E7BD5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F03D-FDAE-4D1F-884C-90790505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8C96-0464-496B-8CE2-83A8718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C72-57C7-4AB2-853F-ABFDDF55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99A1-53C9-4056-9F00-37753FD9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6D69-F881-49B6-84A5-20DCC81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4E7B-0083-4F90-991F-43E406CA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AFAB-1755-4357-A5C0-62116844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C056-576A-4BC9-9DD5-D578D30D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2E1-16C8-490A-828B-58B05CC7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017-6A93-496C-B8AE-D7800A4D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C17-5FF9-4260-9104-0994A455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D67-2D9C-4FC0-8559-3326EEA5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6C3-E45C-402A-9B12-E8DCF66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897-AE2E-410E-9D96-D3F1E133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076-F452-48DC-86D7-3DE8AF1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E7E-0E88-4385-B804-ADF02050248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A624-868D-4C83-879F-BC8E8EDAE7E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09680" y="2286000"/>
            <a:ext cx="5791320" cy="155628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+ which\whom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5373720"/>
            <a:ext cx="280836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12952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33680" y="4992840"/>
            <a:ext cx="3838320" cy="70344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中缺少什么成分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267080"/>
            <a:ext cx="27432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91120" y="5410080"/>
            <a:ext cx="2466360" cy="76428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确定句子类型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181480"/>
            <a:ext cx="40384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191120"/>
            <a:ext cx="25146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0640" y="1523880"/>
            <a:ext cx="678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old Olympic Game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moder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games came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began aroun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year 776BC in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676520"/>
            <a:ext cx="725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Some of the games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young men competed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re: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running,jumping an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restl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905120"/>
            <a:ext cx="61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country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first Olympic Gam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ere held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is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240" y="1676520"/>
            <a:ext cx="654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n Barcelona the Chines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got 16 gold medals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which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12 were won b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ome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0440" y="914400"/>
            <a:ext cx="6340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ink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.This is the room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35440" y="1776240"/>
            <a:ext cx="7149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4.The comrad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came knows French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girl 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you'r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ooking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in the classroom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3429000"/>
            <a:ext cx="304920" cy="609480"/>
          </a:xfrm>
          <a:custGeom>
            <a:avLst/>
            <a:gdLst>
              <a:gd name="textAreaLeft" fmla="*/ 0 w 304920"/>
              <a:gd name="textAreaRight" fmla="*/ 305280 w 304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60480" y="1066680"/>
            <a:ext cx="6459840" cy="131292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或介词短语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)+which/whom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in fron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43200" y="228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类型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93200" y="2514600"/>
            <a:ext cx="5145840" cy="314136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.a few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os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any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om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on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93920" y="5867280"/>
            <a:ext cx="4103640" cy="70344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3.NOUN+of 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496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03848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2:36:14Z</dcterms:created>
  <dc:creator>Legend User</dc:creator>
  <dc:description/>
  <dc:language>en-US</dc:language>
  <cp:lastModifiedBy>赵晨盼</cp:lastModifiedBy>
  <dcterms:modified xsi:type="dcterms:W3CDTF">2002-10-13T10:32:04Z</dcterms:modified>
  <cp:revision>5</cp:revision>
  <dc:subject/>
  <dc:title>PowerPoint 演示文稿</dc:title>
</cp:coreProperties>
</file>