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D482-31F2-4D76-A8B4-132DC3B4B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DF7D-FD95-4C13-812E-BA29304B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A2E6-92DA-4EC8-9F3A-6E11DC701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90E6-8B29-43B1-903C-98B46E80E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3ABD-246B-4F90-BF8B-2213D38D3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F9B4-BC6E-4058-8212-B50BA674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827C-5E37-4E10-9A65-E27EE2A8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7E71-896E-492C-8C65-19588D9C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E4F9-E61C-465A-9A43-5CE90FB0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0C90-9545-41FB-A833-8E0C54CB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5BF8-DE64-4F0F-B9EB-5CFBDBBF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D311-0836-4AE0-B71A-6B975A72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EF50-2D42-4FD4-B935-06190DD3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7FD0-45B6-4922-BEE5-1F756851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137A-0067-49E6-9C6B-57653C86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B6C8-86A6-47BD-B556-02F27B6E7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C6B5-6F3D-4527-900A-81A607721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A56B-C84D-432A-A7A5-A2362EF3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7C52-7AF7-4BC4-88DA-28787C7D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8A44-0B27-4739-9C6F-463228A4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8263-A20A-4516-BECB-11040DD4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B87A-08FB-44F1-96F7-7EFCE2AF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3DE8-FFC3-46C9-A0DC-8A417F1F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FE0A-0814-4BE3-95C0-E354E348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5D49-F91D-4792-8BDA-E6E89BE91F9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1F92-340F-4F08-B27C-801881854BD4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ense.ppt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50920" y="83664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When we got to the theatre, they </a:t>
            </a:r>
            <a:r>
              <a:rPr b="0" lang="en-US" sz="4800" spc="-1" strike="noStrike">
                <a:solidFill>
                  <a:srgbClr val="da0000"/>
                </a:solidFill>
                <a:latin typeface="Arial Black"/>
              </a:rPr>
              <a:t>had sold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all the ticket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1240" y="3213000"/>
            <a:ext cx="7196400" cy="2702520"/>
            <a:chOff x="471240" y="3213000"/>
            <a:chExt cx="7196400" cy="2702520"/>
          </a:xfrm>
        </p:grpSpPr>
        <p:sp>
          <p:nvSpPr>
            <p:cNvPr id="83" name=""/>
            <p:cNvSpPr/>
            <p:nvPr/>
          </p:nvSpPr>
          <p:spPr>
            <a:xfrm>
              <a:off x="539640" y="4508280"/>
              <a:ext cx="7128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32000" y="4076640"/>
              <a:ext cx="0" cy="431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4076640"/>
              <a:ext cx="0" cy="431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732720" y="4147920"/>
              <a:ext cx="0" cy="360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1240" y="4724280"/>
              <a:ext cx="2058120" cy="642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had sol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48000" y="4724280"/>
              <a:ext cx="2448000" cy="1191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got to the theatre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302520" y="4653000"/>
              <a:ext cx="1145520" cy="642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Now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10960" y="3213000"/>
              <a:ext cx="1552320" cy="642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过去的过去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00000" y="765000"/>
            <a:ext cx="76536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8.When I got to the cinema, the film____ for five minute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had began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as on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C. has begun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D. had been on show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5229360"/>
            <a:ext cx="1008000" cy="79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620640"/>
            <a:ext cx="80485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9.Class ___ by the time I ____ there, so I took a seat in the back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has begun, get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had begun, go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. began, got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. begins, ge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3645000"/>
            <a:ext cx="1008000" cy="79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1280" y="179280"/>
            <a:ext cx="8137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10.Helen ___ her key in the office so she had to wait until her husband___ home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has left, comes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left, had com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C. had left, came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D. had left, would com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458136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765000"/>
            <a:ext cx="8335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1.The pen which I ___ I  ____ is on my desk, right under my nose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hink, lost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hought, had los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. think, had lost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. thought, have los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371628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95280" y="692280"/>
            <a:ext cx="81932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They asked me to have a drink with them. I said that it was at least ten years since I ____ a good drink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enjoy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as enjoy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enjoy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been enjoy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3068640"/>
            <a:ext cx="684000" cy="79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50920" y="620640"/>
            <a:ext cx="84088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How long __ each other before they ___ marri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 For about a yea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A. have they known; g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B. did they know; were going to g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. do they know; are going to g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. had they known; g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5445000"/>
            <a:ext cx="684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55640" y="1341360"/>
            <a:ext cx="8085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hen Jack arrived he learned Mary ___ for almost an hou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go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set of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lef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been aw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5013360"/>
            <a:ext cx="684000" cy="6476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95280" y="981000"/>
            <a:ext cx="87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---Did you tell your brother where she ___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---Yes, but I didn’t tell him she ___ until next wee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A. has gone; won’t come h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B. went; don’t come h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C. had been; wouldn’t come h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D. had gone; wouldn’t come h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4797360"/>
            <a:ext cx="684000" cy="6476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68360" y="836640"/>
            <a:ext cx="8264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is wife ___ to catch the first train but she was too lat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op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hop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s hop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ould hop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2637000"/>
            <a:ext cx="684360" cy="6476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4653000"/>
            <a:ext cx="8551800" cy="11912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had hoped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意为“原希望”，常用于这一结构的动词有“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think, want, plan, suppose, intend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2"/>
          </p:cNvPr>
          <p:cNvSpPr/>
          <p:nvPr/>
        </p:nvSpPr>
        <p:spPr>
          <a:xfrm>
            <a:off x="7885080" y="616572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9180" y="10800"/>
                </a:moveTo>
                <a:lnTo>
                  <a:pt x="23193" y="3794"/>
                </a:lnTo>
                <a:lnTo>
                  <a:pt x="23193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4360" y="1916280"/>
            <a:ext cx="783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过去完成时是一种与</a:t>
            </a:r>
            <a:r>
              <a:rPr b="1" lang="zh-CN" sz="4800" spc="-1" strike="noStrike">
                <a:solidFill>
                  <a:srgbClr val="ff3300"/>
                </a:solidFill>
                <a:latin typeface="Arial Black"/>
              </a:rPr>
              <a:t>过去时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相比较而存在的时态，用以表示“过去的过去”的动作或状态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50920" y="1773360"/>
            <a:ext cx="8480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1.When we _____(arrive) at the theatre, the play ____(already start)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4365720"/>
            <a:ext cx="575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 Black"/>
              </a:rPr>
              <a:t>arrived;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 Black"/>
              </a:rPr>
              <a:t>had already star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95280" y="60480"/>
            <a:ext cx="82645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2.The police found that the house ___and a lot of things___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A. has broken into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s been sto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B. had broken into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been sto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. has been broken into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sto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. had been broken into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sto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544500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8360" y="981000"/>
            <a:ext cx="79405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3.Tom didn't go to hear the singer because he___ him.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heard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ould hear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C. has heard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D. had hear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544500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95280" y="179280"/>
            <a:ext cx="835344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4.---Why didn't you come to the party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-----I___ to come, but one of my friends came to see me just the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A. wanted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B. was wanting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. had wan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D. had been wan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530064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00000" y="333360"/>
            <a:ext cx="7201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5.Sorry,I've eaten up the food. I___ that     he  wouldn't be back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think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was thin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had though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D. though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472428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31840" y="1125360"/>
            <a:ext cx="8085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6.When we got to his home, we learned h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___ for almost an hour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ent   B. had gone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C. had been awa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D. has go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07664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476280"/>
            <a:ext cx="876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7.---Did you meet John here at the university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----No, we___ when I started college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have already met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already me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. would meet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D. had already me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589720"/>
            <a:ext cx="1008000" cy="79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0:31:57Z</dcterms:created>
  <dc:creator>Legend User</dc:creator>
  <dc:description/>
  <dc:language>en-US</dc:language>
  <cp:lastModifiedBy>Legend User</cp:lastModifiedBy>
  <dcterms:modified xsi:type="dcterms:W3CDTF">2002-12-10T13:06:31Z</dcterms:modified>
  <cp:revision>18</cp:revision>
  <dc:subject/>
  <dc:title>幻灯片 1</dc:title>
</cp:coreProperties>
</file>