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A2574-CEE8-4546-8C7B-C62B3CA72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23818-1649-4801-ADCB-4E0BCC849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9397C-7AF2-42D9-BE35-4FC9555DB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D8554-FAA0-4722-9C48-2DF217400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611BE-7D3A-47A3-B86C-4BA14640C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85316-D2AD-43CD-AE21-662D4C49B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934EB-A78B-4113-B3B1-68C44F442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0DA50-2A82-45B8-AEF3-DB42B38BF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871A1-9EEF-4A24-93EB-EA1ACC265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18CB2-67F0-424C-BC32-0A122D6F3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78B54-A397-4D8F-869C-9A4AE486D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B0BFB-2667-41F0-83CF-9E8590F45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5E971-EB3C-4045-AAA0-5FB92BC3CB6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simple%20present&amp;present%20continuous.ppt#Slide 1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159640" y="1916280"/>
            <a:ext cx="4143240" cy="32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 u="sng">
                <a:solidFill>
                  <a:srgbClr val="009999"/>
                </a:solidFill>
                <a:uFillTx/>
                <a:latin typeface="Times New Roman"/>
                <a:ea typeface="隶书"/>
                <a:hlinkClick r:id="rId1"/>
              </a:rPr>
              <a:t>一般现在时和现在进行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00"/>
                </a:solidFill>
                <a:latin typeface="Times New Roman"/>
                <a:ea typeface="隶书"/>
              </a:rPr>
              <a:t>一般过去时和过去进行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00"/>
                </a:solidFill>
                <a:latin typeface="Times New Roman"/>
                <a:ea typeface="隶书"/>
              </a:rPr>
              <a:t>现在完成时和现在完成进行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00"/>
                </a:solidFill>
                <a:latin typeface="Times New Roman"/>
                <a:ea typeface="隶书"/>
              </a:rPr>
              <a:t>过去完成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00"/>
                </a:solidFill>
                <a:latin typeface="Times New Roman"/>
                <a:ea typeface="隶书"/>
              </a:rPr>
              <a:t>过去将来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>
            <a:hlinkClick r:id="" action="ppaction://hlinkshowjump?jump=endshow"/>
          </p:cNvPr>
          <p:cNvSpPr/>
          <p:nvPr/>
        </p:nvSpPr>
        <p:spPr>
          <a:xfrm>
            <a:off x="7164360" y="5229360"/>
            <a:ext cx="792360" cy="682560"/>
          </a:xfrm>
          <a:custGeom>
            <a:avLst/>
            <a:gdLst>
              <a:gd name="textAreaLeft" fmla="*/ 43920 w 792360"/>
              <a:gd name="textAreaRight" fmla="*/ 748440 w 792360"/>
              <a:gd name="textAreaTop" fmla="*/ 43920 h 682560"/>
              <a:gd name="textAreaBottom" fmla="*/ 638640 h 682560"/>
            </a:gdLst>
            <a:ahLst/>
            <a:rect l="textAreaLeft" t="textAreaTop" r="textAreaRight" b="textAreaBottom"/>
            <a:pathLst>
              <a:path w="25073" h="21600">
                <a:moveTo>
                  <a:pt x="0" y="0"/>
                </a:moveTo>
                <a:lnTo>
                  <a:pt x="25073" y="0"/>
                </a:lnTo>
                <a:lnTo>
                  <a:pt x="25073" y="21600"/>
                </a:lnTo>
                <a:lnTo>
                  <a:pt x="0" y="21600"/>
                </a:lnTo>
                <a:close/>
              </a:path>
              <a:path fill="lightenLess" w="25073" h="21600">
                <a:moveTo>
                  <a:pt x="0" y="0"/>
                </a:moveTo>
                <a:lnTo>
                  <a:pt x="25073" y="0"/>
                </a:lnTo>
                <a:lnTo>
                  <a:pt x="23673" y="1400"/>
                </a:lnTo>
                <a:lnTo>
                  <a:pt x="1400" y="1400"/>
                </a:lnTo>
                <a:close/>
              </a:path>
              <a:path fill="darken" w="25073" h="21600">
                <a:moveTo>
                  <a:pt x="25073" y="0"/>
                </a:moveTo>
                <a:lnTo>
                  <a:pt x="25073" y="21600"/>
                </a:lnTo>
                <a:lnTo>
                  <a:pt x="23673" y="20200"/>
                </a:lnTo>
                <a:lnTo>
                  <a:pt x="23673" y="1400"/>
                </a:lnTo>
                <a:close/>
              </a:path>
              <a:path fill="darkenLess" w="25073" h="21600">
                <a:moveTo>
                  <a:pt x="250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673" y="20200"/>
                </a:lnTo>
                <a:close/>
              </a:path>
              <a:path fill="lighten" w="250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073" h="21600">
                <a:moveTo>
                  <a:pt x="16035" y="10800"/>
                </a:moveTo>
                <a:lnTo>
                  <a:pt x="5530" y="17806"/>
                </a:lnTo>
                <a:lnTo>
                  <a:pt x="5530" y="3794"/>
                </a:lnTo>
                <a:close/>
              </a:path>
              <a:path fill="darken" w="25073" h="21600">
                <a:moveTo>
                  <a:pt x="17881" y="3794"/>
                </a:moveTo>
                <a:lnTo>
                  <a:pt x="17881" y="17806"/>
                </a:lnTo>
                <a:lnTo>
                  <a:pt x="19543" y="17806"/>
                </a:lnTo>
                <a:lnTo>
                  <a:pt x="19543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07T03:50:37Z</dcterms:created>
  <dc:creator>李徐琴</dc:creator>
  <dc:description/>
  <dc:language>en-US</dc:language>
  <cp:lastModifiedBy>Legend User</cp:lastModifiedBy>
  <dcterms:modified xsi:type="dcterms:W3CDTF">2002-11-24T10:07:14Z</dcterms:modified>
  <cp:revision>3</cp:revision>
  <dc:subject/>
  <dc:title>幻灯片 1</dc:title>
</cp:coreProperties>
</file>