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83D-740C-4B2C-9348-FD0BBE46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E96-A979-45D3-927A-BD3BAA83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068-303F-4F98-B944-22DC623D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580-94DB-40FB-8EA5-9C5C78B9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14E-65B0-40A7-BA3F-E8DE400A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90A-34F6-46F9-ADDC-E4A3FC7D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216-3B5E-455A-A065-4F72BDF7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5E2-C682-416C-A66D-C9FC40B3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58A-5C92-409A-A4B4-C699AD21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774-4626-4998-B265-EC1FF99C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D02-7E65-46DA-9E1B-A210555A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B63C-F6F8-4A1C-8AF9-9CBC8D73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356C-93E6-4BA9-A313-A60FE18457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38080"/>
            <a:ext cx="696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般现在时表示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总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通常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习惯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动作或状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snow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watch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21240" y="4365720"/>
            <a:ext cx="6861240" cy="1073160"/>
            <a:chOff x="921240" y="4365720"/>
            <a:chExt cx="6861240" cy="1073160"/>
          </a:xfrm>
        </p:grpSpPr>
        <p:sp>
          <p:nvSpPr>
            <p:cNvPr id="43" name=""/>
            <p:cNvSpPr/>
            <p:nvPr/>
          </p:nvSpPr>
          <p:spPr>
            <a:xfrm>
              <a:off x="4211640" y="4365720"/>
              <a:ext cx="0" cy="456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08880" y="48574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现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21240" y="4798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过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13960" y="4798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将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71280" y="4798800"/>
              <a:ext cx="65516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20240" y="476280"/>
            <a:ext cx="7192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现在进行时中动词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is        +    - 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o-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ve-li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重读闭音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it-sitting      drop-dr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以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e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结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ie-dying lie-l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1752480"/>
            <a:ext cx="6492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i="1" lang="zh-CN" sz="4400" spc="-1" strike="noStrike">
                <a:solidFill>
                  <a:srgbClr val="ffffff"/>
                </a:solidFill>
                <a:latin typeface="Times New Roman"/>
              </a:rPr>
              <a:t>is writing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nother book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is y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并不表示说话的时候她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拿着笔坐在书桌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990720"/>
            <a:ext cx="8542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Dian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as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____ her hair every other day or s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Kathy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usuall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____ in the front row during class,but today sh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he last r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64000" y="4292640"/>
            <a:ext cx="56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hes, sits, is sit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838080"/>
            <a:ext cx="7788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Lock,you,alway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____ the door to your apartment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公寓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when you le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I wrote to my friend last week.She hasn’t answered my letter yet.I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it,stil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 for a rep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440" y="4941720"/>
            <a:ext cx="532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 you always lock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am still wa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320" y="1989000"/>
            <a:ext cx="912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Every morning,the sun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hin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in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droom window and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ak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me 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27640" y="4076640"/>
            <a:ext cx="351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hines,wak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11280" y="765000"/>
            <a:ext cx="813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6.A:Look!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snow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: It’s beautiful! This is the first time I’ve ever seen snow. 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snow, not, ofte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___ in my count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8160" y="4365720"/>
            <a:ext cx="817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is snowing;does not often s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04640"/>
            <a:ext cx="8153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7. Mike is a student,but he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go,no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 to school right now because it’s summer.He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atten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 college from September to May every year,but in the summers he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have,usuall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a job at the post office.In fact,he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ork)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re this summ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72320" y="5084640"/>
            <a:ext cx="60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esn’t go;atten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usually has;is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55640" y="1341360"/>
            <a:ext cx="7720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8.Please be quiet.I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to concentr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9.After three days of rain,I’m glad that the sun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hin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again to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9960" y="4267080"/>
            <a:ext cx="539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am trying;is shi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44920" y="1143000"/>
            <a:ext cx="834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Is this raincoat you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No,mine ___ there behind the do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.is hanging        B.has h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.hangs               D.h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068640"/>
            <a:ext cx="25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88240" y="414972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进行时强调此刻正在进行的动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般现在时表示不确定时间经常、反复发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动作或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50760" y="1467000"/>
            <a:ext cx="7653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--- Can I help you, si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--- Yes, I bought this radio here yesterday, but it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did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wo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ca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does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5805360"/>
            <a:ext cx="4249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0440" y="2166840"/>
            <a:ext cx="878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用于对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客观事实的普遍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陈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consists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f hydrogen and oxy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Most animals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kil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ly for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 world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round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1268280"/>
            <a:ext cx="756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Can I join the club, D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You can when you ___ a bit ol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get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are g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will have g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3789360"/>
            <a:ext cx="1655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1268280"/>
            <a:ext cx="82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y cousin, Jenny, ___ in New York till next Satu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sta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have 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3141720"/>
            <a:ext cx="3166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765000"/>
            <a:ext cx="7004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Do you know when she 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No, but I’ll tell you as soon as she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come;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mes; will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come; will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mes;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386064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59560" y="692280"/>
            <a:ext cx="650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Look! ________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the bus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comes the b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is the bus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the bus is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916280"/>
            <a:ext cx="71928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386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re, ther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放在句子开头，句子主谓要倒装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主语为代词，主谓不倒装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。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re, ther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引导的句子中，常用一般现在时代替现在进行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97120" y="1405080"/>
            <a:ext cx="6743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某些动词的一般现在时表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说话时正在存在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一种情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hav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ly a dollar right 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don’t recogniz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hat 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need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a pen right 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注：这些动词不能用于进行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3880" y="1752480"/>
            <a:ext cx="533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现在时的动词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动词原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am;is ;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have,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三人称单数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-(e)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1143000"/>
            <a:ext cx="6705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肯定句：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tc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否定句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n’t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watch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疑问句：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tc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5160" y="1981080"/>
            <a:ext cx="6801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now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esn’t s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e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907920"/>
            <a:ext cx="6934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现在进行时表示一项活动在说话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或较长时间）正在进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are talking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 the ph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76360" y="2635560"/>
            <a:ext cx="5475240" cy="1822320"/>
            <a:chOff x="1476360" y="2635560"/>
            <a:chExt cx="5475240" cy="1822320"/>
          </a:xfrm>
        </p:grpSpPr>
        <p:sp>
          <p:nvSpPr>
            <p:cNvPr id="55" name=""/>
            <p:cNvSpPr/>
            <p:nvPr/>
          </p:nvSpPr>
          <p:spPr>
            <a:xfrm>
              <a:off x="4140360" y="3429000"/>
              <a:ext cx="0" cy="4017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8000" y="3429000"/>
              <a:ext cx="15264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357720"/>
              <a:ext cx="15264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3960" y="2708280"/>
              <a:ext cx="60696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t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44640" y="2635560"/>
              <a:ext cx="60696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fini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9960" y="2707560"/>
              <a:ext cx="60696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no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40000" y="4076640"/>
              <a:ext cx="3657600" cy="381240"/>
            </a:xfrm>
            <a:custGeom>
              <a:avLst/>
              <a:gdLst/>
              <a:ahLst/>
              <a:rect l="l" t="t" r="r" b="b"/>
              <a:pathLst>
                <a:path w="2592" h="488">
                  <a:moveTo>
                    <a:pt x="0" y="48"/>
                  </a:moveTo>
                  <a:cubicBezTo>
                    <a:pt x="432" y="268"/>
                    <a:pt x="864" y="488"/>
                    <a:pt x="1296" y="480"/>
                  </a:cubicBezTo>
                  <a:cubicBezTo>
                    <a:pt x="1728" y="472"/>
                    <a:pt x="2376" y="80"/>
                    <a:pt x="2592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76360" y="3860640"/>
              <a:ext cx="5256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78880" y="2349360"/>
            <a:ext cx="615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进行时的将来用法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When are you leav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=When will you lea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907920"/>
            <a:ext cx="7777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are 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ph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re not 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on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John and Mary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ph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00:33:55Z</dcterms:created>
  <dc:creator>zhao jinliang</dc:creator>
  <dc:description/>
  <dc:language>en-US</dc:language>
  <cp:lastModifiedBy>Legend User</cp:lastModifiedBy>
  <dcterms:modified xsi:type="dcterms:W3CDTF">2002-11-24T11:49:32Z</dcterms:modified>
  <cp:revision>18</cp:revision>
  <dc:subject/>
  <dc:title>PowerPoint 演示文稿</dc:title>
</cp:coreProperties>
</file>