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C17C-6E63-406F-BBDF-D864E5EE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F4C7-329A-4690-83DC-A4F7592E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89C7-7068-4D9F-9215-882D8ACA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E77B-2A78-49B2-8C93-07CA6F85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56F2-1223-415A-A93A-39D3B641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B448-F414-4516-AE39-4C0725AE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4BAF-EEAF-4982-8FDB-9BE68D57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256D-0A06-4303-9BCF-768CB43D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438E-F48A-4FAF-B746-EC7B00B8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2BE-B635-46E3-91F7-34BECC5C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10B-DD4E-4F48-ABC5-A99D27A9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9AF1-A141-4B9B-A1DE-1D0C8121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3461-BC96-4D50-8A66-9B2EB912A3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ense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7920" y="1481040"/>
            <a:ext cx="7462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般过去时表示一个动作或情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过去某个的时间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开始和结束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alke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to school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yesterday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bough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a new car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three days ago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30640" y="44370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7960" y="4437000"/>
            <a:ext cx="0" cy="5335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83440" y="4716360"/>
            <a:ext cx="12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1640" y="4970520"/>
            <a:ext cx="30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alked,bou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4797360"/>
            <a:ext cx="46814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1600200"/>
            <a:ext cx="7635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I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all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_ Roger at nine las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ight,  but he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be,no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_a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me.He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tud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_ at the libra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51960" y="4508640"/>
            <a:ext cx="624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alled;was not;was stud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990720"/>
            <a:ext cx="72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3.I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hear,not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the thunder during the storm last night because I 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sleep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50880" y="4581360"/>
            <a:ext cx="654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idn’t hear;was sleep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1447920"/>
            <a:ext cx="8207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4.My brother and sister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argu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 about something when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walk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 into the ro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1280" y="4267080"/>
            <a:ext cx="568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ere arguing;wal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838080"/>
            <a:ext cx="7903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6.While Mrs. Emerson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read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 the little boy a story,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fall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a sleep,so she 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clos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_ the book and quiet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tipto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 out of the ro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1760" y="5003640"/>
            <a:ext cx="800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 reading,fell,closed,tipto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6160" y="1341360"/>
            <a:ext cx="8596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7.----Nancy is not com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n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--But she ____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promises       B.promis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will promise  D. had promis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27640" y="4365720"/>
            <a:ext cx="27432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1447920"/>
            <a:ext cx="8283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8.Shirley ___ a book abo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hina last year but I don’t know whether  she has finished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has written    B.wro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had written    D.was wri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03640" y="5877000"/>
            <a:ext cx="3276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55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836640"/>
            <a:ext cx="83818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9.I first met Lisa three years ago.She ___ at a radio shop at the tim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has worked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. was wo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had been wo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.had wor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4508640"/>
            <a:ext cx="3581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692280"/>
            <a:ext cx="7391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10.I don’t think Jim saw me; he ___ into sp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A.just stared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B.was just star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C.has just star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D.had just star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3645000"/>
            <a:ext cx="44193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1760" y="1143000"/>
            <a:ext cx="8073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1.As she ____ the newspap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ranny____ aslee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read; was fal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.was reading;fe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was reading;was fal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.read;fe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4114800"/>
            <a:ext cx="4594320" cy="34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01400" y="1484280"/>
            <a:ext cx="8474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2.---You phone number aga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____ quite catch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-It’s 9568442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 didn’t        B. couldn’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don’t         D.can’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43700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1844640"/>
            <a:ext cx="7796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表示过去经常性的动作或情况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often got up at 6:00 last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366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9800" y="1219320"/>
            <a:ext cx="8834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3.---We could have walked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station,it was so n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--Yes,a taxi ___ at necessa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 wasn’t     B. hadn’t b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 wouldn’t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. won’t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4149720"/>
            <a:ext cx="23050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1341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14.Tom ___ into the house when no one 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. slipped, was loo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B. had slipped, loo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slipped, had loo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was slipped, loo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3573360"/>
            <a:ext cx="7561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5280" y="907920"/>
            <a:ext cx="8335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he reporter said the UFO _____east to west when he saw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raveled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was travel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had been trave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was to tra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4581360"/>
            <a:ext cx="5184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836640"/>
            <a:ext cx="7796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Hey, look where you are going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Oh, I’m terribly sorry.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’m not noti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 wasn’t noti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 haven’t no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 don’t no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4508640"/>
            <a:ext cx="5112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5640" y="1989000"/>
            <a:ext cx="772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What a nice bike! Where ___ you ___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do; buy     B. have; bou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. did ; buy  D. will; bu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4292640"/>
            <a:ext cx="3097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1125360"/>
            <a:ext cx="8443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he students ___ busily when Miss Brown went to get a book she ___ in the off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written;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ere writing; has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written; had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ere writing; had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4724280"/>
            <a:ext cx="684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71640" y="1484280"/>
            <a:ext cx="700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ary ___ a dress when she cut her fin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ade    B. is ma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was mak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mak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3284640"/>
            <a:ext cx="684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08200" y="890640"/>
            <a:ext cx="7796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he last time I ___ Jane she ___ cotton in the fiel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seen; was pic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aw; pick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seen; pick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aw; was pic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522936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/>
          </p:cNvPr>
          <p:cNvSpPr/>
          <p:nvPr/>
        </p:nvSpPr>
        <p:spPr>
          <a:xfrm>
            <a:off x="8028000" y="609300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01040" y="1382760"/>
            <a:ext cx="4471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英语动词的四种形式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原形       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过去形式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过去分词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现在分词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03480" y="176364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31600" y="1230480"/>
            <a:ext cx="5680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动词的一般过去形式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isten—liste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.study---stud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i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3.stop-----sto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pp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4.come----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ca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3560" y="2362320"/>
            <a:ext cx="757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walke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school yeste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didn’t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walk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school yeste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Di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you 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walk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school yesterda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74880" y="13827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5480" y="762120"/>
            <a:ext cx="791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过去进行时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was walking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Times New Roman"/>
              </a:rPr>
              <a:t>when it began to rain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476360" y="3429000"/>
            <a:ext cx="5381640" cy="2743200"/>
            <a:chOff x="1476360" y="3429000"/>
            <a:chExt cx="5381640" cy="2743200"/>
          </a:xfrm>
        </p:grpSpPr>
        <p:sp>
          <p:nvSpPr>
            <p:cNvPr id="55" name=""/>
            <p:cNvSpPr/>
            <p:nvPr/>
          </p:nvSpPr>
          <p:spPr>
            <a:xfrm>
              <a:off x="5508720" y="4365720"/>
              <a:ext cx="0" cy="287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2320" y="4495680"/>
              <a:ext cx="0" cy="3049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00200" y="4648320"/>
              <a:ext cx="1447920" cy="533160"/>
            </a:xfrm>
            <a:custGeom>
              <a:avLst/>
              <a:gdLst/>
              <a:ahLst/>
              <a:rect l="l" t="t" r="r" b="b"/>
              <a:pathLst>
                <a:path w="768" h="336">
                  <a:moveTo>
                    <a:pt x="0" y="0"/>
                  </a:moveTo>
                  <a:cubicBezTo>
                    <a:pt x="152" y="168"/>
                    <a:pt x="304" y="336"/>
                    <a:pt x="432" y="336"/>
                  </a:cubicBezTo>
                  <a:cubicBezTo>
                    <a:pt x="560" y="336"/>
                    <a:pt x="664" y="168"/>
                    <a:pt x="768" y="0"/>
                  </a:cubicBezTo>
                </a:path>
              </a:pathLst>
            </a:cu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14600" y="3429000"/>
              <a:ext cx="4343400" cy="609480"/>
            </a:xfrm>
            <a:prstGeom prst="wedgeRectCallout">
              <a:avLst>
                <a:gd name="adj1" fmla="val -50875"/>
                <a:gd name="adj2" fmla="val 13020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When it began to ra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33720" y="5562720"/>
              <a:ext cx="2590560" cy="609480"/>
            </a:xfrm>
            <a:prstGeom prst="wedgeRectCallout">
              <a:avLst>
                <a:gd name="adj1" fmla="val -36518"/>
                <a:gd name="adj2" fmla="val -9974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I was walk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6360" y="4653000"/>
              <a:ext cx="51832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28560" y="45957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now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19880" y="2133720"/>
            <a:ext cx="56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过去进行时的构成 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was/were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 + - 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2360" y="1052640"/>
            <a:ext cx="9070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 walk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it began to r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 not walk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it began to r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er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you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walk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it began to ra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685800"/>
            <a:ext cx="7010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用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一般过去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过去进行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填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I don’t want to go to the zoo today  because it is raining.The same thing  happened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yesterday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 I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ant ,no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 ____  to go to the zoo because it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rai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19640" y="5589720"/>
            <a:ext cx="49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idn’t want, was 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10:05:39Z</dcterms:created>
  <dc:creator>zhao jinliang</dc:creator>
  <dc:description/>
  <dc:language>en-US</dc:language>
  <cp:lastModifiedBy>Legend User</cp:lastModifiedBy>
  <dcterms:modified xsi:type="dcterms:W3CDTF">2002-11-24T11:53:40Z</dcterms:modified>
  <cp:revision>19</cp:revision>
  <dc:subject/>
  <dc:title>PowerPoint 演示文稿</dc:title>
</cp:coreProperties>
</file>