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61F3-D6B8-4739-9465-2AD2FC29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8521E-AB1B-4471-BF45-B4B6043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6E357-444D-42DA-B4D3-3C895604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97691-643C-4C1E-8C26-E38A3B5D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183DF-B757-44CB-ADDA-7047D1E2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218DE-02A5-495C-9209-88EA3F8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94958-5AC5-4600-99BC-0D577D76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AC4E5-3283-47FA-AEC1-5C625AA5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563D4-CAA3-4C92-9505-552A0F0B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E9030-366E-42BF-A282-34D71AAC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9F32D-8DEA-4C83-A639-BF400406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7A3CC-B2BF-4498-A9CD-43DDBE7F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0E8F-E272-4428-823F-CBCBFF38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9DA4A-A0D0-4906-B35D-60FEDB39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B3AC4-1069-4487-BEE1-070909F3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859A3-4D5E-46E1-8597-BF9F8F05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57C83-1AD9-484E-AD13-AD8945B7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1AB5B-B489-40E6-B81D-E1BB5D2C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285F8-59C0-4011-8271-D3233375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64730-6ACE-4B7E-897C-DAF24AA5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FA4F7-960D-4E4A-9DEE-0FD49E1A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DB599-2D80-4B3B-8CC7-3DE593BC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31407-D8B5-475A-B680-73490023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EDB9-DDA3-4724-B316-63089B2F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1A96E-1738-4053-BDE8-D858E8A7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1167D8-4562-42DB-9EA8-86CA447C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6466AA-2C06-4559-A932-243E871B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0522DA-8941-4DB9-ABC9-1682477D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A2BEB9-75AE-43C4-B8DB-4335F71F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6ADA65-BAAC-4137-9631-86E69754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A1FBF0-DC5A-4EA6-8058-C76C05F2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4E055C-9E43-404E-91B5-B58BF0C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8A90E6-E22A-455E-8457-097D3B75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086092-C5AA-466F-AE8F-5186929B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DC95-3231-4CBB-BF96-FB430EE2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0A45D4-D390-4E32-A792-E394CDB1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0EE28D-0BC9-4752-925C-CEA05CB8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CD2D1D-8EDA-4F08-AD3C-37A9EDD2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A13DB-2127-4003-8D71-C11E8065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F8047-60C2-471D-9DF2-5E517FA8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EC1A6-E6E8-4BC8-BD73-F580098E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798A4-7D5F-4E10-87E0-233927EA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CB1C6-586D-4752-A2D9-B4274E67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406FE-DE1E-4A10-A442-C14ED770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C934C-E209-4E2A-B1A2-E689CC5B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D849-B125-479D-AA97-0D791972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D95DB-7A69-4E4D-A34A-D465D53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009A3-934A-45C7-BA98-888BE30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C31C8-2C05-4B42-8838-DA6B9DD3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C6951-5D0D-4447-83FF-66B45220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EE6DC-AD55-4348-A5F5-194753F9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32C3FB-9472-4147-BF4D-61819F0B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6A0AB5-2448-442B-8D38-4FA7727F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80510C-3292-4445-B48D-C2B0F585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BE2748-D406-4168-BAAC-044B9309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95079B-1BE6-47F4-B61F-9C013A8B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AD92-1695-4549-9D6A-5994F16D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394554-B5FA-423A-9331-D8845A19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FD0CAC-B60C-4B88-AE93-D497D975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ED63D4-5A52-4758-90BA-F9EFCD1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FD6181-67CF-46A9-9601-1E634CB5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B118C4-3328-413F-BF45-C53D350E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9C5D0E-83BE-4CAB-B63B-9297142F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2DFE5B-B93F-4380-9B40-18E849D2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165F-C890-4201-B51E-5D9E1F25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5A1A-F033-4432-A02B-781C3163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328D-DC36-4162-8B1C-BEA0CA70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7AA8-C342-4DE5-883D-D7A32CB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D3727-D7EC-4421-B487-BD108E3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501F-1261-45CA-8C13-8CC1B5CB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4D44-71AE-4CED-81F2-1910DDE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680B-BE48-4C67-A597-8DEA652E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49BB-DA34-442C-BDEF-D6BB3FA5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04CA-39EC-4E42-95F3-8D4CC513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7BD7-1CBF-47B0-86DD-E3C92964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9387-6485-408C-96DC-4F9037B8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FDE2-7185-43CD-BEAB-B826BC72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5E0A-03A3-441A-8F49-5C25EE9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C426-D982-488D-B3E0-68507B78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2AF9-FB40-4EDA-8B32-6A2103A2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7335-D21A-4D4E-9686-E16C227E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6B34-A3E5-43DB-B971-DEF6B2F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07268-784A-473E-8EF7-6EDBAE1A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6DE1-F7EB-4DE8-949F-556EEF2C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D962-8E74-46E4-B9DA-6C62E2EF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024D-9F53-4823-856E-CA152616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CBC5-94CD-4B02-9015-BF346920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D88D3-1335-4267-8B15-C97D082E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38E7-ED05-4D38-B7B1-3C8FA102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EA98-765E-4E29-AFC3-44DEF369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1D6E-1204-44AC-847C-85FE2758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A939-A427-4AC7-802F-C2ABDF8B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C0FB-64EB-4557-8104-B25BD1BC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B9DF-2915-4AEA-B929-5424E6AA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34C4A-ECA3-41B2-8445-D0445F13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7B19E-0AB6-4747-AAB9-63F869C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FD9D-0490-4C8D-A7E8-CF0B9F9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E46D-572C-4C52-8420-652EA55D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7EDD-C821-4945-98EF-CF9352BA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E07B2-AF1B-4B5D-ADEF-973183CC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3BE20-306E-435B-8938-2BE9489D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6B32-45D6-4E5B-94FB-0A68CDEF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7CE3-5EF9-4B5C-BE2D-97DD1025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9CA9-771E-4AEA-8A75-6E7ACEF8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44413-5CFF-4B54-A06E-DE6DC166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767F-0DA2-4195-BD77-6D62582D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E3734-5B15-4C5A-B40A-67801C97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73D52-56E5-49DA-9EFA-C17A0FB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3E826-6160-4FCA-88BC-4226130E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F8141-D6E9-450C-94EF-DDFEB982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4F768-E298-4F2D-865F-864031E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9E497-38C7-44ED-8CAA-7AA2EBA5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EA5B-EB7D-49A9-875E-A99FB775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5CCEA-93D4-48D1-81F1-22F0E3D1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5F739-73AF-4746-B38D-31549846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455B8-068C-4EE9-A0E1-D4EA18EE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64D5F-B1CB-4347-8711-967E2496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F913B-1946-485E-89F4-D42A4436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86D94-B3A8-4583-9631-24E4F51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329E2-D47F-47AB-81E8-27B8C676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57D10-E394-46D8-811A-DE873A9A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715AD-E927-4B4E-B618-56FE2AF6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C7FE0-8EA8-4CF9-A7A3-DB8C6F5B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890C-70F4-4D3A-AF4D-245FBF94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ACAC6-ED80-4C6F-B099-F5DB8B4D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72E46-7380-4793-9627-AD18C3D0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69584-E469-4A05-A514-432DC0F0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21C4C0-ED3C-4263-920B-9CD04334E6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30A66C-D70E-482C-BE9F-73D85A56B4A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4177B2-9618-43A6-A7EE-0EE96A29A1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3DA89C-9513-4E68-B44F-9D9AE451B5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56D9EC-D820-4B1E-A084-5C088505A86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FF0E7C-94AB-464D-90DD-7A22AF0BB3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7BB90C-D513-46FB-9A65-ED4DDE2C4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8DB2-2A4D-4649-97C5-E2EF9FBB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E48667-37FC-40C9-B804-353789B460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CC5DDB-A895-47B9-8795-503EDCADB26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AD53A1-B982-497E-A1C2-22DC5976727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C85DAC-5C56-4EA0-BA52-9B783979EA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A0DF80-899F-4041-9DC5-66BBA382690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3A575C-8A30-48FF-B3F8-4FC0F756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E140B-A12D-4199-9962-5387B176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80B9D-69EB-4DBD-91F4-E40761CC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121A2F-2C70-4C3B-8BBE-04CBDE9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F042F5-F697-4580-9A77-7D9C4D92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CC1A-7159-4B4B-B6B0-940BAA6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698331-2146-4E50-8FC1-6B0E2BE8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A3C482-2AB5-4BDA-B173-CA6D0CA3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45DAF-B1E3-4A6B-BC38-2CBBA72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A674C-4247-422C-A942-2070CB61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621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14139-3F9F-4EAB-A5C8-5B54CCD2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44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44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910A87-511B-410E-9F3E-C638AFB1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90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62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90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177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8FA9E9-DA31-4517-AE38-1C2D282A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2847F-C428-4E30-80EC-BE916CE3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09886-AAFF-4EDB-8810-980805CE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03C4D-6AB8-4226-9A50-3AEB11E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0A3F-8CFF-469E-B37A-C40983812DE5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26E-61D1-4ED3-A968-05D40C5EB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515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9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0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1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B11-629F-49B6-ADA7-1555843E258F}" type="slidenum">
              <a:rPr b="1" lang="zh-CN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522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73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32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33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4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0257-691E-4801-9386-4A14ECA97720}" type="slidenum">
              <a:rPr b="1" lang="zh-CN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2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635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638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5"/>
          </p:nvPr>
        </p:nvSpPr>
        <p:spPr>
          <a:xfrm>
            <a:off x="6705720" y="54864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028F-7175-442E-961F-BF3CB4A729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EAB2-027E-4225-AA73-FB13BDBE5C71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7C08-EABA-40D7-9AF4-8B501A983E68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1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6B1E-55EF-478E-BDF1-4E15BAF90AE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C50A-A0F4-4396-ACD7-5B689ADC3D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4893-FE87-41AB-A251-3292367760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ldNum" idx="19"/>
          </p:nvPr>
        </p:nvSpPr>
        <p:spPr>
          <a:xfrm>
            <a:off x="8686800" y="645948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E67B-4687-4300-B236-04EAE962E590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438280" y="762120"/>
            <a:ext cx="6019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title"/>
          </p:nvPr>
        </p:nvSpPr>
        <p:spPr>
          <a:xfrm>
            <a:off x="861480" y="774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8C32-FF6F-4B5A-AED5-84EE607E1B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9B01-2A87-4EB0-AAF7-4E72377C2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87280" y="2449440"/>
            <a:ext cx="662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hy don’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do something about i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5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 There seems (to be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 I would like you 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. It  looks as if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. I insist that you (should)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. why don’t you do something about i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843280" y="981000"/>
            <a:ext cx="33908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Oral pract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68360" y="441360"/>
            <a:ext cx="8136000" cy="5840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3203640" y="1628640"/>
            <a:ext cx="2727360" cy="16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ank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132000" y="2997360"/>
            <a:ext cx="316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s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339640" y="1341000"/>
            <a:ext cx="4103640" cy="10796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At the shop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1403280" y="3429000"/>
            <a:ext cx="62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How to talk when shopp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31640" y="1773360"/>
            <a:ext cx="626436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What’s happening?</a:t>
            </a:r>
            <a:br>
              <a:rPr sz="48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hop assistant and a custome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939160" cy="403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1008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9600" spc="-1" strike="noStrike">
                <a:solidFill>
                  <a:srgbClr val="e3e3ff"/>
                </a:solidFill>
                <a:latin typeface="Arial Black"/>
              </a:rPr>
              <a:t> </a:t>
            </a:r>
            <a:r>
              <a:rPr b="0" lang="en-US" sz="96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1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did the customer buy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 Why did she return to the sh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3 what did she want the assistant to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 what did they both agree to do at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34760" y="321300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nguage stu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411280" y="2492280"/>
            <a:ext cx="431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nguage study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900000" y="213372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re seems to b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something wrong with i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16000" y="234936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2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would lik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you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o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change this blous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5280" y="214956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t looks 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it has not been washed following the instr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9640" y="23781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4. I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insis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that you give me my money back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3:21:52Z</dcterms:created>
  <dc:creator>zz</dc:creator>
  <dc:description/>
  <dc:language>en-US</dc:language>
  <cp:lastModifiedBy>Legend User</cp:lastModifiedBy>
  <dcterms:modified xsi:type="dcterms:W3CDTF">2002-12-01T06:49:10Z</dcterms:modified>
  <cp:revision>18</cp:revision>
  <dc:subject/>
  <dc:title>介绍演讲者</dc:title>
</cp:coreProperties>
</file>