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792-2117-4D17-8DD6-823D2090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097-259A-41CB-86D1-4446389A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90B-84F5-4B64-BDE1-39A240AD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80B-6647-4E62-947A-A7D69902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C73-D9C3-4450-A80E-5700883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83F-3F4E-402A-896F-5683DE55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29A-47F1-440D-B4F5-F2C2192C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8C8-F223-4E0D-A9A6-64F03F5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513-E197-4084-8D0A-0D668FC6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BD2-C87E-4CD5-B52F-03E73DD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2B4-C816-45D7-8DF4-A84BA1C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E02-5104-4538-9623-353856E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77AC-50A0-4C13-B567-9D870EF98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09680"/>
            <a:ext cx="548640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Unit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Making a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828800"/>
            <a:ext cx="6934320" cy="331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ad some famous quotes and thin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What do they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explain them in your own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o you agree with them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981080"/>
            <a:ext cx="7543800" cy="116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tion is more important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succeed,it’s more important for you to have imagination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752480"/>
            <a:ext cx="70866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ius is one percent inspiration and ninety-nine percent per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88620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we make great efforts to do something, we’ll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 matter how clever he is, a person will fail if he doesn’t try his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447920"/>
            <a:ext cx="67816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hing in life is to be feared. It is only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thing to be feared in the world,while there are only things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676520"/>
            <a:ext cx="70102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a very unusual mind to undertake analysis of the obv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red North Whit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6576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r study the obvious things is not so easy. It needs a very unusual mind, that is to say,original ideas and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66294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 cannot teach a man anything;you can only help him find it within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352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not teach a man anything; you can only help him discover something by himself or help him teach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600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6400800" cy="1818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akes a scientist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y have in comm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list of good qualities the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9000" y="1295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6858000" cy="2893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fi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火，燃烧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house was on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衷于，充满热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se students are on fire for what they are learning in the compu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11430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Deb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971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Biology    2.Maths      3.Physics       4.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 your point of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that biology is the most important and useful science,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o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……                2. ……                 3.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143000"/>
            <a:ext cx="60199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s called the greatest scientist in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2438280"/>
            <a:ext cx="4495680" cy="3124440"/>
            <a:chOff x="2133720" y="2438280"/>
            <a:chExt cx="4495680" cy="3124440"/>
          </a:xfrm>
        </p:grpSpPr>
        <p:pic>
          <p:nvPicPr>
            <p:cNvPr id="45" name="爱因斯坦4" descr=""/>
            <p:cNvPicPr/>
            <p:nvPr/>
          </p:nvPicPr>
          <p:blipFill>
            <a:blip r:embed="rId2"/>
            <a:stretch/>
          </p:blipFill>
          <p:spPr>
            <a:xfrm>
              <a:off x="2133720" y="2438280"/>
              <a:ext cx="220968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爱因斯坦２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2286000" cy="31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590920" y="5791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1066680"/>
            <a:ext cx="64771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oman who was the first woman scientist to receive the Nobel Pr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38280" y="2438280"/>
            <a:ext cx="4038840" cy="2819520"/>
            <a:chOff x="2438280" y="2438280"/>
            <a:chExt cx="4038840" cy="2819520"/>
          </a:xfrm>
        </p:grpSpPr>
        <p:pic>
          <p:nvPicPr>
            <p:cNvPr id="50" name="居里3" descr="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居里4" descr=""/>
            <p:cNvPicPr/>
            <p:nvPr/>
          </p:nvPicPr>
          <p:blipFill>
            <a:blip r:embed="rId3"/>
            <a:stretch/>
          </p:blipFill>
          <p:spPr>
            <a:xfrm>
              <a:off x="2438280" y="2438280"/>
              <a:ext cx="19814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0" y="5562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ame / Marie 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1143000"/>
            <a:ext cx="6629400" cy="15562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made more than 1,000 inventions in his life and invented electric bul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14600" y="2971800"/>
            <a:ext cx="4038480" cy="2819520"/>
            <a:chOff x="2514600" y="2971800"/>
            <a:chExt cx="4038480" cy="2819520"/>
          </a:xfrm>
        </p:grpSpPr>
        <p:pic>
          <p:nvPicPr>
            <p:cNvPr id="55" name="爱迪生2" descr=""/>
            <p:cNvPicPr/>
            <p:nvPr/>
          </p:nvPicPr>
          <p:blipFill>
            <a:blip r:embed="rId2"/>
            <a:stretch/>
          </p:blipFill>
          <p:spPr>
            <a:xfrm>
              <a:off x="2514600" y="2971800"/>
              <a:ext cx="21337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爱迪生3" descr=""/>
            <p:cNvPicPr/>
            <p:nvPr/>
          </p:nvPicPr>
          <p:blipFill>
            <a:blip r:embed="rId3"/>
            <a:stretch/>
          </p:blipFill>
          <p:spPr>
            <a:xfrm>
              <a:off x="4648320" y="2971800"/>
              <a:ext cx="19047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19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914400"/>
            <a:ext cx="6400800" cy="5814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nvented lightning r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0" y="1752480"/>
            <a:ext cx="4648320" cy="4191120"/>
            <a:chOff x="2286000" y="1752480"/>
            <a:chExt cx="4648320" cy="4191120"/>
          </a:xfrm>
        </p:grpSpPr>
        <p:pic>
          <p:nvPicPr>
            <p:cNvPr id="60" name="富兰克林1" descr=""/>
            <p:cNvPicPr/>
            <p:nvPr/>
          </p:nvPicPr>
          <p:blipFill>
            <a:blip r:embed="rId2"/>
            <a:stretch/>
          </p:blipFill>
          <p:spPr>
            <a:xfrm>
              <a:off x="2286000" y="1752480"/>
              <a:ext cx="24382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富兰克林3" descr=""/>
            <p:cNvPicPr/>
            <p:nvPr/>
          </p:nvPicPr>
          <p:blipFill>
            <a:blip r:embed="rId3"/>
            <a:stretch/>
          </p:blipFill>
          <p:spPr>
            <a:xfrm>
              <a:off x="4724280" y="1752480"/>
              <a:ext cx="22100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895480" y="5867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14300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discovered the force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38280" y="2514600"/>
            <a:ext cx="4343400" cy="3276720"/>
            <a:chOff x="2438280" y="2514600"/>
            <a:chExt cx="4343400" cy="3276720"/>
          </a:xfrm>
        </p:grpSpPr>
        <p:pic>
          <p:nvPicPr>
            <p:cNvPr id="65" name="牛顿3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2096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牛顿5" descr=""/>
            <p:cNvPicPr/>
            <p:nvPr/>
          </p:nvPicPr>
          <p:blipFill>
            <a:blip r:embed="rId3"/>
            <a:stretch/>
          </p:blipFill>
          <p:spPr>
            <a:xfrm>
              <a:off x="2438280" y="2514600"/>
              <a:ext cx="216396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971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066680"/>
            <a:ext cx="640080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mous biologist who is known for his theory of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62320" y="2438280"/>
            <a:ext cx="4114800" cy="3353040"/>
            <a:chOff x="2362320" y="2438280"/>
            <a:chExt cx="4114800" cy="3353040"/>
          </a:xfrm>
        </p:grpSpPr>
        <p:pic>
          <p:nvPicPr>
            <p:cNvPr id="70" name="达尔文1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19814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达尔文3" descr=""/>
            <p:cNvPicPr/>
            <p:nvPr/>
          </p:nvPicPr>
          <p:blipFill>
            <a:blip r:embed="rId3"/>
            <a:stretch/>
          </p:blipFill>
          <p:spPr>
            <a:xfrm>
              <a:off x="2362320" y="2438280"/>
              <a:ext cx="213336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made the earliest seism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2438280"/>
            <a:ext cx="3657600" cy="3276720"/>
            <a:chOff x="2666880" y="2438280"/>
            <a:chExt cx="3657600" cy="3276720"/>
          </a:xfrm>
        </p:grpSpPr>
        <p:pic>
          <p:nvPicPr>
            <p:cNvPr id="75" name="张衡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19209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地动仪" descr=""/>
            <p:cNvPicPr/>
            <p:nvPr/>
          </p:nvPicPr>
          <p:blipFill>
            <a:blip r:embed="rId3"/>
            <a:stretch/>
          </p:blipFill>
          <p:spPr>
            <a:xfrm>
              <a:off x="4572000" y="2438280"/>
              <a:ext cx="175248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304812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ang 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838080"/>
            <a:ext cx="60962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is called the father of modern 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0" y="2362320"/>
            <a:ext cx="5029200" cy="3429000"/>
            <a:chOff x="2286000" y="2362320"/>
            <a:chExt cx="5029200" cy="3429000"/>
          </a:xfrm>
        </p:grpSpPr>
        <p:pic>
          <p:nvPicPr>
            <p:cNvPr id="80" name="袁隆平1" descr=""/>
            <p:cNvPicPr/>
            <p:nvPr/>
          </p:nvPicPr>
          <p:blipFill>
            <a:blip r:embed="rId2"/>
            <a:stretch/>
          </p:blipFill>
          <p:spPr>
            <a:xfrm>
              <a:off x="4419720" y="342900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袁隆平2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21970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80060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uan Long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3:07:45Z</dcterms:created>
  <dc:creator>Legend User</dc:creator>
  <dc:description/>
  <dc:language>en-US</dc:language>
  <cp:lastModifiedBy>Legend User</cp:lastModifiedBy>
  <dcterms:modified xsi:type="dcterms:W3CDTF">2004-09-01T14:53:51Z</dcterms:modified>
  <cp:revision>5</cp:revision>
  <dc:subject/>
  <dc:title>PowerPoint 演示文稿</dc:title>
</cp:coreProperties>
</file>