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5BC-F612-4E08-B0E4-5AB9A59F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E90-48FD-4BF3-91DE-60AA6609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8D1-6857-4BAB-83DC-60955C54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1EC-A086-4197-81DD-744271FA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582-90E1-43A0-B439-03F973F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A3F-8C51-492F-890C-E3697AD2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4F3-B230-4B04-94AD-9655020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2D6-3B53-44BE-A720-61099BC2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567-9571-436A-8A3F-77584622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BEF-206C-4F6D-8457-8F72764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B32-D366-4782-8574-F2EED45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15E-8BBD-4239-96FC-F8A90C7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F1B-CD83-4402-B774-48D0AE1D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ccccff"/>
                </a:solidFill>
                <a:latin typeface="Comic Sans MS"/>
              </a:rPr>
              <a:t>Audrey Hepburn beauty tips</a:t>
            </a:r>
            <a:br>
              <a:rPr sz="4400"/>
            </a:br>
            <a:r>
              <a:rPr b="0" lang="zh-TW" sz="4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奧黛莉赫本的美麗祕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following was written by Audrey Hepburn, who was asked to share beauty t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9" name="pavilionbaby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68604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beauty of a woman is not in a facial mode, but the tru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beauty in a woman is reflected in her soul. It is the caring that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sh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lovingly gives, the passion that she sh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女人的美麗不是表面的，應該是她的精神層面－是她的關懷、她的愛心以及她的熱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2" name="keepingthepromisesmall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731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The beauty of a woman grow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passing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女人的美麗是跟著年齡成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5" name="face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809880" cy="3008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Please send this to five phenomenal women today. If you do,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omething good will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... that is, you will boost another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woman's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elf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e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請多加轉寄，謝謝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4" name="senzatit15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06216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1.</a:t>
            </a: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or attractive lips, speak words of kind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要有吸引人的雙唇，請說好意的言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7" name="ar2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368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For lovely eyes, seek out the good in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要有美麗的雙眼，請尋索它人的優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0" name="senzatit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80988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For a slim figure, share your food with the hung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要有纖細的身材，請與飢民分享你的食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3" name="aubatf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92284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For beautiful hair, let a child run his or her fingers through it once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要有亮麗的頭髮，請讓小孩每日觸摸妳的頭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6" name="senzatit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For poise, walk with the knowledg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you</a:t>
            </a:r>
            <a:r>
              <a:rPr b="0" lang="is-IS" sz="20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never walk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要有自信的態度，請學習妳不曾學過的知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9" name="senzatit10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482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People, even more than things, have to be restored, revived,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reclaimed and redeemed; never throw ou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人之所以為人，是必須充滿精力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自我悔改、自我反省、自我成長；並非向人抱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2" name="ao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641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Remember, if you ever need a helping hand, you'll find them at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e end of each of your arms. As you grow older, you will discove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at you have two hands, one for helping yourself, the other fo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helpi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</a:t>
            </a: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請記得，如果你需要幫助，你永遠有你的手可以自己動手。當你成長後，你會發覺你有二隻手，一隻幫助自己，一隻幫助它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6" name="senzatit4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2450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The beauty of a woman is not in the clothes she wears, the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figure that she carries, or the way she combs her hair. The beauty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of a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woman must be seen from in her eyes, because that is the doorway to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r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art, the place where love res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</a:t>
            </a: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女人的美麗不存在於她的服飾、她的珠寶、她的髮型；女人的美麗必須從她的眼中找到，因為這才是她的心靈之窗與愛心之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0:25:07Z</dcterms:created>
  <dc:creator>Unknown User</dc:creator>
  <dc:description/>
  <dc:language>en-US</dc:language>
  <cp:lastModifiedBy>Clement Hsieh</cp:lastModifiedBy>
  <dcterms:modified xsi:type="dcterms:W3CDTF">2001-11-28T04:15:24Z</dcterms:modified>
  <cp:revision>4</cp:revision>
  <dc:subject/>
  <dc:title>Audrey Hepburn beauty tips</dc:title>
</cp:coreProperties>
</file>