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B2264-01AC-4348-892C-0D44231F4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BBD54-0263-435E-BD81-451D46C33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68396-DCBD-48AF-B55C-107A3CC7F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F21DB-032A-4298-BA2B-B4C497B91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B3DF8-69B8-43B5-A0E9-8FDA366EA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34302-880B-4CD0-9921-E4A2BBA6E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8AFD4-542D-4435-8AC0-9E3F4A5AA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B20B2-9BE7-45BF-AF5E-E9665BA76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A83AD-91A3-4621-A31C-1271A34DF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321F2-53F7-4C74-9892-AC9B3A7EC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927AD-84C8-4B8D-BA0F-7E68B64BA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AB853-1EE5-4E30-B887-6FB758897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A95F4-AF21-48B6-99D4-CED694D72B9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file:///tense.ppt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838080"/>
            <a:ext cx="69613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一般现在时表示</a:t>
            </a:r>
            <a:r>
              <a:rPr b="1" lang="zh-CN" sz="4000" spc="-1" strike="noStrike" u="sng">
                <a:solidFill>
                  <a:srgbClr val="ffffff"/>
                </a:solidFill>
                <a:uFillTx/>
                <a:latin typeface="Times New Roman"/>
              </a:rPr>
              <a:t>总是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1" lang="zh-CN" sz="4000" spc="-1" strike="noStrike" u="sng">
                <a:solidFill>
                  <a:srgbClr val="ffffff"/>
                </a:solidFill>
                <a:uFillTx/>
                <a:latin typeface="Times New Roman"/>
              </a:rPr>
              <a:t>通常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1" lang="zh-CN" sz="4000" spc="-1" strike="noStrike" u="sng">
                <a:solidFill>
                  <a:srgbClr val="ffffff"/>
                </a:solidFill>
                <a:uFillTx/>
                <a:latin typeface="Times New Roman"/>
              </a:rPr>
              <a:t>习惯性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的动作或状态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It </a:t>
            </a:r>
            <a:r>
              <a:rPr b="1" lang="zh-CN" sz="4000" spc="-1" strike="noStrike" u="sng">
                <a:solidFill>
                  <a:srgbClr val="ffffff"/>
                </a:solidFill>
                <a:uFillTx/>
                <a:latin typeface="Times New Roman"/>
              </a:rPr>
              <a:t>snows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 in wint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I </a:t>
            </a:r>
            <a:r>
              <a:rPr b="1" lang="zh-CN" sz="4000" spc="-1" strike="noStrike" u="sng">
                <a:solidFill>
                  <a:srgbClr val="ffffff"/>
                </a:solidFill>
                <a:uFillTx/>
                <a:latin typeface="Times New Roman"/>
              </a:rPr>
              <a:t>watch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 television every da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921240" y="4365720"/>
            <a:ext cx="6861240" cy="1073160"/>
            <a:chOff x="921240" y="4365720"/>
            <a:chExt cx="6861240" cy="1073160"/>
          </a:xfrm>
        </p:grpSpPr>
        <p:sp>
          <p:nvSpPr>
            <p:cNvPr id="43" name=""/>
            <p:cNvSpPr/>
            <p:nvPr/>
          </p:nvSpPr>
          <p:spPr>
            <a:xfrm>
              <a:off x="4211640" y="4365720"/>
              <a:ext cx="0" cy="45684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908880" y="4857480"/>
              <a:ext cx="668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3300"/>
                  </a:solidFill>
                  <a:latin typeface="Times New Roman"/>
                </a:rPr>
                <a:t>现在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921240" y="4798800"/>
              <a:ext cx="668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3300"/>
                  </a:solidFill>
                  <a:latin typeface="Times New Roman"/>
                </a:rPr>
                <a:t>过去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113960" y="4798800"/>
              <a:ext cx="668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3300"/>
                  </a:solidFill>
                  <a:latin typeface="Times New Roman"/>
                </a:rPr>
                <a:t>将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971280" y="4798800"/>
              <a:ext cx="655164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1020240" y="476280"/>
            <a:ext cx="71928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现在进行时中动词形式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i="1" lang="zh-CN" sz="3600" spc="-1" strike="noStrike">
                <a:solidFill>
                  <a:srgbClr val="ffffff"/>
                </a:solidFill>
                <a:latin typeface="Times New Roman"/>
              </a:rPr>
              <a:t>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i="1" lang="zh-CN" sz="3600" spc="-1" strike="noStrike">
                <a:solidFill>
                  <a:srgbClr val="ffffff"/>
                </a:solidFill>
                <a:latin typeface="Times New Roman"/>
              </a:rPr>
              <a:t>is        +    - 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i="1" lang="zh-CN" sz="3600" spc="-1" strike="noStrike">
                <a:solidFill>
                  <a:srgbClr val="ffffff"/>
                </a:solidFill>
                <a:latin typeface="Times New Roman"/>
              </a:rPr>
              <a:t>a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do-do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live-liv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、重读闭音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sit-sitting      drop-dropp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以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ie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结尾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die-dying lie-ly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066680" y="1752480"/>
            <a:ext cx="64929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She </a:t>
            </a:r>
            <a:r>
              <a:rPr b="1" i="1" lang="zh-CN" sz="4400" spc="-1" strike="noStrike">
                <a:solidFill>
                  <a:srgbClr val="ffffff"/>
                </a:solidFill>
                <a:latin typeface="Times New Roman"/>
              </a:rPr>
              <a:t>is writing 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another book </a:t>
            </a:r>
            <a:r>
              <a:rPr b="1" lang="zh-CN" sz="4400" spc="-1" strike="noStrike" u="sng">
                <a:solidFill>
                  <a:srgbClr val="ffffff"/>
                </a:solidFill>
                <a:uFillTx/>
                <a:latin typeface="Times New Roman"/>
              </a:rPr>
              <a:t>this year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并不表示说话的时候她正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拿着笔坐在书桌前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04920" y="990720"/>
            <a:ext cx="85420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1.Diane (</a:t>
            </a: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wash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) ____ her hair every other day or so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2.Kathy 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usually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sit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) ____ in the front row during class,but today she (</a:t>
            </a: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sit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)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in the last row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64000" y="4292640"/>
            <a:ext cx="565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washes, sits, is sittin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09480" y="838080"/>
            <a:ext cx="77882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3.(</a:t>
            </a:r>
            <a:r>
              <a:rPr b="1" i="1" lang="zh-CN" sz="4000" spc="-1" strike="noStrike">
                <a:solidFill>
                  <a:srgbClr val="ffffff"/>
                </a:solidFill>
                <a:latin typeface="Times New Roman"/>
              </a:rPr>
              <a:t>Lock,you,always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)________ the door to your apartment(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公寓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) when you leav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4.I wrote to my friend last week.She hasn’t answered my letter yet.I(</a:t>
            </a:r>
            <a:r>
              <a:rPr b="1" i="1" lang="zh-CN" sz="4000" spc="-1" strike="noStrike">
                <a:solidFill>
                  <a:srgbClr val="ffffff"/>
                </a:solidFill>
                <a:latin typeface="Times New Roman"/>
              </a:rPr>
              <a:t>wait,still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)____ for a repl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981440" y="4941720"/>
            <a:ext cx="532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Do you always lock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am still waitin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3320" y="1989000"/>
            <a:ext cx="9125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5.Every morning,the sun(</a:t>
            </a: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shine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)___ in m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bedroom window and (</a:t>
            </a: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wake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)___me up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627640" y="4076640"/>
            <a:ext cx="3518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shines,wak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11280" y="765000"/>
            <a:ext cx="813744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6.A:Look!It (</a:t>
            </a:r>
            <a:r>
              <a:rPr b="1" i="1" lang="zh-CN" sz="4000" spc="-1" strike="noStrike">
                <a:solidFill>
                  <a:srgbClr val="ffffff"/>
                </a:solidFill>
                <a:latin typeface="Times New Roman"/>
              </a:rPr>
              <a:t>snow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)____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B: It’s beautiful! This is the first time I’ve ever seen snow. It (</a:t>
            </a:r>
            <a:r>
              <a:rPr b="1" i="1" lang="zh-CN" sz="4000" spc="-1" strike="noStrike">
                <a:solidFill>
                  <a:srgbClr val="ffffff"/>
                </a:solidFill>
                <a:latin typeface="Times New Roman"/>
              </a:rPr>
              <a:t>snow, not, often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) ___ in my countr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98160" y="4365720"/>
            <a:ext cx="817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is snowing;does not often snow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533520" y="404640"/>
            <a:ext cx="81532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7. Mike is a student,but he (</a:t>
            </a:r>
            <a:r>
              <a:rPr b="1" i="1" lang="zh-CN" sz="4000" spc="-1" strike="noStrike">
                <a:solidFill>
                  <a:srgbClr val="ffffff"/>
                </a:solidFill>
                <a:latin typeface="Times New Roman"/>
              </a:rPr>
              <a:t>go,not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)___ to school right now because it’s summer.He (</a:t>
            </a:r>
            <a:r>
              <a:rPr b="1" i="1" lang="zh-CN" sz="4000" spc="-1" strike="noStrike">
                <a:solidFill>
                  <a:srgbClr val="ffffff"/>
                </a:solidFill>
                <a:latin typeface="Times New Roman"/>
              </a:rPr>
              <a:t>attend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)___ college from September to May every year,but in the summers he(</a:t>
            </a:r>
            <a:r>
              <a:rPr b="1" i="1" lang="zh-CN" sz="4000" spc="-1" strike="noStrike">
                <a:solidFill>
                  <a:srgbClr val="ffffff"/>
                </a:solidFill>
                <a:latin typeface="Times New Roman"/>
              </a:rPr>
              <a:t>have,usually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)___a job at the post office.In fact,he(</a:t>
            </a:r>
            <a:r>
              <a:rPr b="1" i="1" lang="zh-CN" sz="4000" spc="-1" strike="noStrike">
                <a:solidFill>
                  <a:srgbClr val="ffffff"/>
                </a:solidFill>
                <a:latin typeface="Times New Roman"/>
              </a:rPr>
              <a:t>work)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there this summ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272320" y="5084640"/>
            <a:ext cx="6005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</a:rPr>
              <a:t>doesn’t go;attends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</a:rPr>
              <a:t>usually has;is workin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755640" y="1341360"/>
            <a:ext cx="77202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8.Please be quiet.I(</a:t>
            </a: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try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)___ to concentrat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9.After three days of rain,I’m glad that the sun(</a:t>
            </a: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shine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)___ again toda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839960" y="4267080"/>
            <a:ext cx="5394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am trying;is shinin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844920" y="1143000"/>
            <a:ext cx="83448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---Is this raincoat your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---No,mine ___ there behind the doo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.is hanging        B.has hu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.hangs               D.hu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42920" y="3068640"/>
            <a:ext cx="259236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388240" y="4149720"/>
            <a:ext cx="4813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现在进行时强调此刻正在进行的动作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一般现在时表示不确定时间经常、反复发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的动作或状态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950760" y="1467000"/>
            <a:ext cx="765360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 Black"/>
              </a:rPr>
              <a:t>--- Can I help you, sir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 Black"/>
              </a:rPr>
              <a:t>--- Yes, I bought this radio here yesterday, but it ___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 Black"/>
              </a:rPr>
              <a:t>didn’t wor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 Black"/>
              </a:rPr>
              <a:t>won’t wor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 Black"/>
              </a:rPr>
              <a:t>can’t wor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 Black"/>
              </a:rPr>
              <a:t>doesn’t wor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042920" y="5805360"/>
            <a:ext cx="42498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60440" y="2166840"/>
            <a:ext cx="87897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用于对</a:t>
            </a:r>
            <a:r>
              <a:rPr b="1" lang="zh-CN" sz="4000" spc="-1" strike="noStrike" u="sng">
                <a:solidFill>
                  <a:srgbClr val="ffffff"/>
                </a:solidFill>
                <a:uFillTx/>
                <a:latin typeface="Times New Roman"/>
              </a:rPr>
              <a:t>客观事实的普遍性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的陈述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Water </a:t>
            </a:r>
            <a:r>
              <a:rPr b="1" i="1" lang="zh-CN" sz="4000" spc="-1" strike="noStrike">
                <a:solidFill>
                  <a:srgbClr val="ffffff"/>
                </a:solidFill>
                <a:latin typeface="Times New Roman"/>
              </a:rPr>
              <a:t>consists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of hydrogen and oxyge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Most animals </a:t>
            </a:r>
            <a:r>
              <a:rPr b="1" i="1" lang="zh-CN" sz="4000" spc="-1" strike="noStrike">
                <a:solidFill>
                  <a:srgbClr val="ffffff"/>
                </a:solidFill>
                <a:latin typeface="Times New Roman"/>
              </a:rPr>
              <a:t>kill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 only for food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The world </a:t>
            </a:r>
            <a:r>
              <a:rPr b="1" i="1" lang="zh-CN" sz="4000" spc="-1" strike="noStrike">
                <a:solidFill>
                  <a:srgbClr val="ffffff"/>
                </a:solidFill>
                <a:latin typeface="Times New Roman"/>
              </a:rPr>
              <a:t>is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 round.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826920" y="1268280"/>
            <a:ext cx="756144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---Can I join the club, Dad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---You can when you ___ a bit old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get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will ge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C. are gett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D. will have g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3789360"/>
            <a:ext cx="165564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395280" y="1268280"/>
            <a:ext cx="82645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My cousin, Jenny, ___ in New York till next Saturda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is stay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has stay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will have stay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stay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8360" y="3141720"/>
            <a:ext cx="31669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826920" y="765000"/>
            <a:ext cx="700416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---Do you know when she ___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---No, but I’ll tell you as soon as she ___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will come; com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comes; will co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will come; will co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comes; com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3860640"/>
            <a:ext cx="54007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159560" y="692280"/>
            <a:ext cx="65052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Look! ________ 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Here the bus com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Here comes the bu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Here is the bus com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Here the bus is com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55640" y="1916280"/>
            <a:ext cx="719280" cy="647640"/>
          </a:xfrm>
          <a:prstGeom prst="ellipse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55640" y="3860640"/>
            <a:ext cx="770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here, there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放在句子开头，句子主谓要倒装。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如主语为代词，主谓不倒装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。在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here, there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引导的句子中，常用一般现在时代替现在进行时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>
            <a:hlinkClick r:id="rId1"/>
          </p:cNvPr>
          <p:cNvSpPr/>
          <p:nvPr/>
        </p:nvSpPr>
        <p:spPr>
          <a:xfrm>
            <a:off x="7885080" y="6165720"/>
            <a:ext cx="647640" cy="432000"/>
          </a:xfrm>
          <a:custGeom>
            <a:avLst/>
            <a:gdLst>
              <a:gd name="textAreaLeft" fmla="*/ 27720 w 647640"/>
              <a:gd name="textAreaRight" fmla="*/ 619920 w 64764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32373" h="21600">
                <a:moveTo>
                  <a:pt x="0" y="0"/>
                </a:moveTo>
                <a:lnTo>
                  <a:pt x="32373" y="0"/>
                </a:lnTo>
                <a:lnTo>
                  <a:pt x="32373" y="21600"/>
                </a:lnTo>
                <a:lnTo>
                  <a:pt x="0" y="21600"/>
                </a:lnTo>
                <a:close/>
              </a:path>
              <a:path fill="lightenLess" w="32373" h="21600">
                <a:moveTo>
                  <a:pt x="0" y="0"/>
                </a:moveTo>
                <a:lnTo>
                  <a:pt x="32373" y="0"/>
                </a:lnTo>
                <a:lnTo>
                  <a:pt x="30973" y="1400"/>
                </a:lnTo>
                <a:lnTo>
                  <a:pt x="1400" y="1400"/>
                </a:lnTo>
                <a:close/>
              </a:path>
              <a:path fill="darken" w="32373" h="21600">
                <a:moveTo>
                  <a:pt x="32373" y="0"/>
                </a:moveTo>
                <a:lnTo>
                  <a:pt x="32373" y="21600"/>
                </a:lnTo>
                <a:lnTo>
                  <a:pt x="30973" y="20200"/>
                </a:lnTo>
                <a:lnTo>
                  <a:pt x="30973" y="1400"/>
                </a:lnTo>
                <a:close/>
              </a:path>
              <a:path fill="darkenLess" w="32373" h="21600">
                <a:moveTo>
                  <a:pt x="323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3" y="20200"/>
                </a:lnTo>
                <a:close/>
              </a:path>
              <a:path fill="lighten" w="323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73" h="21600">
                <a:moveTo>
                  <a:pt x="9180" y="10800"/>
                </a:moveTo>
                <a:lnTo>
                  <a:pt x="23193" y="3794"/>
                </a:lnTo>
                <a:lnTo>
                  <a:pt x="23193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897120" y="1405080"/>
            <a:ext cx="674316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3.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某些动词的一般现在时表示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ffffff"/>
                </a:solidFill>
                <a:uFillTx/>
                <a:latin typeface="Times New Roman"/>
              </a:rPr>
              <a:t>说话时正在存在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的一种情况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I </a:t>
            </a:r>
            <a:r>
              <a:rPr b="1" lang="zh-CN" sz="4000" spc="-1" strike="noStrike" u="sng">
                <a:solidFill>
                  <a:srgbClr val="ffffff"/>
                </a:solidFill>
                <a:uFillTx/>
                <a:latin typeface="Times New Roman"/>
              </a:rPr>
              <a:t>have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 only a dollar right now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I </a:t>
            </a:r>
            <a:r>
              <a:rPr b="1" lang="zh-CN" sz="4000" spc="-1" strike="noStrike" u="sng">
                <a:solidFill>
                  <a:srgbClr val="ffffff"/>
                </a:solidFill>
                <a:uFillTx/>
                <a:latin typeface="Times New Roman"/>
              </a:rPr>
              <a:t>don’t recognize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 that ma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He </a:t>
            </a:r>
            <a:r>
              <a:rPr b="1" lang="zh-CN" sz="4000" spc="-1" strike="noStrike" u="sng">
                <a:solidFill>
                  <a:srgbClr val="ffffff"/>
                </a:solidFill>
                <a:uFillTx/>
                <a:latin typeface="Times New Roman"/>
              </a:rPr>
              <a:t>needs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 a pen right now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注：这些动词不能用于进行时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523880" y="1752480"/>
            <a:ext cx="53341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一般现在时的动词形式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动词原形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1.am;is ;a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2.have,h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3.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第三人称单数形式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　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-(e)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066680" y="1143000"/>
            <a:ext cx="6705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肯定句：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I </a:t>
            </a:r>
            <a:r>
              <a:rPr b="1" lang="zh-CN" sz="4800" spc="-1" strike="noStrike">
                <a:solidFill>
                  <a:srgbClr val="ff3300"/>
                </a:solidFill>
                <a:latin typeface="Times New Roman"/>
              </a:rPr>
              <a:t>watch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 television every da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否定句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：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I </a:t>
            </a:r>
            <a:r>
              <a:rPr b="1" lang="zh-CN" sz="4800" spc="-1" strike="noStrike">
                <a:solidFill>
                  <a:srgbClr val="ff3300"/>
                </a:solidFill>
                <a:latin typeface="Times New Roman"/>
              </a:rPr>
              <a:t>don’t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 watch television every da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疑问句：</a:t>
            </a:r>
            <a:r>
              <a:rPr b="1" lang="zh-CN" sz="4800" spc="-1" strike="noStrike">
                <a:solidFill>
                  <a:srgbClr val="ff3300"/>
                </a:solidFill>
                <a:latin typeface="Times New Roman"/>
              </a:rPr>
              <a:t>Do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 you </a:t>
            </a:r>
            <a:r>
              <a:rPr b="1" lang="zh-CN" sz="4800" spc="-1" strike="noStrike">
                <a:solidFill>
                  <a:srgbClr val="ff3300"/>
                </a:solidFill>
                <a:latin typeface="Times New Roman"/>
              </a:rPr>
              <a:t>watch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 television every da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145160" y="1981080"/>
            <a:ext cx="68011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It </a:t>
            </a: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snows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in winter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It </a:t>
            </a: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doesn’t snow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in winter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Does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it </a:t>
            </a: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snow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in winter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042920" y="907920"/>
            <a:ext cx="69343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现在进行时表示一项活动在说话时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或较长时间）正在进行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John and Mary </a:t>
            </a:r>
            <a:r>
              <a:rPr b="1" lang="zh-CN" sz="4000" spc="-1" strike="noStrike" u="sng">
                <a:solidFill>
                  <a:srgbClr val="ffffff"/>
                </a:solidFill>
                <a:uFillTx/>
                <a:latin typeface="Times New Roman"/>
              </a:rPr>
              <a:t>are talking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 on the phon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1476360" y="2635560"/>
            <a:ext cx="5475240" cy="1822320"/>
            <a:chOff x="1476360" y="2635560"/>
            <a:chExt cx="5475240" cy="1822320"/>
          </a:xfrm>
        </p:grpSpPr>
        <p:sp>
          <p:nvSpPr>
            <p:cNvPr id="55" name=""/>
            <p:cNvSpPr/>
            <p:nvPr/>
          </p:nvSpPr>
          <p:spPr>
            <a:xfrm>
              <a:off x="4140360" y="3429000"/>
              <a:ext cx="0" cy="40176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8000" y="3429000"/>
              <a:ext cx="152640" cy="45720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084720" y="3357720"/>
              <a:ext cx="152640" cy="45720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3960" y="2708280"/>
              <a:ext cx="606960" cy="86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star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344640" y="2635560"/>
              <a:ext cx="606960" cy="9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finish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999960" y="2707560"/>
              <a:ext cx="60696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now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340000" y="4076640"/>
              <a:ext cx="3657600" cy="381240"/>
            </a:xfrm>
            <a:custGeom>
              <a:avLst/>
              <a:gdLst/>
              <a:ahLst/>
              <a:rect l="l" t="t" r="r" b="b"/>
              <a:pathLst>
                <a:path w="2592" h="488">
                  <a:moveTo>
                    <a:pt x="0" y="48"/>
                  </a:moveTo>
                  <a:cubicBezTo>
                    <a:pt x="432" y="268"/>
                    <a:pt x="864" y="488"/>
                    <a:pt x="1296" y="480"/>
                  </a:cubicBezTo>
                  <a:cubicBezTo>
                    <a:pt x="1728" y="472"/>
                    <a:pt x="2376" y="80"/>
                    <a:pt x="2592" y="0"/>
                  </a:cubicBezTo>
                </a:path>
              </a:pathLst>
            </a:custGeom>
            <a:noFill/>
            <a:ln w="76320">
              <a:solidFill>
                <a:srgbClr val="ffff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476360" y="3860640"/>
              <a:ext cx="525636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478880" y="2349360"/>
            <a:ext cx="61578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进行时的将来用法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When are you leaving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=When will you leave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611280" y="907920"/>
            <a:ext cx="77770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John and Mary </a:t>
            </a:r>
            <a:r>
              <a:rPr b="1" lang="en-US" sz="4000" spc="-1" strike="noStrike" u="sng">
                <a:solidFill>
                  <a:srgbClr val="ff3300"/>
                </a:solidFill>
                <a:uFillTx/>
                <a:latin typeface="Times New Roman"/>
              </a:rPr>
              <a:t>are talking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on the phon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John and Mary </a:t>
            </a: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are not talking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on th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hone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Are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John and Mary  </a:t>
            </a: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talking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on the phon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27T00:33:55Z</dcterms:created>
  <dc:creator>zhao jinliang</dc:creator>
  <dc:description/>
  <dc:language>en-US</dc:language>
  <cp:lastModifiedBy>Legend User</cp:lastModifiedBy>
  <dcterms:modified xsi:type="dcterms:W3CDTF">2002-11-24T11:49:32Z</dcterms:modified>
  <cp:revision>18</cp:revision>
  <dc:subject/>
  <dc:title>PowerPoint 演示文稿</dc:title>
</cp:coreProperties>
</file>