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9.wmf" ContentType="image/x-wmf"/>
  <Override PartName="/ppt/media/image34.wmf" ContentType="image/x-wmf"/>
  <Override PartName="/ppt/media/image25.jpeg" ContentType="image/jpeg"/>
  <Override PartName="/ppt/media/image10.wmf" ContentType="image/x-wmf"/>
  <Override PartName="/ppt/media/image27.jpeg" ContentType="image/jpeg"/>
  <Override PartName="/ppt/media/image6.jpeg" ContentType="image/jpeg"/>
  <Override PartName="/ppt/media/image4.jpeg" ContentType="image/jpeg"/>
  <Override PartName="/ppt/media/image8.wmf" ContentType="image/x-wmf"/>
  <Override PartName="/ppt/media/image12.jpeg" ContentType="image/jpeg"/>
  <Override PartName="/ppt/media/image29.wmf" ContentType="image/x-wmf"/>
  <Override PartName="/ppt/media/image30.png" ContentType="image/png"/>
  <Override PartName="/ppt/media/image11.jpeg" ContentType="image/jpeg"/>
  <Override PartName="/ppt/media/image36.wmf" ContentType="image/x-wmf"/>
  <Override PartName="/ppt/media/image5.jpeg" ContentType="image/jpeg"/>
  <Override PartName="/ppt/media/image26.jpeg" ContentType="image/jpeg"/>
  <Override PartName="/ppt/media/image13.jpeg" ContentType="image/jpeg"/>
  <Override PartName="/ppt/media/image33.wmf" ContentType="image/x-wmf"/>
  <Override PartName="/ppt/media/image3.wmf" ContentType="image/x-wmf"/>
  <Override PartName="/ppt/media/image15.jpeg" ContentType="image/jpeg"/>
  <Override PartName="/ppt/media/whoosh.wav" ContentType="audio/x-wav"/>
  <Override PartName="/ppt/media/image23.wmf" ContentType="image/x-wmf"/>
  <Override PartName="/ppt/media/image28.jpeg" ContentType="image/jpeg"/>
  <Override PartName="/ppt/media/image31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4.jpeg" ContentType="image/jpeg"/>
  <Override PartName="/ppt/media/image16.jpeg" ContentType="image/jpeg"/>
  <Override PartName="/ppt/media/image3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131C-533E-4389-9D9C-781DBE8A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BFA4-235F-4930-B467-7DBC508F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1FDC-55CD-4D7F-9621-89F28529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3B1C-1BE5-4AEF-8CD1-D67B3383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C5C4-2956-48F2-A500-A20EE18B7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D2B3-A57C-4779-9775-18975614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743A-15B2-4AE3-8770-5100E658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3A92-451C-4F8B-BDA0-942B942C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31EC-2CF7-4851-A582-69CB4C58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9A9A-AAE8-4F52-9FB5-2BF0403B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FE7A-4885-4B07-8CAA-E9C6C1BC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B2CB-B302-4334-8701-801FEE1C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9590-4E0B-4A0D-A963-97D9BB97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C375-F76C-4FBD-816B-8C7C4CCF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589D-C61D-41FF-9C79-79DEBC20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5D89-BA8E-4D13-AE56-A8A7046A2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8574-8376-4FB4-93BE-103D27A31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A8321-DFB0-4439-BE6F-75427744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87F74-A46C-45A4-AC19-7BD04088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A1948-0508-4E07-B894-25ECD2E0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E14B8-9C37-45F5-87C6-778511C8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993F1-C9C5-4D2F-9D95-666999CA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9485-7DCC-472F-829E-C7234090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652B3-2DAA-4306-A4F0-2266413C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3BA3F-8A4A-404D-A0F9-4DF500AB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48528-0FD2-46C3-8130-7235091D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D91CC-430D-4052-9C82-BC851145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F0A07-FA12-4983-B66E-5CAD9D5D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17270-3EB4-48F4-8156-CBA6A49F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E3C1C-F3FD-433E-8F71-98E65362E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759E-1466-4A02-BB72-7C4A1837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835A-36B4-4737-99DE-0D37005A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5A89-02CF-49D1-867D-85F75D07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1C5F-0171-483F-AE0A-0927BBE1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AB92-4ED3-4657-9F29-7C35B80C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6446-4FE2-44E2-8AD0-3267D36F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F521-684B-4EC9-975C-840098F3159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384E-40DA-41A6-9872-5E14756FFD23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4A58-2927-4E83-BC89-7EEC101C661F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" Target="slide19.xm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2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2320" y="1684080"/>
            <a:ext cx="58672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  <a:ea typeface="宋体"/>
              </a:rPr>
              <a:t>Unit 3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   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ravel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3276360" y="3352680"/>
            <a:ext cx="43434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Welcome everybod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71400" y="309240"/>
            <a:ext cx="687096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ip on travel: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obey rul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617640" y="5025600"/>
            <a:ext cx="4707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e is throwing rubbish on the gr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98720" y="1811160"/>
          <a:ext cx="339552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8720" y="1811160"/>
                    <a:ext cx="339552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726080" y="1698480"/>
            <a:ext cx="3400200" cy="253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ip on travel: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obey rul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74440" y="5011200"/>
            <a:ext cx="4707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he man is smoking where he shouldn’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039680" y="187308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371840" y="1785960"/>
            <a:ext cx="2897280" cy="2387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ip on travel: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obey rul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25600" y="4997520"/>
            <a:ext cx="422748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he car is parked at the wrong pl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068480" y="1944720"/>
            <a:ext cx="2973240" cy="2230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525920" y="1989000"/>
            <a:ext cx="2844720" cy="2129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Means of transportation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>
            <a:off x="1019160" y="1957320"/>
            <a:ext cx="745668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at do you have to consider before you decide which means of transportation you will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65240" y="3452760"/>
            <a:ext cx="3322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is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mfort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475240" y="3357720"/>
            <a:ext cx="2693880" cy="2630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Means of transportation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1019160" y="1957320"/>
            <a:ext cx="745668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at means of transportation have we got when we trav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would you like to g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68280" y="3568680"/>
            <a:ext cx="653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rom shanghai to Lo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rom Jingjing to Wux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rom Wuxi to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rom Dalian to Qingd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151600" y="4356000"/>
            <a:ext cx="3233520" cy="1724040"/>
          </a:xfrm>
          <a:prstGeom prst="rect">
            <a:avLst/>
          </a:prstGeom>
          <a:ln w="0">
            <a:noFill/>
          </a:ln>
        </p:spPr>
      </p:pic>
      <p:sp>
        <p:nvSpPr>
          <p:cNvPr id="243" name="">
            <a:hlinkClick r:id="rId2" action="ppaction://hlinksldjump"/>
          </p:cNvPr>
          <p:cNvSpPr/>
          <p:nvPr/>
        </p:nvSpPr>
        <p:spPr>
          <a:xfrm>
            <a:off x="4383000" y="2409840"/>
            <a:ext cx="363600" cy="260280"/>
          </a:xfrm>
          <a:custGeom>
            <a:avLst/>
            <a:gdLst>
              <a:gd name="textAreaLeft" fmla="*/ 16560 w 363600"/>
              <a:gd name="textAreaRight" fmla="*/ 347040 w 3636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0162" h="21600">
                <a:moveTo>
                  <a:pt x="0" y="0"/>
                </a:moveTo>
                <a:lnTo>
                  <a:pt x="30162" y="0"/>
                </a:lnTo>
                <a:lnTo>
                  <a:pt x="30162" y="21600"/>
                </a:lnTo>
                <a:lnTo>
                  <a:pt x="0" y="21600"/>
                </a:lnTo>
                <a:close/>
              </a:path>
              <a:path fill="lightenLess" w="30162" h="21600">
                <a:moveTo>
                  <a:pt x="0" y="0"/>
                </a:moveTo>
                <a:lnTo>
                  <a:pt x="30162" y="0"/>
                </a:lnTo>
                <a:lnTo>
                  <a:pt x="28762" y="1400"/>
                </a:lnTo>
                <a:lnTo>
                  <a:pt x="1400" y="1400"/>
                </a:lnTo>
                <a:close/>
              </a:path>
              <a:path fill="darken" w="30162" h="21600">
                <a:moveTo>
                  <a:pt x="30162" y="0"/>
                </a:moveTo>
                <a:lnTo>
                  <a:pt x="30162" y="21600"/>
                </a:lnTo>
                <a:lnTo>
                  <a:pt x="28762" y="20200"/>
                </a:lnTo>
                <a:lnTo>
                  <a:pt x="28762" y="1400"/>
                </a:lnTo>
                <a:close/>
              </a:path>
              <a:path fill="darkenLess" w="30162" h="21600">
                <a:moveTo>
                  <a:pt x="30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62" y="20200"/>
                </a:lnTo>
                <a:close/>
              </a:path>
              <a:path fill="lighten" w="30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0162" h="21600">
                <a:moveTo>
                  <a:pt x="9554" y="3985"/>
                </a:moveTo>
                <a:lnTo>
                  <a:pt x="16552" y="3985"/>
                </a:lnTo>
                <a:lnTo>
                  <a:pt x="20608" y="7484"/>
                </a:lnTo>
                <a:lnTo>
                  <a:pt x="20608" y="17615"/>
                </a:lnTo>
                <a:lnTo>
                  <a:pt x="9554" y="17615"/>
                </a:lnTo>
                <a:close/>
              </a:path>
              <a:path fill="darken" w="30162" h="21600">
                <a:moveTo>
                  <a:pt x="16552" y="3985"/>
                </a:moveTo>
                <a:lnTo>
                  <a:pt x="20608" y="7484"/>
                </a:lnTo>
                <a:lnTo>
                  <a:pt x="16552" y="748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ips on travel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60120" y="2381400"/>
            <a:ext cx="4584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bey traffic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bserve public 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oard the right bus, the right train, or the right p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et on board i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845320" y="3979800"/>
            <a:ext cx="1565280" cy="1154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9933"/>
                                </p:to>
                              </p:animCl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99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99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220320"/>
            <a:ext cx="68706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  <a:ea typeface="宋体"/>
              </a:rPr>
              <a:t>Tip on travel: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 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be on tim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266840" y="3497400"/>
            <a:ext cx="2854440" cy="19396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417920" y="1278000"/>
            <a:ext cx="2819520" cy="20588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1260360" y="1222200"/>
            <a:ext cx="2870280" cy="21355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4437000" y="3530520"/>
            <a:ext cx="2811600" cy="1913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003480" y="695160"/>
            <a:ext cx="434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isten to the announcements and write down the correct flight number, destination and g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642960" y="2233440"/>
          <a:ext cx="7450200" cy="2532240"/>
        </p:xfrm>
        <a:graphic>
          <a:graphicData uri="http://schemas.openxmlformats.org/drawingml/2006/table">
            <a:tbl>
              <a:tblPr/>
              <a:tblGrid>
                <a:gridCol w="1862280"/>
                <a:gridCol w="1863720"/>
                <a:gridCol w="1861920"/>
                <a:gridCol w="1862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Flight 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Dest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G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ae3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ae3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ae3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ae3fe"/>
                    </a:solidFill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1793880" y="5373720"/>
            <a:ext cx="687060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  <a:ea typeface="宋体"/>
              </a:rPr>
              <a:t>Listening practice:</a:t>
            </a:r>
            <a:r>
              <a:rPr b="0" lang="en-US" sz="4000" spc="-1" strike="noStrike">
                <a:solidFill>
                  <a:srgbClr val="333399"/>
                </a:solidFill>
                <a:latin typeface="Comic Sans MS"/>
                <a:ea typeface="宋体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  <a:ea typeface="宋体"/>
              </a:rPr>
              <a:t>boarding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781200" y="893880"/>
            <a:ext cx="1963440" cy="5191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673520" y="297648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A 4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30680" y="3701880"/>
            <a:ext cx="13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hangs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46440" y="4295880"/>
            <a:ext cx="11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516720" y="2962440"/>
            <a:ext cx="11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 37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502320" y="370044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18160" y="4311720"/>
            <a:ext cx="9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684520" y="2976480"/>
            <a:ext cx="155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 11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85960" y="3672000"/>
            <a:ext cx="13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oky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428148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3578400" y="2332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5435640" y="2347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7307280" y="2317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8258040" y="3005280"/>
            <a:ext cx="262080" cy="361800"/>
          </a:xfrm>
          <a:custGeom>
            <a:avLst/>
            <a:gdLst>
              <a:gd name="textAreaLeft" fmla="*/ 16920 w 262080"/>
              <a:gd name="textAreaRight" fmla="*/ 245160 w 262080"/>
              <a:gd name="textAreaTop" fmla="*/ 16920 h 361800"/>
              <a:gd name="textAreaBottom" fmla="*/ 344880 h 361800"/>
            </a:gdLst>
            <a:ahLst/>
            <a:rect l="textAreaLeft" t="textAreaTop" r="textAreaRight" b="textAreaBottom"/>
            <a:pathLst>
              <a:path w="21600" h="29807">
                <a:moveTo>
                  <a:pt x="0" y="0"/>
                </a:moveTo>
                <a:lnTo>
                  <a:pt x="21600" y="0"/>
                </a:lnTo>
                <a:lnTo>
                  <a:pt x="21600" y="29807"/>
                </a:lnTo>
                <a:lnTo>
                  <a:pt x="0" y="29807"/>
                </a:lnTo>
                <a:close/>
              </a:path>
              <a:path fill="lightenLess" w="21600" h="29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807">
                <a:moveTo>
                  <a:pt x="21600" y="0"/>
                </a:moveTo>
                <a:lnTo>
                  <a:pt x="21600" y="29807"/>
                </a:lnTo>
                <a:lnTo>
                  <a:pt x="20200" y="28407"/>
                </a:lnTo>
                <a:lnTo>
                  <a:pt x="20200" y="1400"/>
                </a:lnTo>
                <a:close/>
              </a:path>
              <a:path fill="darkenLess" w="21600" h="29807">
                <a:moveTo>
                  <a:pt x="21600" y="29807"/>
                </a:moveTo>
                <a:lnTo>
                  <a:pt x="0" y="29807"/>
                </a:lnTo>
                <a:lnTo>
                  <a:pt x="1400" y="28407"/>
                </a:lnTo>
                <a:lnTo>
                  <a:pt x="20200" y="28407"/>
                </a:lnTo>
                <a:close/>
              </a:path>
              <a:path fill="lighten" w="21600" h="29807">
                <a:moveTo>
                  <a:pt x="0" y="29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407"/>
                </a:lnTo>
                <a:close/>
              </a:path>
              <a:path fill="darkenLess" w="21600" h="29807">
                <a:moveTo>
                  <a:pt x="5273" y="8089"/>
                </a:moveTo>
                <a:lnTo>
                  <a:pt x="12271" y="8089"/>
                </a:lnTo>
                <a:lnTo>
                  <a:pt x="16327" y="11588"/>
                </a:lnTo>
                <a:lnTo>
                  <a:pt x="16327" y="21719"/>
                </a:lnTo>
                <a:lnTo>
                  <a:pt x="5273" y="21719"/>
                </a:lnTo>
                <a:close/>
              </a:path>
              <a:path fill="darken" w="21600" h="29807">
                <a:moveTo>
                  <a:pt x="12271" y="8089"/>
                </a:moveTo>
                <a:lnTo>
                  <a:pt x="16327" y="11588"/>
                </a:lnTo>
                <a:lnTo>
                  <a:pt x="12271" y="11588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72440" y="3716280"/>
            <a:ext cx="247680" cy="333360"/>
          </a:xfrm>
          <a:custGeom>
            <a:avLst/>
            <a:gdLst>
              <a:gd name="textAreaLeft" fmla="*/ 15840 w 247680"/>
              <a:gd name="textAreaRight" fmla="*/ 231840 w 247680"/>
              <a:gd name="textAreaTop" fmla="*/ 15840 h 333360"/>
              <a:gd name="textAreaBottom" fmla="*/ 317520 h 333360"/>
            </a:gdLst>
            <a:ahLst/>
            <a:rect l="textAreaLeft" t="textAreaTop" r="textAreaRight" b="textAreaBottom"/>
            <a:pathLst>
              <a:path w="21600" h="29061">
                <a:moveTo>
                  <a:pt x="0" y="0"/>
                </a:moveTo>
                <a:lnTo>
                  <a:pt x="21600" y="0"/>
                </a:lnTo>
                <a:lnTo>
                  <a:pt x="21600" y="29061"/>
                </a:lnTo>
                <a:lnTo>
                  <a:pt x="0" y="29061"/>
                </a:lnTo>
                <a:close/>
              </a:path>
              <a:path fill="lightenLess" w="21600" h="290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061">
                <a:moveTo>
                  <a:pt x="21600" y="0"/>
                </a:moveTo>
                <a:lnTo>
                  <a:pt x="21600" y="29061"/>
                </a:lnTo>
                <a:lnTo>
                  <a:pt x="20200" y="27661"/>
                </a:lnTo>
                <a:lnTo>
                  <a:pt x="20200" y="1400"/>
                </a:lnTo>
                <a:close/>
              </a:path>
              <a:path fill="darkenLess" w="21600" h="29061">
                <a:moveTo>
                  <a:pt x="21600" y="29061"/>
                </a:moveTo>
                <a:lnTo>
                  <a:pt x="0" y="29061"/>
                </a:lnTo>
                <a:lnTo>
                  <a:pt x="1400" y="27661"/>
                </a:lnTo>
                <a:lnTo>
                  <a:pt x="20200" y="27661"/>
                </a:lnTo>
                <a:close/>
              </a:path>
              <a:path fill="lighten" w="21600" h="29061">
                <a:moveTo>
                  <a:pt x="0" y="290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7661"/>
                </a:lnTo>
                <a:close/>
              </a:path>
              <a:path fill="darkenLess" w="21600" h="29061">
                <a:moveTo>
                  <a:pt x="5273" y="7716"/>
                </a:moveTo>
                <a:lnTo>
                  <a:pt x="12271" y="7716"/>
                </a:lnTo>
                <a:lnTo>
                  <a:pt x="16327" y="11215"/>
                </a:lnTo>
                <a:lnTo>
                  <a:pt x="16327" y="21346"/>
                </a:lnTo>
                <a:lnTo>
                  <a:pt x="5273" y="21346"/>
                </a:lnTo>
                <a:close/>
              </a:path>
              <a:path fill="darken" w="21600" h="29061">
                <a:moveTo>
                  <a:pt x="12271" y="7716"/>
                </a:moveTo>
                <a:lnTo>
                  <a:pt x="16327" y="11215"/>
                </a:lnTo>
                <a:lnTo>
                  <a:pt x="12271" y="11215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285040" y="4295880"/>
            <a:ext cx="247680" cy="333360"/>
          </a:xfrm>
          <a:custGeom>
            <a:avLst/>
            <a:gdLst>
              <a:gd name="textAreaLeft" fmla="*/ 15840 w 247680"/>
              <a:gd name="textAreaRight" fmla="*/ 231840 w 247680"/>
              <a:gd name="textAreaTop" fmla="*/ 15840 h 333360"/>
              <a:gd name="textAreaBottom" fmla="*/ 317520 h 333360"/>
            </a:gdLst>
            <a:ahLst/>
            <a:rect l="textAreaLeft" t="textAreaTop" r="textAreaRight" b="textAreaBottom"/>
            <a:pathLst>
              <a:path w="21600" h="29061">
                <a:moveTo>
                  <a:pt x="0" y="0"/>
                </a:moveTo>
                <a:lnTo>
                  <a:pt x="21600" y="0"/>
                </a:lnTo>
                <a:lnTo>
                  <a:pt x="21600" y="29061"/>
                </a:lnTo>
                <a:lnTo>
                  <a:pt x="0" y="29061"/>
                </a:lnTo>
                <a:close/>
              </a:path>
              <a:path fill="lightenLess" w="21600" h="290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061">
                <a:moveTo>
                  <a:pt x="21600" y="0"/>
                </a:moveTo>
                <a:lnTo>
                  <a:pt x="21600" y="29061"/>
                </a:lnTo>
                <a:lnTo>
                  <a:pt x="20200" y="27661"/>
                </a:lnTo>
                <a:lnTo>
                  <a:pt x="20200" y="1400"/>
                </a:lnTo>
                <a:close/>
              </a:path>
              <a:path fill="darkenLess" w="21600" h="29061">
                <a:moveTo>
                  <a:pt x="21600" y="29061"/>
                </a:moveTo>
                <a:lnTo>
                  <a:pt x="0" y="29061"/>
                </a:lnTo>
                <a:lnTo>
                  <a:pt x="1400" y="27661"/>
                </a:lnTo>
                <a:lnTo>
                  <a:pt x="20200" y="27661"/>
                </a:lnTo>
                <a:close/>
              </a:path>
              <a:path fill="lighten" w="21600" h="29061">
                <a:moveTo>
                  <a:pt x="0" y="290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7661"/>
                </a:lnTo>
                <a:close/>
              </a:path>
              <a:path fill="darkenLess" w="21600" h="29061">
                <a:moveTo>
                  <a:pt x="5273" y="7716"/>
                </a:moveTo>
                <a:lnTo>
                  <a:pt x="12271" y="7716"/>
                </a:lnTo>
                <a:lnTo>
                  <a:pt x="16327" y="11215"/>
                </a:lnTo>
                <a:lnTo>
                  <a:pt x="16327" y="21346"/>
                </a:lnTo>
                <a:lnTo>
                  <a:pt x="5273" y="21346"/>
                </a:lnTo>
                <a:close/>
              </a:path>
              <a:path fill="darken" w="21600" h="29061">
                <a:moveTo>
                  <a:pt x="12271" y="7716"/>
                </a:moveTo>
                <a:lnTo>
                  <a:pt x="16327" y="11215"/>
                </a:lnTo>
                <a:lnTo>
                  <a:pt x="12271" y="11215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18588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22429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20982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003480" y="695160"/>
            <a:ext cx="434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isten to the five world travellers and try to guess where they 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78040" y="5694480"/>
            <a:ext cx="687060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  <a:ea typeface="宋体"/>
              </a:rPr>
              <a:t>Listening practice:</a:t>
            </a:r>
            <a:r>
              <a:rPr b="0" lang="en-US" sz="4000" spc="-1" strike="noStrike">
                <a:solidFill>
                  <a:srgbClr val="333399"/>
                </a:solidFill>
                <a:latin typeface="Comic Sans MS"/>
                <a:ea typeface="宋体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  <a:ea typeface="宋体"/>
              </a:rPr>
              <a:t>spoken post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757080" y="1763640"/>
          <a:ext cx="7577280" cy="3657600"/>
        </p:xfrm>
        <a:graphic>
          <a:graphicData uri="http://schemas.openxmlformats.org/drawingml/2006/table">
            <a:tbl>
              <a:tblPr/>
              <a:tblGrid>
                <a:gridCol w="549360"/>
                <a:gridCol w="1800360"/>
                <a:gridCol w="3333600"/>
                <a:gridCol w="1893960"/>
              </a:tblGrid>
              <a:tr h="60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Wha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9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7f9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9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7e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7e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7e7f9"/>
                    </a:solidFill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1335240" y="2511360"/>
            <a:ext cx="10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eij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49280" y="3105000"/>
            <a:ext cx="9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08240" y="431172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260360" y="4905360"/>
            <a:ext cx="17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nder the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75120" y="2397240"/>
            <a:ext cx="34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bidden City; Great Wall; Tian’anmen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19400" y="2989440"/>
            <a:ext cx="27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iffel Tower; Museum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aw “Mona Lis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05000" y="4368960"/>
            <a:ext cx="33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oked at the earth; jum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119400" y="4933800"/>
            <a:ext cx="35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oked at f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73520" y="5630760"/>
            <a:ext cx="12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589800" y="2509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630840" y="309096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us and l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602400" y="4324320"/>
            <a:ext cx="16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pace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575400" y="492120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y swi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76200" y="37432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outh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17960" y="3614760"/>
            <a:ext cx="34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alked in the snow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aw an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89800" y="37306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lane, on f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819000" y="255600"/>
            <a:ext cx="1698840" cy="14414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008000" y="2494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1008000" y="30733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1008000" y="36831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1022400" y="4308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6"/>
          <a:stretch/>
        </p:blipFill>
        <p:spPr>
          <a:xfrm>
            <a:off x="1022400" y="49165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8447040" y="2568600"/>
            <a:ext cx="203400" cy="276120"/>
          </a:xfrm>
          <a:custGeom>
            <a:avLst/>
            <a:gdLst>
              <a:gd name="textAreaLeft" fmla="*/ 12960 w 203400"/>
              <a:gd name="textAreaRight" fmla="*/ 190440 w 203400"/>
              <a:gd name="textAreaTop" fmla="*/ 12960 h 276120"/>
              <a:gd name="textAreaBottom" fmla="*/ 263160 h 276120"/>
            </a:gdLst>
            <a:ahLst/>
            <a:rect l="textAreaLeft" t="textAreaTop" r="textAreaRight" b="textAreaBottom"/>
            <a:pathLst>
              <a:path w="21600" h="29309">
                <a:moveTo>
                  <a:pt x="0" y="0"/>
                </a:moveTo>
                <a:lnTo>
                  <a:pt x="21600" y="0"/>
                </a:lnTo>
                <a:lnTo>
                  <a:pt x="21600" y="29309"/>
                </a:lnTo>
                <a:lnTo>
                  <a:pt x="0" y="29309"/>
                </a:lnTo>
                <a:close/>
              </a:path>
              <a:path fill="lightenLess" w="21600" h="293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309">
                <a:moveTo>
                  <a:pt x="21600" y="0"/>
                </a:moveTo>
                <a:lnTo>
                  <a:pt x="21600" y="29309"/>
                </a:lnTo>
                <a:lnTo>
                  <a:pt x="20200" y="27909"/>
                </a:lnTo>
                <a:lnTo>
                  <a:pt x="20200" y="1400"/>
                </a:lnTo>
                <a:close/>
              </a:path>
              <a:path fill="darkenLess" w="21600" h="29309">
                <a:moveTo>
                  <a:pt x="21600" y="29309"/>
                </a:moveTo>
                <a:lnTo>
                  <a:pt x="0" y="29309"/>
                </a:lnTo>
                <a:lnTo>
                  <a:pt x="1400" y="27909"/>
                </a:lnTo>
                <a:lnTo>
                  <a:pt x="20200" y="27909"/>
                </a:lnTo>
                <a:close/>
              </a:path>
              <a:path fill="lighten" w="21600" h="29309">
                <a:moveTo>
                  <a:pt x="0" y="293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909"/>
                </a:lnTo>
                <a:close/>
              </a:path>
              <a:path fill="darkenLess" w="21600" h="29309">
                <a:moveTo>
                  <a:pt x="5273" y="7839"/>
                </a:moveTo>
                <a:lnTo>
                  <a:pt x="12271" y="7839"/>
                </a:lnTo>
                <a:lnTo>
                  <a:pt x="16327" y="11338"/>
                </a:lnTo>
                <a:lnTo>
                  <a:pt x="16327" y="21469"/>
                </a:lnTo>
                <a:lnTo>
                  <a:pt x="5273" y="21469"/>
                </a:lnTo>
                <a:close/>
              </a:path>
              <a:path fill="darken" w="21600" h="29309">
                <a:moveTo>
                  <a:pt x="12271" y="7839"/>
                </a:moveTo>
                <a:lnTo>
                  <a:pt x="16327" y="11338"/>
                </a:lnTo>
                <a:lnTo>
                  <a:pt x="12271" y="11338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448840" y="3098880"/>
            <a:ext cx="203040" cy="27612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76120"/>
              <a:gd name="textAreaBottom" fmla="*/ 263160 h 276120"/>
            </a:gdLst>
            <a:ahLst/>
            <a:rect l="textAreaLeft" t="textAreaTop" r="textAreaRight" b="textAreaBottom"/>
            <a:pathLst>
              <a:path w="21600" h="29361">
                <a:moveTo>
                  <a:pt x="0" y="0"/>
                </a:moveTo>
                <a:lnTo>
                  <a:pt x="21600" y="0"/>
                </a:lnTo>
                <a:lnTo>
                  <a:pt x="21600" y="29361"/>
                </a:lnTo>
                <a:lnTo>
                  <a:pt x="0" y="29361"/>
                </a:lnTo>
                <a:close/>
              </a:path>
              <a:path fill="lightenLess" w="21600" h="293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361">
                <a:moveTo>
                  <a:pt x="21600" y="0"/>
                </a:moveTo>
                <a:lnTo>
                  <a:pt x="21600" y="29361"/>
                </a:lnTo>
                <a:lnTo>
                  <a:pt x="20200" y="27961"/>
                </a:lnTo>
                <a:lnTo>
                  <a:pt x="20200" y="1400"/>
                </a:lnTo>
                <a:close/>
              </a:path>
              <a:path fill="darkenLess" w="21600" h="29361">
                <a:moveTo>
                  <a:pt x="21600" y="29361"/>
                </a:moveTo>
                <a:lnTo>
                  <a:pt x="0" y="29361"/>
                </a:lnTo>
                <a:lnTo>
                  <a:pt x="1400" y="27961"/>
                </a:lnTo>
                <a:lnTo>
                  <a:pt x="20200" y="27961"/>
                </a:lnTo>
                <a:close/>
              </a:path>
              <a:path fill="lighten" w="21600" h="29361">
                <a:moveTo>
                  <a:pt x="0" y="293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7961"/>
                </a:lnTo>
                <a:close/>
              </a:path>
              <a:path fill="darkenLess" w="21600" h="29361">
                <a:moveTo>
                  <a:pt x="5273" y="7865"/>
                </a:moveTo>
                <a:lnTo>
                  <a:pt x="12271" y="7865"/>
                </a:lnTo>
                <a:lnTo>
                  <a:pt x="16327" y="11364"/>
                </a:lnTo>
                <a:lnTo>
                  <a:pt x="16327" y="21495"/>
                </a:lnTo>
                <a:lnTo>
                  <a:pt x="5273" y="21495"/>
                </a:lnTo>
                <a:close/>
              </a:path>
              <a:path fill="darken" w="21600" h="29361">
                <a:moveTo>
                  <a:pt x="12271" y="7865"/>
                </a:moveTo>
                <a:lnTo>
                  <a:pt x="16327" y="11364"/>
                </a:lnTo>
                <a:lnTo>
                  <a:pt x="12271" y="1136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448840" y="3727440"/>
            <a:ext cx="203040" cy="27612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76120"/>
              <a:gd name="textAreaBottom" fmla="*/ 263160 h 276120"/>
            </a:gdLst>
            <a:ahLst/>
            <a:rect l="textAreaLeft" t="textAreaTop" r="textAreaRight" b="textAreaBottom"/>
            <a:pathLst>
              <a:path w="21600" h="29361">
                <a:moveTo>
                  <a:pt x="0" y="0"/>
                </a:moveTo>
                <a:lnTo>
                  <a:pt x="21600" y="0"/>
                </a:lnTo>
                <a:lnTo>
                  <a:pt x="21600" y="29361"/>
                </a:lnTo>
                <a:lnTo>
                  <a:pt x="0" y="29361"/>
                </a:lnTo>
                <a:close/>
              </a:path>
              <a:path fill="lightenLess" w="21600" h="293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361">
                <a:moveTo>
                  <a:pt x="21600" y="0"/>
                </a:moveTo>
                <a:lnTo>
                  <a:pt x="21600" y="29361"/>
                </a:lnTo>
                <a:lnTo>
                  <a:pt x="20200" y="27961"/>
                </a:lnTo>
                <a:lnTo>
                  <a:pt x="20200" y="1400"/>
                </a:lnTo>
                <a:close/>
              </a:path>
              <a:path fill="darkenLess" w="21600" h="29361">
                <a:moveTo>
                  <a:pt x="21600" y="29361"/>
                </a:moveTo>
                <a:lnTo>
                  <a:pt x="0" y="29361"/>
                </a:lnTo>
                <a:lnTo>
                  <a:pt x="1400" y="27961"/>
                </a:lnTo>
                <a:lnTo>
                  <a:pt x="20200" y="27961"/>
                </a:lnTo>
                <a:close/>
              </a:path>
              <a:path fill="lighten" w="21600" h="29361">
                <a:moveTo>
                  <a:pt x="0" y="293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7961"/>
                </a:lnTo>
                <a:close/>
              </a:path>
              <a:path fill="darkenLess" w="21600" h="29361">
                <a:moveTo>
                  <a:pt x="5273" y="7865"/>
                </a:moveTo>
                <a:lnTo>
                  <a:pt x="12271" y="7865"/>
                </a:lnTo>
                <a:lnTo>
                  <a:pt x="16327" y="11364"/>
                </a:lnTo>
                <a:lnTo>
                  <a:pt x="16327" y="21495"/>
                </a:lnTo>
                <a:lnTo>
                  <a:pt x="5273" y="21495"/>
                </a:lnTo>
                <a:close/>
              </a:path>
              <a:path fill="darken" w="21600" h="29361">
                <a:moveTo>
                  <a:pt x="12271" y="7865"/>
                </a:moveTo>
                <a:lnTo>
                  <a:pt x="16327" y="11364"/>
                </a:lnTo>
                <a:lnTo>
                  <a:pt x="12271" y="1136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459640" y="4395960"/>
            <a:ext cx="203400" cy="276120"/>
          </a:xfrm>
          <a:custGeom>
            <a:avLst/>
            <a:gdLst>
              <a:gd name="textAreaLeft" fmla="*/ 12960 w 203400"/>
              <a:gd name="textAreaRight" fmla="*/ 190440 w 203400"/>
              <a:gd name="textAreaTop" fmla="*/ 12960 h 276120"/>
              <a:gd name="textAreaBottom" fmla="*/ 263160 h 276120"/>
            </a:gdLst>
            <a:ahLst/>
            <a:rect l="textAreaLeft" t="textAreaTop" r="textAreaRight" b="textAreaBottom"/>
            <a:pathLst>
              <a:path w="21600" h="29309">
                <a:moveTo>
                  <a:pt x="0" y="0"/>
                </a:moveTo>
                <a:lnTo>
                  <a:pt x="21600" y="0"/>
                </a:lnTo>
                <a:lnTo>
                  <a:pt x="21600" y="29309"/>
                </a:lnTo>
                <a:lnTo>
                  <a:pt x="0" y="29309"/>
                </a:lnTo>
                <a:close/>
              </a:path>
              <a:path fill="lightenLess" w="21600" h="293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309">
                <a:moveTo>
                  <a:pt x="21600" y="0"/>
                </a:moveTo>
                <a:lnTo>
                  <a:pt x="21600" y="29309"/>
                </a:lnTo>
                <a:lnTo>
                  <a:pt x="20200" y="27909"/>
                </a:lnTo>
                <a:lnTo>
                  <a:pt x="20200" y="1400"/>
                </a:lnTo>
                <a:close/>
              </a:path>
              <a:path fill="darkenLess" w="21600" h="29309">
                <a:moveTo>
                  <a:pt x="21600" y="29309"/>
                </a:moveTo>
                <a:lnTo>
                  <a:pt x="0" y="29309"/>
                </a:lnTo>
                <a:lnTo>
                  <a:pt x="1400" y="27909"/>
                </a:lnTo>
                <a:lnTo>
                  <a:pt x="20200" y="27909"/>
                </a:lnTo>
                <a:close/>
              </a:path>
              <a:path fill="lighten" w="21600" h="29309">
                <a:moveTo>
                  <a:pt x="0" y="293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909"/>
                </a:lnTo>
                <a:close/>
              </a:path>
              <a:path fill="darkenLess" w="21600" h="29309">
                <a:moveTo>
                  <a:pt x="5273" y="7839"/>
                </a:moveTo>
                <a:lnTo>
                  <a:pt x="12271" y="7839"/>
                </a:lnTo>
                <a:lnTo>
                  <a:pt x="16327" y="11338"/>
                </a:lnTo>
                <a:lnTo>
                  <a:pt x="16327" y="21469"/>
                </a:lnTo>
                <a:lnTo>
                  <a:pt x="5273" y="21469"/>
                </a:lnTo>
                <a:close/>
              </a:path>
              <a:path fill="darken" w="21600" h="29309">
                <a:moveTo>
                  <a:pt x="12271" y="7839"/>
                </a:moveTo>
                <a:lnTo>
                  <a:pt x="16327" y="11338"/>
                </a:lnTo>
                <a:lnTo>
                  <a:pt x="12271" y="11338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47040" y="4992840"/>
            <a:ext cx="203400" cy="276120"/>
          </a:xfrm>
          <a:custGeom>
            <a:avLst/>
            <a:gdLst>
              <a:gd name="textAreaLeft" fmla="*/ 12960 w 203400"/>
              <a:gd name="textAreaRight" fmla="*/ 190440 w 203400"/>
              <a:gd name="textAreaTop" fmla="*/ 12960 h 276120"/>
              <a:gd name="textAreaBottom" fmla="*/ 263160 h 276120"/>
            </a:gdLst>
            <a:ahLst/>
            <a:rect l="textAreaLeft" t="textAreaTop" r="textAreaRight" b="textAreaBottom"/>
            <a:pathLst>
              <a:path w="21600" h="29309">
                <a:moveTo>
                  <a:pt x="0" y="0"/>
                </a:moveTo>
                <a:lnTo>
                  <a:pt x="21600" y="0"/>
                </a:lnTo>
                <a:lnTo>
                  <a:pt x="21600" y="29309"/>
                </a:lnTo>
                <a:lnTo>
                  <a:pt x="0" y="29309"/>
                </a:lnTo>
                <a:close/>
              </a:path>
              <a:path fill="lightenLess" w="21600" h="293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309">
                <a:moveTo>
                  <a:pt x="21600" y="0"/>
                </a:moveTo>
                <a:lnTo>
                  <a:pt x="21600" y="29309"/>
                </a:lnTo>
                <a:lnTo>
                  <a:pt x="20200" y="27909"/>
                </a:lnTo>
                <a:lnTo>
                  <a:pt x="20200" y="1400"/>
                </a:lnTo>
                <a:close/>
              </a:path>
              <a:path fill="darkenLess" w="21600" h="29309">
                <a:moveTo>
                  <a:pt x="21600" y="29309"/>
                </a:moveTo>
                <a:lnTo>
                  <a:pt x="0" y="29309"/>
                </a:lnTo>
                <a:lnTo>
                  <a:pt x="1400" y="27909"/>
                </a:lnTo>
                <a:lnTo>
                  <a:pt x="20200" y="27909"/>
                </a:lnTo>
                <a:close/>
              </a:path>
              <a:path fill="lighten" w="21600" h="29309">
                <a:moveTo>
                  <a:pt x="0" y="293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909"/>
                </a:lnTo>
                <a:close/>
              </a:path>
              <a:path fill="darkenLess" w="21600" h="29309">
                <a:moveTo>
                  <a:pt x="5273" y="7839"/>
                </a:moveTo>
                <a:lnTo>
                  <a:pt x="12271" y="7839"/>
                </a:lnTo>
                <a:lnTo>
                  <a:pt x="16327" y="11338"/>
                </a:lnTo>
                <a:lnTo>
                  <a:pt x="16327" y="21469"/>
                </a:lnTo>
                <a:lnTo>
                  <a:pt x="5273" y="21469"/>
                </a:lnTo>
                <a:close/>
              </a:path>
              <a:path fill="darken" w="21600" h="29309">
                <a:moveTo>
                  <a:pt x="12271" y="7839"/>
                </a:moveTo>
                <a:lnTo>
                  <a:pt x="16327" y="11338"/>
                </a:lnTo>
                <a:lnTo>
                  <a:pt x="12271" y="11338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" dur="22980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41506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2" dur="31658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34572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" dur="25313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-257040" y="0"/>
            <a:ext cx="9586800" cy="69883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996240" y="0"/>
            <a:ext cx="33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ac9"/>
                </a:solidFill>
                <a:latin typeface="Arial"/>
                <a:ea typeface="宋体"/>
              </a:rPr>
              <a:t>The time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3040" y="1889280"/>
            <a:ext cx="4442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I would like to travel to the year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I want to see what life wa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I want to see what life will be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rId2" action="ppaction://hlinksldjump"/>
          </p:cNvPr>
          <p:cNvSpPr/>
          <p:nvPr/>
        </p:nvSpPr>
        <p:spPr>
          <a:xfrm>
            <a:off x="5529240" y="6589800"/>
            <a:ext cx="654120" cy="268200"/>
          </a:xfrm>
          <a:custGeom>
            <a:avLst/>
            <a:gdLst>
              <a:gd name="textAreaLeft" fmla="*/ 17280 w 654120"/>
              <a:gd name="textAreaRight" fmla="*/ 636840 w 654120"/>
              <a:gd name="textAreaTop" fmla="*/ 17280 h 268200"/>
              <a:gd name="textAreaBottom" fmla="*/ 250920 h 268200"/>
            </a:gdLst>
            <a:ahLst/>
            <a:rect l="textAreaLeft" t="textAreaTop" r="textAreaRight" b="textAreaBottom"/>
            <a:pathLst>
              <a:path w="52639" h="21600">
                <a:moveTo>
                  <a:pt x="0" y="0"/>
                </a:moveTo>
                <a:lnTo>
                  <a:pt x="52639" y="0"/>
                </a:lnTo>
                <a:lnTo>
                  <a:pt x="52639" y="21600"/>
                </a:lnTo>
                <a:lnTo>
                  <a:pt x="0" y="21600"/>
                </a:lnTo>
                <a:close/>
              </a:path>
              <a:path fill="lightenLess" w="52639" h="21600">
                <a:moveTo>
                  <a:pt x="0" y="0"/>
                </a:moveTo>
                <a:lnTo>
                  <a:pt x="52639" y="0"/>
                </a:lnTo>
                <a:lnTo>
                  <a:pt x="51239" y="1400"/>
                </a:lnTo>
                <a:lnTo>
                  <a:pt x="1400" y="1400"/>
                </a:lnTo>
                <a:close/>
              </a:path>
              <a:path fill="darken" w="52639" h="21600">
                <a:moveTo>
                  <a:pt x="52639" y="0"/>
                </a:moveTo>
                <a:lnTo>
                  <a:pt x="52639" y="21600"/>
                </a:lnTo>
                <a:lnTo>
                  <a:pt x="51239" y="20200"/>
                </a:lnTo>
                <a:lnTo>
                  <a:pt x="51239" y="1400"/>
                </a:lnTo>
                <a:close/>
              </a:path>
              <a:path fill="darkenLess" w="52639" h="21600">
                <a:moveTo>
                  <a:pt x="52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239" y="20200"/>
                </a:lnTo>
                <a:close/>
              </a:path>
              <a:path fill="lighten" w="52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639" h="21600">
                <a:moveTo>
                  <a:pt x="19313" y="10800"/>
                </a:moveTo>
                <a:lnTo>
                  <a:pt x="33326" y="3794"/>
                </a:lnTo>
                <a:lnTo>
                  <a:pt x="333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5200" y="999360"/>
            <a:ext cx="555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ask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200" y="2161800"/>
            <a:ext cx="3776760" cy="31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alk about trav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alk about means of transpor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ps on tra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nderstand boarding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school bus"/>
          <p:cNvPicPr/>
          <p:nvPr/>
        </p:nvPicPr>
        <p:blipFill>
          <a:blip r:embed="rId1"/>
          <a:stretch/>
        </p:blipFill>
        <p:spPr>
          <a:xfrm>
            <a:off x="4383000" y="2666880"/>
            <a:ext cx="4324320" cy="3203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Have a pleasant trip!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042920" y="2013120"/>
            <a:ext cx="2382840" cy="26812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3925800" y="1552680"/>
            <a:ext cx="2710080" cy="21207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6424560" y="3505320"/>
            <a:ext cx="2043000" cy="26049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3613320" y="3889440"/>
            <a:ext cx="2006280" cy="19209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More About M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41520" y="2700360"/>
            <a:ext cx="4192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 like travelling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 like hiking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 like adventure tra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’ve been to many places of inte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175280" y="2873520"/>
            <a:ext cx="3771720" cy="2582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8280" y="409320"/>
            <a:ext cx="6870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  <a:ea typeface="宋体"/>
              </a:rPr>
              <a:t>experience nature and life</a:t>
            </a:r>
            <a:endParaRPr b="0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981000" y="1363680"/>
            <a:ext cx="3022560" cy="20145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011240" y="3471840"/>
            <a:ext cx="3073320" cy="2071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4568760" y="3498840"/>
            <a:ext cx="2938680" cy="20620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4554360" y="1406520"/>
            <a:ext cx="2994120" cy="1969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What about you?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49840" y="2509920"/>
            <a:ext cx="4324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o you like travell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ere have you be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y do you trav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089000" y="2382840"/>
            <a:ext cx="1832040" cy="2793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3956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Why do people travel?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817280" y="1959120"/>
            <a:ext cx="6327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increase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meet new 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keep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have f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experience life in different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try new kinds of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get away from hot w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…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483240" y="4794120"/>
            <a:ext cx="1851120" cy="1762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ips on travel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60120" y="2381400"/>
            <a:ext cx="4584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bey traffic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bserve public 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845320" y="3979800"/>
            <a:ext cx="1565280" cy="1154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ip on travel: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obey rul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779480" y="1319040"/>
            <a:ext cx="2887920" cy="2165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848120" y="1308240"/>
            <a:ext cx="2906640" cy="2179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4902120" y="3662280"/>
            <a:ext cx="2873520" cy="2156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1787400" y="3605040"/>
            <a:ext cx="2874960" cy="2156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ip on travel: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obey rul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617640" y="5025600"/>
            <a:ext cx="4707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e is driving too fa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085760" y="1712880"/>
            <a:ext cx="3265560" cy="2449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565520" y="1639800"/>
            <a:ext cx="3749760" cy="2797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00:44:32Z</dcterms:created>
  <dc:creator>张纯</dc:creator>
  <dc:description/>
  <dc:language>en-US</dc:language>
  <cp:lastModifiedBy>张纯</cp:lastModifiedBy>
  <dcterms:modified xsi:type="dcterms:W3CDTF">2003-09-26T09:05:00Z</dcterms:modified>
  <cp:revision>45</cp:revision>
  <dc:subject/>
  <dc:title>Ms. Dawson’s 3rd Grade Cla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7211033</vt:lpwstr>
  </property>
</Properties>
</file>