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52F-D6E5-4C46-9078-93326BDA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5F2-6474-4C92-BE59-7B2CB5D8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152-CCB0-453D-A0BF-D70ABC95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5E2-A666-4706-B627-5390621D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69A-6590-406F-A43A-2FA7D1B7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503-599E-49D4-AF0D-15A25452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766-990E-4522-B3E3-40B7D162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2E7-232C-451D-A022-5E235E3B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1AB-23DF-46CA-B723-65781CC6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4D5-662D-499A-80DD-FB1F255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289-0D27-43F1-B2F3-E145DC8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5E6-2935-487A-8960-DEC172E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81EF-0753-45A2-A034-A08C2E1DC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Welcome to the Automated 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Salary Review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lease answer the following questions.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adjusted salary will be based on your answ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9360" y="6081840"/>
            <a:ext cx="43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your answer to answer the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9720" y="608184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9720" y="608184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OOD!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Now please get on with your wor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Best Reg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our B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end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640" y="4800600"/>
            <a:ext cx="88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You can send your answer automatically by clicking the button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hank you for your reply.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Salary will remain the sam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Alan Beynon</cp:lastModifiedBy>
  <dcterms:modified xsi:type="dcterms:W3CDTF">2001-11-13T00:07:34Z</dcterms:modified>
  <cp:revision>19</cp:revision>
  <dc:subject/>
  <dc:title>Anser du att du har tillräckligt hög lön?</dc:title>
</cp:coreProperties>
</file>