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F21-5BA3-448A-90EA-87C4F3C1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A951-3671-4471-89B3-AF3C8AC2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A3B-FFE5-4396-8301-01DDE2EA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415-0BF0-4ECA-A0EB-144085E8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3E23-0479-48B3-848A-F73E8BA5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73F3-0777-4D0D-A1E4-0053CEDD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B104-28F7-412F-9057-D0C45FD8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6AFC-C2A2-43E9-AF64-05481F3C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E514-78AD-4DC0-96D9-49B2357C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0D47-7622-45A4-83E6-A169AAB9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6E5C-4116-4F6D-BDEB-1BDCF8C0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5B53-B8A6-492F-B906-56938033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C8D7-D2E0-4B52-A134-0A6B5D7C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8E89-1832-46CD-8F80-A82BF1EF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84A9-BE71-48CF-858B-A8C05ABA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03F9-044F-4FCC-8DCF-616A85A5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D289-07E2-46D0-8CFD-A124913B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CC4E-E7C5-41BA-8120-A618C1A6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AD1D-DCDF-4ED1-89E2-C447AF30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F8A9-68AD-4D8B-91EA-16ADE412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E9A9-5FB7-427D-96E3-48EAE27E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884C-FADF-497A-9339-0AC11173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08C-13DC-4BE2-A633-404F9493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F7F-7123-4602-AFD2-1087ABA1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749A-5AE7-4A49-9FFF-4CC09A0628A6}" type="slidenum">
              <a:rPr b="0" lang="zh-CN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B507-7F7C-4795-9BC2-8AA64BAA99AF}" type="slidenum">
              <a:rPr b="0" lang="zh-CN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80880"/>
            <a:ext cx="595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The –ing form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构成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一般情况  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rain-----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以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结尾的动词  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hope----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重读闭音节的动词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stop-----  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4.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以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ie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结尾的动词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die-----                   lie-----  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tie---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74400" y="148896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raini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17400" y="202248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hopi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560" y="312408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stoppi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4267080"/>
            <a:ext cx="10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dyi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3960" y="4191120"/>
            <a:ext cx="9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lyi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10600" y="487692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tyi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9640" y="2349360"/>
            <a:ext cx="812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Walking through the park, </a:t>
            </a: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we</a:t>
            </a: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 saw a lot of flower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1989000"/>
            <a:ext cx="799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Standing on the tower , </a:t>
            </a: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the whole village</a:t>
            </a: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 could be see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484000" y="1268280"/>
            <a:ext cx="3672360" cy="4105440"/>
            <a:chOff x="2484000" y="1268280"/>
            <a:chExt cx="3672360" cy="4105440"/>
          </a:xfrm>
        </p:grpSpPr>
        <p:sp>
          <p:nvSpPr>
            <p:cNvPr id="124" name=""/>
            <p:cNvSpPr/>
            <p:nvPr/>
          </p:nvSpPr>
          <p:spPr>
            <a:xfrm flipH="1">
              <a:off x="2484000" y="1341360"/>
              <a:ext cx="3382920" cy="38163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56000" y="1268280"/>
              <a:ext cx="3600360" cy="41054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03480" y="988920"/>
            <a:ext cx="769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6.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作宾语补足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I saw  two birds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building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 a nes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4952880"/>
            <a:ext cx="64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-ing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作定语、状语、宾补的用法被称作现在分词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41200" y="2859120"/>
            <a:ext cx="597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1.-ing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表示正在发生的动作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与动词宾语是主动关系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3.hear,watch,see,feel:make,hav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32000" y="1052640"/>
            <a:ext cx="7010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       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-ing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的完成时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        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H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e was praised for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having taught for 60 years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Having been there several times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,he offered to be our guid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38560" y="1197000"/>
            <a:ext cx="21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Arial Narrow"/>
              </a:rPr>
              <a:t>Having+-ed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35280" y="3716280"/>
            <a:ext cx="5883120" cy="1556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表达的事件发生在主要动词的时间之前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9120" y="1341360"/>
            <a:ext cx="8354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Having finished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 the work,she went ou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1905120"/>
            <a:ext cx="7086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          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-ing 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的被动语态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He did it without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being asked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The building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being built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 is our library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90720" y="1371600"/>
            <a:ext cx="7696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-ing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的所有格形式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Mr. Lee complained about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Mary’s coming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 to class lat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Mr. Lee complained about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Mary coming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  to class lat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83000" y="1828800"/>
            <a:ext cx="681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否定式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Not having received</a:t>
            </a: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 a reply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she decided to write agai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2560" y="4265640"/>
            <a:ext cx="22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33"/>
                </a:solidFill>
                <a:latin typeface="Arial Narrow"/>
              </a:rPr>
              <a:t>Not+-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00200" y="1371600"/>
            <a:ext cx="7026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比较下列每组句子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Judy always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remembers to lock the door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I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remember seeing the Alps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 for the first tim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3048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 Narrow"/>
              </a:rPr>
              <a:t>记住去做某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28840" y="4494240"/>
            <a:ext cx="22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 Narrow"/>
              </a:rPr>
              <a:t>记得过去做过的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828800" y="1600200"/>
            <a:ext cx="6019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.Sam often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forgets to lock the doo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2.I’ll never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forget seeing the Alps for the first time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47040" y="25146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 Narrow"/>
              </a:rPr>
              <a:t>忘记去做某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70520" y="46958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 Narrow"/>
              </a:rPr>
              <a:t>忘记发生的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52480" y="2057400"/>
            <a:ext cx="6477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1.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作主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Collect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information is very important to busines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3880" y="1219320"/>
            <a:ext cx="7010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.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try to learn English well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2.The room was hot.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tried opening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the window,but that didn’t help.So 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tried turning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on the fan,but I was still hot</a:t>
            </a: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480" y="620640"/>
            <a:ext cx="12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 Narrow"/>
              </a:rPr>
              <a:t>努力做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2200" y="50292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 Narrow"/>
              </a:rPr>
              <a:t>尝试新的方法，看是否行得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1600200"/>
            <a:ext cx="7483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.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regret to tell you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that you failed the tes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2.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regret lending him some money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.He never paid me back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38880" y="11430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 Narrow"/>
              </a:rPr>
              <a:t>遗憾地告诉某人某个坏消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479736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 Narrow"/>
              </a:rPr>
              <a:t>对发生在过去 的某事感到后悔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05120" y="1600200"/>
            <a:ext cx="6267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Missing the train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means waiting for an hou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I didn’t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mean to start an argumen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92200" y="1143000"/>
            <a:ext cx="12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Narrow"/>
              </a:rPr>
              <a:t>意味着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05280" y="388620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</a:rPr>
              <a:t>打算…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981080" y="1371600"/>
            <a:ext cx="6324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带</a:t>
            </a: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-ing </a:t>
            </a: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的动词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appreciate,advise,consider,dislike,enjoy,finish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can’t  help,keep,mind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miss,practice,sugges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43000" y="1447920"/>
            <a:ext cx="8001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She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advised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waiting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until tomorrow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appreciated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hearing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from them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I will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consider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going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with you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islike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riving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long distance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03280" y="620640"/>
            <a:ext cx="734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enjoy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visiting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them.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can’t help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worrying about it.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keep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hoping he will com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Would you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mind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helping me with this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miss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being with my family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71600" y="1752480"/>
            <a:ext cx="69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The athlete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practiced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throwing the ball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She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suggested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going to a movi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71600" y="1143000"/>
            <a:ext cx="6934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动名词用法检测题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1.I would appreciate___ back this afternoo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A.you to call   B.you call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C.your calling  D. you’re call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4952880"/>
            <a:ext cx="2819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1143000"/>
            <a:ext cx="7162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2.I can hardly imagine Peter ___ across the Atlantic Ocean in five day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sail   B.to sail   C.sail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to have sail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4191120"/>
            <a:ext cx="1752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90720" y="1600200"/>
            <a:ext cx="8153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3.____ is a good form of exercise for both young and old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he walk   B. Walk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walk     D.Walk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3809880"/>
            <a:ext cx="2438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19320" y="1676520"/>
            <a:ext cx="7256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作宾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I enjoy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learn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English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How about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meet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outside the theatre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676520" y="546120"/>
            <a:ext cx="6545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4.__You were brave enough to raise objections at the meet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__Well,now I regret ___ tha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o do     B. to be do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have done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having don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647712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19320" y="762120"/>
            <a:ext cx="69339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5.Only one of these books is_____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worth to read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worth being rea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worth of reading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worth read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5257800"/>
            <a:ext cx="32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71600" y="1295280"/>
            <a:ext cx="7772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6.The squirrel was lucky that it just missed___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atching          B.to be caugh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being caught   D.to catc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434340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828800" y="1066680"/>
            <a:ext cx="6629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7.The boy is looking forward ___ a gif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o be given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to being giv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being giv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to giv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407664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19320" y="1981080"/>
            <a:ext cx="7238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8.Has the driver been used to ___in all kinds of weather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drive       B.drov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driving    D.be driv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5029200"/>
            <a:ext cx="2133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828800" y="1371600"/>
            <a:ext cx="6400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9.Do you feel like ___ or shall we go by bus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o walk    B.walk  C.walking   D.to walk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434340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133720" y="914400"/>
            <a:ext cx="5486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0.It’s no use ___ me believe you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rying making    B.trying to mak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rying to force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to try to mak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472428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752480" y="1523880"/>
            <a:ext cx="6923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1.Our teacher suggested ___ the exhibition once agai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us to visit  B.our visit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visit       D.our to visi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58136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05120" y="685800"/>
            <a:ext cx="6770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2.What worried the child most was ___ to visit his mother in the hospital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his not allowing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his not being allow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his being not allowed   D.having not been allow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4343400"/>
            <a:ext cx="5181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9120" y="1065240"/>
            <a:ext cx="7671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3.As soon as he arrived home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he got down to ____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developing his film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develop his film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develop his film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developed his film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3352680"/>
            <a:ext cx="4724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687320" y="609480"/>
            <a:ext cx="661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作表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The work was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tir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试比较 ：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I  was </a:t>
            </a:r>
            <a:r>
              <a:rPr b="0" lang="zh-CN" sz="4800" spc="-1" strike="noStrike">
                <a:solidFill>
                  <a:srgbClr val="ff0000"/>
                </a:solidFill>
                <a:latin typeface="Arial Narrow"/>
              </a:rPr>
              <a:t>tired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for the hard work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They </a:t>
            </a:r>
            <a:r>
              <a:rPr b="0" lang="zh-CN" sz="4800" spc="-1" strike="noStrike">
                <a:solidFill>
                  <a:srgbClr val="ff0000"/>
                </a:solidFill>
                <a:latin typeface="Arial Narrow"/>
              </a:rPr>
              <a:t>are danc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86400" y="4724280"/>
            <a:ext cx="376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以上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-ing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作用相当于名词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被 称作是动名词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55840" y="838080"/>
            <a:ext cx="7695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现在分词用法检测题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1.European football is played i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80 countries,___ it the most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popular sport in the world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A.making       B.make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C.made         D.to mak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4572000"/>
            <a:ext cx="2133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48000" y="760320"/>
            <a:ext cx="6755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2.She asked me to help her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___ that she couldn’t mov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the heavy  suitcase alon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only to realiz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realiz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having been realiz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realiz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4495680"/>
            <a:ext cx="2133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607760" y="1370160"/>
            <a:ext cx="7140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3.The salesman scolded th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girl caught ___and let her off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o have stolen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to be steal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steal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steal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5867280"/>
            <a:ext cx="2590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98280" y="1065240"/>
            <a:ext cx="7698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4.There was a terrible noise 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the sudden burst of ligh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follow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follow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be follow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being follow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411480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62240" y="1566720"/>
            <a:ext cx="6586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5.Do you know the boy 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under the big tree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lay                   B.lai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laying              D.ly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81480" y="472428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34800" y="1065240"/>
            <a:ext cx="7171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6.“Can’t you read?”Mary sai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____ to the notic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angrily point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and point angrily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angrily point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and angrily point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335268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50920" y="988920"/>
            <a:ext cx="8029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7.The visiting Minister express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his satisfaction with his talks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___ that he had enjoyed his stay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her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having added    B.to ad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adding               D.add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54100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70760" y="988920"/>
            <a:ext cx="8113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8.____ a reply,he decided to writ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gai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Not receiv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Receiving no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Not having receiv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Having not receiv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42920" y="4724280"/>
            <a:ext cx="4724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74240" y="912960"/>
            <a:ext cx="736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9.When he was a boy,he used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to go there and watch ___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o repair bicycle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bicycles to be repair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bicycles being repair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repairing bicycle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4724280"/>
            <a:ext cx="5410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608480" y="1446120"/>
            <a:ext cx="6947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10.____,his face turned pal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A.Hearing the new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B.When hearing the new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C.Having heard the new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D.After he heard the new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5181480"/>
            <a:ext cx="5867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13000" y="907920"/>
            <a:ext cx="7197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              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4.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作定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A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sleep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boy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I know the man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stand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ther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81240" y="3573360"/>
            <a:ext cx="31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Arial Narrow"/>
              </a:rPr>
              <a:t>1.</a:t>
            </a:r>
            <a:r>
              <a:rPr b="0" lang="zh-CN" sz="3600" spc="-1" strike="noStrike">
                <a:solidFill>
                  <a:srgbClr val="eaeaea"/>
                </a:solidFill>
                <a:latin typeface="Arial Narrow"/>
              </a:rPr>
              <a:t>与被修饰词是主动关系 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Arial Narrow"/>
              </a:rPr>
              <a:t>2.</a:t>
            </a:r>
            <a:r>
              <a:rPr b="0" lang="zh-CN" sz="3600" spc="-1" strike="noStrike">
                <a:solidFill>
                  <a:srgbClr val="eaeaea"/>
                </a:solidFill>
                <a:latin typeface="Arial Narrow"/>
              </a:rPr>
              <a:t>表示 正在发生的动作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17040" y="4941720"/>
            <a:ext cx="353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a </a:t>
            </a:r>
            <a:r>
              <a:rPr b="0" lang="zh-CN" sz="4800" spc="-1" strike="noStrike">
                <a:solidFill>
                  <a:srgbClr val="ff0000"/>
                </a:solidFill>
                <a:latin typeface="Arial Narrow"/>
              </a:rPr>
              <a:t>walk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stick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736640" y="199224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03560" y="1217520"/>
            <a:ext cx="675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12.Not until Jane got off th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bus did she find her walle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____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A.missing    B.miss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C.losing      D.mis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4267080"/>
            <a:ext cx="1905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27680" y="1065240"/>
            <a:ext cx="7783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2.When I got back hom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I saw a message pinned to th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oor___ “Sorry to miss you;Will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all later.”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read              B.read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read          D.read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56272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95280" y="685800"/>
            <a:ext cx="7239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             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5.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作状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They stood there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waiting for the bus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Walking in the street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,I saw two birds building a nes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1295280"/>
            <a:ext cx="7467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作什么状语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2.-ing 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与句子主语存在主动关系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-ing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的逻辑主语与句子主语一致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伴随状语表示与主要动词同时间发生， 常放在句尾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;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时间、原因状语常放在句子开头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71640" y="1916280"/>
            <a:ext cx="775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现在分词作状语时，它逻辑上的主语必须与句子的主语一致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2205000"/>
            <a:ext cx="860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Walking through the park, </a:t>
            </a: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the  flowers</a:t>
            </a: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 looked very beautiful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484000" y="1268280"/>
            <a:ext cx="3672360" cy="4105440"/>
            <a:chOff x="2484000" y="1268280"/>
            <a:chExt cx="3672360" cy="4105440"/>
          </a:xfrm>
        </p:grpSpPr>
        <p:sp>
          <p:nvSpPr>
            <p:cNvPr id="119" name=""/>
            <p:cNvSpPr/>
            <p:nvPr/>
          </p:nvSpPr>
          <p:spPr>
            <a:xfrm flipH="1">
              <a:off x="2484000" y="1341360"/>
              <a:ext cx="3382920" cy="38163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56000" y="1268280"/>
              <a:ext cx="3600360" cy="41054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9:17:35Z</dcterms:created>
  <dc:creator>Legend User</dc:creator>
  <dc:description/>
  <dc:language>en-US</dc:language>
  <cp:lastModifiedBy>赵晨盼</cp:lastModifiedBy>
  <dcterms:modified xsi:type="dcterms:W3CDTF">2002-11-03T13:08:29Z</dcterms:modified>
  <cp:revision>32</cp:revision>
  <dc:subject/>
  <dc:title>PowerPoint 演示文稿</dc:title>
</cp:coreProperties>
</file>