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62EF-88BB-4FBA-AB26-3D6EE89F6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E762-92FC-43E5-9FD3-42F93A17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5C90-5203-459A-8C3A-132608755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F84C-B8A7-4D89-A182-FC10CA5F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4A29-185C-4578-9A3E-8B09CED5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5FCF-33BC-4069-8992-70DC9AD4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498A-96ED-46EB-9466-71FCE07C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711E-4F4C-431E-A0ED-E3AD4370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BBFC-FD64-4261-B240-F1FCA2BD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3A5A-3999-4608-A7D3-FEA3DA5E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EAE0-F713-43B6-84C7-BB99C907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5B47-4CCC-4607-80F7-4F9A7E41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14EA-2DC4-4B00-96A9-7A7B66DF31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457200"/>
            <a:ext cx="845820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1. The White family are _____ breakfast in a hot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in Asw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A. for   B. at     C. on    D.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2. Pippa said she didn’t feel____very much that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A. walk   B. like to walk   C. walking   D. like wal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3.Then anyone____wants to can go for a walk 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Aswan after the boat tr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A. who     B. which     C. what     D. Wh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4. I’d prefer ____some shopping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A. do     B. done     C. to do     D. D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5. The sun will burn you ___ you’re not car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A. unless   B. if     C. and      D. 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stick" descr=""/>
          <p:cNvPicPr/>
          <p:nvPr/>
        </p:nvPicPr>
        <p:blipFill>
          <a:blip r:embed="rId2"/>
          <a:stretch/>
        </p:blipFill>
        <p:spPr>
          <a:xfrm>
            <a:off x="2133720" y="1523880"/>
            <a:ext cx="328320" cy="328680"/>
          </a:xfrm>
          <a:prstGeom prst="rect">
            <a:avLst/>
          </a:prstGeom>
          <a:ln w="0">
            <a:noFill/>
          </a:ln>
        </p:spPr>
      </p:pic>
      <p:pic>
        <p:nvPicPr>
          <p:cNvPr id="43" name="stick" descr=""/>
          <p:cNvPicPr/>
          <p:nvPr/>
        </p:nvPicPr>
        <p:blipFill>
          <a:blip r:embed="rId3"/>
          <a:stretch/>
        </p:blipFill>
        <p:spPr>
          <a:xfrm>
            <a:off x="6477120" y="2362320"/>
            <a:ext cx="328320" cy="328320"/>
          </a:xfrm>
          <a:prstGeom prst="rect">
            <a:avLst/>
          </a:prstGeom>
          <a:ln w="0">
            <a:noFill/>
          </a:ln>
        </p:spPr>
      </p:pic>
      <p:pic>
        <p:nvPicPr>
          <p:cNvPr id="44" name="stick" descr=""/>
          <p:cNvPicPr/>
          <p:nvPr/>
        </p:nvPicPr>
        <p:blipFill>
          <a:blip r:embed="rId4"/>
          <a:stretch/>
        </p:blipFill>
        <p:spPr>
          <a:xfrm>
            <a:off x="914400" y="3657600"/>
            <a:ext cx="328680" cy="328680"/>
          </a:xfrm>
          <a:prstGeom prst="rect">
            <a:avLst/>
          </a:prstGeom>
          <a:ln w="0">
            <a:noFill/>
          </a:ln>
        </p:spPr>
      </p:pic>
      <p:pic>
        <p:nvPicPr>
          <p:cNvPr id="45" name="stick" descr=""/>
          <p:cNvPicPr/>
          <p:nvPr/>
        </p:nvPicPr>
        <p:blipFill>
          <a:blip r:embed="rId5"/>
          <a:stretch/>
        </p:blipFill>
        <p:spPr>
          <a:xfrm>
            <a:off x="3733920" y="4495680"/>
            <a:ext cx="328320" cy="328680"/>
          </a:xfrm>
          <a:prstGeom prst="rect">
            <a:avLst/>
          </a:prstGeom>
          <a:ln w="0">
            <a:noFill/>
          </a:ln>
        </p:spPr>
      </p:pic>
      <p:pic>
        <p:nvPicPr>
          <p:cNvPr id="46" name="stick" descr=""/>
          <p:cNvPicPr/>
          <p:nvPr/>
        </p:nvPicPr>
        <p:blipFill>
          <a:blip r:embed="rId6"/>
          <a:stretch/>
        </p:blipFill>
        <p:spPr>
          <a:xfrm>
            <a:off x="2514600" y="5334120"/>
            <a:ext cx="32868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38080" y="9144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The Rescue of Abu Simbe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09480" y="1600200"/>
          <a:ext cx="7391520" cy="4327560"/>
        </p:xfrm>
        <a:graphic>
          <a:graphicData uri="http://schemas.openxmlformats.org/drawingml/2006/table">
            <a:tbl>
              <a:tblPr/>
              <a:tblGrid>
                <a:gridCol w="2895840"/>
                <a:gridCol w="44956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rescued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ider,decide, marked …with,carried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long: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y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much mone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 b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0workers ,200 other peo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to visi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ther…or…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838080"/>
            <a:ext cx="73152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 on holiday/va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t break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lenty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el like do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fer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lik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 the edg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lan/pay a visi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 in da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nger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ords and expressions in Unit 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95280" y="380880"/>
            <a:ext cx="45720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-made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loo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ro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water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N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980 meters w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ise b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63 meter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/rai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ggest plan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c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ider: think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ve/on the water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k on th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marked with:mar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1295280"/>
            <a:ext cx="84582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Introduction to Egyp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apital city= Ca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opulation=53153000(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pulation growth=2.7% (1987-199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fe expectancy= 62 (199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a=1000000sq k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est=0sq k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Oral practice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Lesson 90-9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8808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yram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808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wan D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90720" y="1295280"/>
          <a:ext cx="7391160" cy="4030560"/>
        </p:xfrm>
        <a:graphic>
          <a:graphicData uri="http://schemas.openxmlformats.org/drawingml/2006/table">
            <a:tbl>
              <a:tblPr/>
              <a:tblGrid>
                <a:gridCol w="2241360"/>
                <a:gridCol w="51498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sons for building 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ood,destr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uce electr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 3838 meters lo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0 at the base-40 at the t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lake: 500k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e by 63 ms, move 53,000 peo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les in dang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666880" y="457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swan D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288078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43000" y="9144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temple of Abu Simb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57913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s carved in the r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143000" y="9144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temple of Abu Simb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38080" y="9144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The Rescue of Abu Simbe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09480" y="1600200"/>
          <a:ext cx="7391520" cy="4064040"/>
        </p:xfrm>
        <a:graphic>
          <a:graphicData uri="http://schemas.openxmlformats.org/drawingml/2006/table">
            <a:tbl>
              <a:tblPr/>
              <a:tblGrid>
                <a:gridCol w="2895840"/>
                <a:gridCol w="4495680"/>
              </a:tblGrid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rescued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long: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much mone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to visi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7T02:42:59Z</dcterms:created>
  <dc:creator>qz</dc:creator>
  <dc:description/>
  <dc:language>en-US</dc:language>
  <cp:lastModifiedBy>蒋黎梅</cp:lastModifiedBy>
  <dcterms:modified xsi:type="dcterms:W3CDTF">2002-08-14T06:05:02Z</dcterms:modified>
  <cp:revision>30</cp:revision>
  <dc:subject/>
  <dc:title>Unit 23</dc:title>
</cp:coreProperties>
</file>