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BE8-01AD-4EEB-8284-E392362D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E57-5CFE-4B02-8BF0-E090ABCB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6BF-C9CF-470D-AF26-04F15100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688-6FC0-40F4-A5FE-A5484EB7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30C-FB60-4712-B427-BC2D87D3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71D-D660-415F-873D-C36B15FF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7F3-5A73-40B1-8DA8-80503D0B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850-CC6C-46FF-8E58-0D7D971C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1FC-3E2E-46EA-90E0-A5691BB0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C69-82CB-4CEB-9B8D-E989356F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082-D786-4759-862F-D376411E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03A-2A6A-4A2A-8F53-FA1B6EBE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D934-FEAB-41AA-886C-A413E7E362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rosoft.com/china/billgates/" TargetMode="External"/><Relationship Id="rId2" Type="http://schemas.openxmlformats.org/officeDocument/2006/relationships/hyperlink" Target="http://it.sohu.com/itpeople/Bill_Gates.html" TargetMode="External"/><Relationship Id="rId3" Type="http://schemas.openxmlformats.org/officeDocument/2006/relationships/hyperlink" Target="http://it.sohu.com/itpeople/Bill_Gates.html" TargetMode="External"/><Relationship Id="rId4" Type="http://schemas.openxmlformats.org/officeDocument/2006/relationships/hyperlink" Target="http://it.sohu.com/itpeople/Bill_Gates.html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icrosoft.com/billgates/speedofthought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5105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英语教研组  孙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1447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合肥市第十一中学多媒体公开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8954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990099"/>
                </a:solidFill>
                <a:latin typeface="Times New Roman"/>
                <a:ea typeface="华文琥珀"/>
              </a:rPr>
              <a:t>欢迎各位评委光临指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2438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 Narrow"/>
                <a:ea typeface="华文细黑"/>
              </a:rPr>
              <a:t>Wb Leeson90.Ex3 in the exercise 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0800" y="4143240"/>
            <a:ext cx="40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Berlin Sans FB"/>
              </a:rPr>
              <a:t>Good Bye!</a:t>
            </a:r>
            <a:r>
              <a:rPr b="0" lang="en-US" sz="54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EFC  SB  2B 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UNIT 23   A famous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800" spc="-1" strike="noStrike">
                <a:solidFill>
                  <a:srgbClr val="990099"/>
                </a:solidFill>
                <a:latin typeface="Arial"/>
                <a:ea typeface="MS Mincho"/>
              </a:rPr>
              <a:t>BILL  G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llbio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vision:    Ask  and 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’s the name of the book Jim and his father are talking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usiness @ The Speed of Tho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es Mr Green think of the boo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’s an interesting bo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is the book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 tells us how computer technology can solve business problems in new w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Is the book pop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, it’s very pop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Are you interested in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(N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ecause 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1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Pre-read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 you know about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American  Seattle   clever   computer manager much money  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can you learn from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Love his work and work h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Do you want to be person like Bill Gates? 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(No). Because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illg-1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7848720" cy="2133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419112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华文细黑"/>
              </a:rPr>
              <a:t>Seattle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 Washington  future  in the futu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large  spend  unusual  in the end    work out software  program  Harvard  unversity  devel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BASIC  microcomputer  Microsoft t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Personal    improve   golf  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Background:</a:t>
            </a:r>
            <a:r>
              <a:rPr b="0" lang="zh-CN" sz="2000" spc="-1" strike="noStrike">
                <a:solidFill>
                  <a:srgbClr val="808000"/>
                </a:solidFill>
                <a:latin typeface="Times New Roman"/>
              </a:rPr>
              <a:t>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微软中文主页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搜狐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BILL GATES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955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86000"/>
            <a:ext cx="403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grow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favourit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th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ea" descr=""/>
          <p:cNvPicPr/>
          <p:nvPr/>
        </p:nvPicPr>
        <p:blipFill>
          <a:blip r:embed="rId5"/>
          <a:stretch/>
        </p:blipFill>
        <p:spPr>
          <a:xfrm>
            <a:off x="4952880" y="2209680"/>
            <a:ext cx="2286000" cy="164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380988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illbio3" descr=""/>
          <p:cNvPicPr/>
          <p:nvPr/>
        </p:nvPicPr>
        <p:blipFill>
          <a:blip r:embed="rId6"/>
          <a:stretch/>
        </p:blipFill>
        <p:spPr>
          <a:xfrm>
            <a:off x="4952880" y="419112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2720" y="5867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cient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5029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13 years old    play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interested in   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Work out   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Only 17      4,200 dol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OMPUTER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SOFT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6600" y="289548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188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458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ASIC lau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 1975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mages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basicfuture002" descr=""/>
          <p:cNvPicPr/>
          <p:nvPr/>
        </p:nvPicPr>
        <p:blipFill>
          <a:blip r:embed="rId2"/>
          <a:stretch/>
        </p:blipFill>
        <p:spPr>
          <a:xfrm>
            <a:off x="6934320" y="9144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05-21billceosummit" descr=""/>
          <p:cNvPicPr/>
          <p:nvPr/>
        </p:nvPicPr>
        <p:blipFill>
          <a:blip r:embed="rId3"/>
          <a:stretch/>
        </p:blipFill>
        <p:spPr>
          <a:xfrm>
            <a:off x="6934320" y="3733920"/>
            <a:ext cx="1676160" cy="2361960"/>
          </a:xfrm>
          <a:prstGeom prst="rect">
            <a:avLst/>
          </a:prstGeom>
          <a:ln w="0">
            <a:noFill/>
          </a:ln>
        </p:spPr>
      </p:pic>
      <p:pic>
        <p:nvPicPr>
          <p:cNvPr id="76" name="billbio2a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29200" y="3276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4040" y="33526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61722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is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1480" y="62485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 1999  wrote a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Business @ the Speed of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1994  ma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enjo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ding golf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ates" descr=""/>
          <p:cNvPicPr/>
          <p:nvPr/>
        </p:nvPicPr>
        <p:blipFill>
          <a:blip r:embed="rId1"/>
          <a:stretch/>
        </p:blipFill>
        <p:spPr>
          <a:xfrm>
            <a:off x="7010280" y="3124080"/>
            <a:ext cx="167652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_1046397832_03022801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175248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1920" y="220968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未来时速主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Name: Bill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Date of birth: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Favourate  subject at school: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Hobbies: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What Gates did at  17: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3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5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4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9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Additional information: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Octorber 28,1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20574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science 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4280" y="26668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lay with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5520" y="312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ked out a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657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He went to 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69640" y="411480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e began a company called Micro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8560" y="464832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ill merried Melinda French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5040" y="510552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usiness @ the Speed of Thou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715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ow children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3:22:52Z</dcterms:created>
  <dc:creator>孙强</dc:creator>
  <dc:description/>
  <dc:language>en-US</dc:language>
  <cp:lastModifiedBy>孙强</cp:lastModifiedBy>
  <dcterms:modified xsi:type="dcterms:W3CDTF">2003-06-04T13:31:22Z</dcterms:modified>
  <cp:revision>64</cp:revision>
  <dc:subject/>
  <dc:title>合肥市第十一中学多媒体公开课</dc:title>
</cp:coreProperties>
</file>