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859-89FE-4BDE-BE68-55B784EF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3A8-F2C4-487F-97EE-80E4F079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179-5FB0-4126-8AE1-E3E78010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311-6DFB-4FC5-8F91-0B6E6F80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A27A-87C3-4A53-A9F7-82A6003F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8DD-06B9-46E7-97F9-090DB804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100-910D-44E6-9476-3817C5D0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9B4-EF67-421A-AEA9-C3DCAD52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E01-1783-4F83-89A8-D74BC5B2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6EC-69C9-42A6-A4D8-B5C40821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61E-DD5A-4798-920C-06EEAF83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47F4-3DEC-427A-8B21-3BC398A6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B84D-C928-4411-85CC-931838EA6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ccccff"/>
                </a:solidFill>
                <a:latin typeface="Comic Sans MS"/>
              </a:rPr>
              <a:t>Audrey Hepburn beauty tips</a:t>
            </a:r>
            <a:br>
              <a:rPr sz="4400"/>
            </a:br>
            <a:r>
              <a:rPr b="0" lang="zh-TW" sz="4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奧黛莉赫本的美麗祕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e2fa"/>
                </a:solidFill>
                <a:latin typeface="Comic Sans MS"/>
                <a:ea typeface="新細明體"/>
              </a:rPr>
              <a:t>The following was written by Audrey Hepburn, who was asked to share beauty t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69" name="pavilionbaby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368604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560" y="9903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The beauty of a woman is not in a facial mode, but the true</a:t>
            </a:r>
            <a:r>
              <a:rPr b="0" lang="is-IS" sz="2400" spc="-1" strike="noStrike">
                <a:solidFill>
                  <a:srgbClr val="f9e2fa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beauty in a woman is reflected in her soul. It is the caring that</a:t>
            </a:r>
            <a:r>
              <a:rPr b="0" lang="is-IS" sz="2400" spc="-1" strike="noStrike">
                <a:solidFill>
                  <a:srgbClr val="f9e2fa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she</a:t>
            </a:r>
            <a:r>
              <a:rPr b="0" lang="is-IS" sz="2400" spc="-1" strike="noStrike">
                <a:solidFill>
                  <a:srgbClr val="f9e2fa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lovingly gives, the passion that she sh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9. </a:t>
            </a:r>
            <a:r>
              <a:rPr b="0" lang="zh-TW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女人的美麗不是表面的，應該是她的精神層面－是她的關懷、她的愛心以及她的熱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72" name="keepingthepromisesmall" descr=""/>
          <p:cNvPicPr/>
          <p:nvPr/>
        </p:nvPicPr>
        <p:blipFill>
          <a:blip r:embed="rId2"/>
          <a:stretch/>
        </p:blipFill>
        <p:spPr>
          <a:xfrm>
            <a:off x="5105520" y="1066680"/>
            <a:ext cx="287316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The beauty of a woman grows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passing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女人的美麗是跟著年齡成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75" name="face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3809880" cy="3008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Please send this to five phenomenal women today. If you do,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something good will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... that is, you will boost another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woman's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self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este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請多加轉寄，謝謝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44" name="senzatit15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06216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19360" y="24382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a59ff5"/>
                </a:solidFill>
                <a:latin typeface="Comic Sans MS"/>
              </a:rPr>
              <a:t>1.</a:t>
            </a:r>
            <a:r>
              <a:rPr b="0" lang="is-IS" sz="2000" spc="-1" strike="noStrike">
                <a:solidFill>
                  <a:srgbClr val="a59ff5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a59ff5"/>
                </a:solidFill>
                <a:latin typeface="Comic Sans MS"/>
              </a:rPr>
              <a:t>F</a:t>
            </a:r>
            <a:r>
              <a:rPr b="0" lang="en-GB" sz="2000" spc="-1" strike="noStrike">
                <a:solidFill>
                  <a:srgbClr val="a59ff5"/>
                </a:solidFill>
                <a:latin typeface="Comic Sans MS"/>
                <a:ea typeface="新細明體"/>
              </a:rPr>
              <a:t>or attractive lips, speak words of kindn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9ff5"/>
                </a:solidFill>
                <a:latin typeface="Comic Sans MS"/>
                <a:ea typeface="新細明體"/>
              </a:rPr>
              <a:t>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9ff5"/>
                </a:solidFill>
                <a:latin typeface="Comic Sans MS"/>
                <a:ea typeface="新細明體"/>
              </a:rPr>
              <a:t>要有吸引人的雙唇，請說好意的言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47" name="ar2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3809880" cy="368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 </a:t>
            </a:r>
            <a:r>
              <a:rPr b="0" lang="en-GB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For lovely eyes, seek out the good in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 </a:t>
            </a:r>
            <a:r>
              <a:rPr b="0" lang="zh-TW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要有美麗的雙眼，請尋索它人的優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50" name="senzatit2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3809880" cy="3630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24382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ccff"/>
                </a:solidFill>
                <a:latin typeface="Comic Sans MS"/>
                <a:ea typeface="新細明體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Comic Sans MS"/>
                <a:ea typeface="新細明體"/>
              </a:rPr>
              <a:t>For a slim figure, share your food with the hung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ccff"/>
                </a:solidFill>
                <a:latin typeface="Comic Sans MS"/>
                <a:ea typeface="新細明體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ccff"/>
                </a:solidFill>
                <a:latin typeface="Comic Sans MS"/>
                <a:ea typeface="新細明體"/>
              </a:rPr>
              <a:t>要有纖細的身材，請與飢民分享你的食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53" name="aubatf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292284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For beautiful hair, let a child run his or her fingers through it once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要有亮麗的頭髮，請讓小孩每日觸摸妳的頭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56" name="senzatit5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307656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 </a:t>
            </a:r>
            <a:r>
              <a:rPr b="0" lang="en-GB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For poise, walk with the knowledge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you</a:t>
            </a:r>
            <a:r>
              <a:rPr b="0" lang="is-IS" sz="2000" spc="-1" strike="noStrike">
                <a:solidFill>
                  <a:srgbClr val="f9e2fa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never walk al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要有自信的態度，請學習妳不曾學過的知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59" name="senzatit10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32482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People, even more than things, have to be restored, revived,</a:t>
            </a:r>
            <a:r>
              <a:rPr b="0" lang="is-IS" sz="2400" spc="-1" strike="noStrike">
                <a:solidFill>
                  <a:srgbClr val="b4aff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reclaimed and redeemed; never throw out 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6. </a:t>
            </a:r>
            <a:r>
              <a:rPr b="0" lang="zh-TW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人之所以為人，是必須充滿精力</a:t>
            </a:r>
            <a:r>
              <a:rPr b="0" lang="is-IS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自我悔改、自我反省、自我成長；並非向人抱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62" name="ao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326412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16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7. </a:t>
            </a: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Remember, if you ever need a helping hand, you'll find them at</a:t>
            </a:r>
            <a:r>
              <a:rPr b="0" lang="is-IS" sz="2400" spc="-1" strike="noStrike">
                <a:solidFill>
                  <a:srgbClr val="a6f2f8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the end of each of your arms. As you grow older, you will discover</a:t>
            </a:r>
            <a:r>
              <a:rPr b="0" lang="is-IS" sz="2400" spc="-1" strike="noStrike">
                <a:solidFill>
                  <a:srgbClr val="a6f2f8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that you have two hands, one for helping yourself, the other for</a:t>
            </a:r>
            <a:r>
              <a:rPr b="0" lang="is-IS" sz="2400" spc="-1" strike="noStrike">
                <a:solidFill>
                  <a:srgbClr val="a6f2f8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helping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7.</a:t>
            </a:r>
            <a:r>
              <a:rPr b="0" lang="zh-TW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請記得，如果你需要幫助，你永遠有你的手可以自己動手。當你成長後，你會發覺你有二隻手，一隻幫助自己，一隻幫助它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0" y="5540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66" name="senzatit4" descr=""/>
          <p:cNvPicPr/>
          <p:nvPr/>
        </p:nvPicPr>
        <p:blipFill>
          <a:blip r:embed="rId2"/>
          <a:stretch/>
        </p:blipFill>
        <p:spPr>
          <a:xfrm>
            <a:off x="4952880" y="762120"/>
            <a:ext cx="324504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53352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8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The beauty of a woman is not in the clothes she wears, the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figure that she carries, or the way she combs her hair. The beauty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of a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woman must be seen from in her eyes, because that is the doorway to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her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heart, the place where love resi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8.</a:t>
            </a:r>
            <a:r>
              <a:rPr b="0" lang="zh-TW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女人的美麗不存在於她的服飾、她的珠寶、她的髮型；女人的美麗必須從她的眼中找到，因為這才是她的心靈之窗與愛心之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10:25:07Z</dcterms:created>
  <dc:creator>Unknown User</dc:creator>
  <dc:description/>
  <dc:language>en-US</dc:language>
  <cp:lastModifiedBy>Clement Hsieh</cp:lastModifiedBy>
  <dcterms:modified xsi:type="dcterms:W3CDTF">2001-11-28T04:15:24Z</dcterms:modified>
  <cp:revision>4</cp:revision>
  <dc:subject/>
  <dc:title>Audrey Hepburn beauty tips</dc:title>
</cp:coreProperties>
</file>