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D883-CF84-4FB3-9B99-6B8006548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BC63-8949-4533-BC64-90129CAFE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C467-600A-4959-84BA-39BBE6A78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800B-0984-4E6B-B29F-A8A83697B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AB47-15E3-4C65-86E3-6B89FC5BC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E0F2-23D3-4526-A1E1-86E06B694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8C21-9F8B-4690-8D10-C1A272DDE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2F54-42B6-45E7-B262-F1D96CAE9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06BA-59BF-4FF6-98A7-BDB78D5A8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C51E-CCD1-4977-A456-CA47AFCC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5766-4754-4EA4-BE5D-D1D438CB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7A05-FFBB-420A-8E6D-E7FB19AD8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CC0D1-6F1C-46FD-B7F4-47D75AD974F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152280"/>
            <a:ext cx="8001000" cy="51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It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的用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基本的用法是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人称代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主要代表刚提到的东西以避免重复。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Look at that car. It’s going much too fast.  Eg2: Where is the car key? ---- I put it in your draw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也可以代表抽象的东西。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’s all my fault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也可以指动物或未知性别的婴儿。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What a beautiful baby--- is it a boy? Eg2: How about the baby? ---- I’ll take care of i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还可代表一个彼此都知其何所指的东西。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Where does it hurt?  Eg2: If he doesn’t come, I can’t help it.  Eg3: You have saved my life. I shall never forget i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228600"/>
            <a:ext cx="9960120" cy="64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用于由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that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引导的主语从句，有下面几种类型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形容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：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is natural that they should have different views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名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’s a shame that you’re s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词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宾语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happened that she wasn’t in that day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2: It never occurred to me that perhaps she was lying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词的被动语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said/believed/thought/expected/reported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known+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’s said that there has been an earthquake in India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304920"/>
            <a:ext cx="8458200" cy="58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形式宾语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以代表不定式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She found it difficult to convince hi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2: He felt it his duty to take care of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代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引导的从句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 took it for granted (that) you would be coming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间或代表连接代（副）词引导的从句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He hasn’t made it clear when he is coming back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2: They haven’t made it known where the meeting is to take pla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152280"/>
            <a:ext cx="8915400" cy="64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用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it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起始的句型归纳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形容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is not clear to me why he behaved like tha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名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’s a puzzle how life beg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词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宾语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doesn’t matter much where we l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2: It makes no difference whether we go by train or by boat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词的被动语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is not decided who will edit it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9640" y="549360"/>
            <a:ext cx="820908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 +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No, it couldn’t be that they were interested in hi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be 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点时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 whe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was Christmas Eve when I got the news of his being killed in a car cra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段时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 sinc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is/has been three week since I last heard from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is time to do/ that…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谓语用过去时态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is time for us to give the house a thorough clea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t is time that we gave the house a thorough clea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46600" y="765000"/>
            <a:ext cx="85305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 be + the first/second time that…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谓语动词用完成时态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is the first time in history that two Nobel Prizes have b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warded to the same pers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takes sb. Time to d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took Mary 20 minutes to choose a suitable dress for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par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896400" y="496800"/>
            <a:ext cx="80096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There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起始的句型归纳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re live/stand/lie/exis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There stands a big tree at the entrance to the tem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ere lay a ditch two metres wide ah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) There come/go/appear/occur/follow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于描述某事的发生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某个动作的开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There will follow a break of 10 minutes and then we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go on with the le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94720" y="568440"/>
            <a:ext cx="81450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) There being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独立主格结构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There being nothing left in the fridge, we had to do so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shopping fir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) …there to b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结构常见于动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ntend, mean, consider, hat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an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词后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No one would expect there to be a war in his count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 don’t want there to be another accident like thi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9640" y="404640"/>
            <a:ext cx="817704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) There is no need to d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There is no need to wait for the bus since we can take y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n our c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若名词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use, good, harm, sense, poin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re is no 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名词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 in doing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There is no point in arguing with him. He won’t liste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n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) There appear/seem/is likely/is certain to b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There seems to be something wrong with the electric f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ere is likely to be more people at the speech co0nte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an exp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8600" y="228600"/>
            <a:ext cx="7848720" cy="52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It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用于强调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结构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强调部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who(whom)/that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其他部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以用来对句子的某一成分加以强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Eg: Nancy saw your sister in Tokyo last week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It was </a:t>
            </a:r>
            <a:r>
              <a:rPr b="1" i="1" lang="zh-CN" sz="2800" spc="-1" strike="noStrike">
                <a:solidFill>
                  <a:srgbClr val="00cc99"/>
                </a:solidFill>
                <a:latin typeface="Times New Roman"/>
              </a:rPr>
              <a:t>Nancy</a:t>
            </a:r>
            <a:r>
              <a:rPr b="1" lang="zh-CN" sz="2400" spc="-1" strike="noStrike" u="sng">
                <a:solidFill>
                  <a:srgbClr val="00cc99"/>
                </a:solidFill>
                <a:uFillTx/>
                <a:latin typeface="Times New Roman"/>
              </a:rPr>
              <a:t> </a:t>
            </a: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who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saw your sister in Tokyo last wee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It was </a:t>
            </a:r>
            <a:r>
              <a:rPr b="1" i="1" lang="zh-CN" sz="2800" spc="-1" strike="noStrike">
                <a:solidFill>
                  <a:srgbClr val="00cc99"/>
                </a:solidFill>
                <a:latin typeface="Times New Roman"/>
              </a:rPr>
              <a:t>your sister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whom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Nancy saw in Tokyo last wee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It was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cc99"/>
                </a:solidFill>
                <a:latin typeface="Times New Roman"/>
              </a:rPr>
              <a:t>in Tokyo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that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Nancy saw your sister last wee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It was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cc99"/>
                </a:solidFill>
                <a:latin typeface="Times New Roman"/>
              </a:rPr>
              <a:t>last week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 </a:t>
            </a: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that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Nancy saw your sister in Toky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9640" y="0"/>
            <a:ext cx="769644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些否定句也可以改成这种强调结构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I didn’t hear from her until last sum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t wasn’t until last summer that I heard from 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I didn’t do all this for myself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t wasn’t for myself that I did all t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问句也可变成这种结构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Who called him “comrade”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Who was it that called him “comrade”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How did you forget to lock the do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How was it that you forgot to lock the do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280" y="762120"/>
            <a:ext cx="76320" cy="685800"/>
          </a:xfrm>
          <a:custGeom>
            <a:avLst/>
            <a:gdLst>
              <a:gd name="textAreaLeft" fmla="*/ 48960 w 76320"/>
              <a:gd name="textAreaRight" fmla="*/ 7632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1828800"/>
            <a:ext cx="76320" cy="762120"/>
          </a:xfrm>
          <a:custGeom>
            <a:avLst/>
            <a:gdLst>
              <a:gd name="textAreaLeft" fmla="*/ 48960 w 76320"/>
              <a:gd name="textAreaRight" fmla="*/ 7632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3505320"/>
            <a:ext cx="76320" cy="609480"/>
          </a:xfrm>
          <a:custGeom>
            <a:avLst/>
            <a:gdLst>
              <a:gd name="textAreaLeft" fmla="*/ 48960 w 76320"/>
              <a:gd name="textAreaRight" fmla="*/ 76320 w 7632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4572000"/>
            <a:ext cx="76320" cy="762120"/>
          </a:xfrm>
          <a:custGeom>
            <a:avLst/>
            <a:gdLst>
              <a:gd name="textAreaLeft" fmla="*/ 48960 w 76320"/>
              <a:gd name="textAreaRight" fmla="*/ 7632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24000" y="189000"/>
            <a:ext cx="8229600" cy="60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非人称代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i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于代替指示代词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以表示“是谁（在某处或做某事）”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“Who’s that?” “It’s me.” Eg2: It’s your mother on the phone.  Eg3: “Why, it’s you!” she cri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还可以用来泛指某件事。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sn’t it awful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2: It doesn’t matt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时并不指具体东西，而指天气、时间、环境、距离等，称为非人称代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’s raining. Eg2: It’s Tuesday today.  Eg3: It’s quiet here. Eg4: It’s two miles to the beac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685800"/>
            <a:ext cx="7543800" cy="58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Ex: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把下列句子改为强调句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1.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Tom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broke the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window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last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night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2.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They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want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money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3.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Peter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saw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his friend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in the park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yesterday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4. I didn’t have an opportunity  of seeing her again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for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several years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5.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Why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does everyone think I’m narrow-mind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6. I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didn’t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receive my letter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until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yesterday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7. Did 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Dick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call the meeting last wee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8. Did it happen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in 1980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-83520" y="352440"/>
            <a:ext cx="979884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替代词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one, ones, that, those, it, this,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one, ones, that, t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替换单数可数名词或不可数名词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只替换单数的可数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The vase on the left is more beautiful than the one on the r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e coffee produced in Brazil is more famous than that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Mex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只用于替换表示事物的名词， 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e/one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替换表示人和表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事物的名词皆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His younger sister is taller than the elder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 need tha plastic bags, not the paper 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16960" y="352440"/>
            <a:ext cx="85626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e computers in our school are connected to the Internet wh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ose in their school aren’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e football players on our team seem to be more energetic th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ose on your te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at/ thos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于替换有定冠词的名词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e/one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于替换有不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冠词的名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The style of the building is similar to that of a tem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 CD player made in Japan costs more than one made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Hong K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15600" y="1052640"/>
            <a:ext cx="80431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at/ thos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般不带前置定语，但必须有后置定语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e/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都可。当替换词的后置定语用所有格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短语或当替换词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有格修饰时，不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e/one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而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at of/those o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 like the vase better than the one / that in another sho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e windows of your flat are cleaner than those of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 grandparent’s job is easier than that of a par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48920" y="496800"/>
            <a:ext cx="869544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2) it, this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和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都可以替代前文已提到的事或情况，细微差别在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如其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两者那么强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So she decided to paint the door pink. It upset the neighb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 b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So she decided to paint the house pink. That really upset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neighbours, as you can imagin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当前面提到的事物不止一件时，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通常指最先提到的事物，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is/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指最后提到的事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46960" y="476280"/>
            <a:ext cx="89024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We keep the ice cream machine in the spare room. It is main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used by the children.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指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 mach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We keep the ice cream machine in the spare room. This/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s mainly used by the children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 spare ro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i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以出现在它所指代的事物之前；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则指上文所提到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事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Listen to this! We will have three days off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“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 penny saved is a penny earned.” Who said th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79320" y="568440"/>
            <a:ext cx="84834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3) It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以指特定的前面提到过的事物，即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它替换的是同一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事物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前无修饰语；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于替换与前提事物有共同之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但并不完全一样的事物，因此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之前或之后一定有修饰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来加以区别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 bought a dictionary three years ago and I am still using 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 bought a dictionary three years ago but I am going to bu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 new one s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609480"/>
            <a:ext cx="9144000" cy="4970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形式主语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有下面几种类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形容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定式 </a:t>
            </a:r>
            <a:r>
              <a:rPr b="1" lang="zh-CN" sz="2400" spc="-1" strike="noStrike">
                <a:solidFill>
                  <a:srgbClr val="008080"/>
                </a:solidFill>
                <a:latin typeface="Times New Roman"/>
              </a:rPr>
              <a:t>eg: It’s better to be earl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名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定式 </a:t>
            </a:r>
            <a:r>
              <a:rPr b="1" lang="zh-CN" sz="2400" spc="-1" strike="noStrike">
                <a:solidFill>
                  <a:srgbClr val="008080"/>
                </a:solidFill>
                <a:latin typeface="Times New Roman"/>
              </a:rPr>
              <a:t>eg: It was his duty to take care of the orphans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介词短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定式 </a:t>
            </a:r>
            <a:r>
              <a:rPr b="1" lang="zh-CN" sz="2400" spc="-1" strike="noStrike">
                <a:solidFill>
                  <a:srgbClr val="008080"/>
                </a:solidFill>
                <a:latin typeface="Times New Roman"/>
              </a:rPr>
              <a:t>eg: It’s beyond me to say why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及物动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宾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定式 </a:t>
            </a:r>
            <a:r>
              <a:rPr b="1" lang="zh-CN" sz="2400" spc="-1" strike="noStrike">
                <a:solidFill>
                  <a:srgbClr val="008080"/>
                </a:solidFill>
                <a:latin typeface="Times New Roman"/>
              </a:rPr>
              <a:t>eg: It makes me sick to think about it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+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名词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动名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eg:It’s no good standing here in the cold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 +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形容词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动名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eg:It’s helpless trying to convince her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其他结构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动名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eg:It doesn’t matter waiting a few more days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6T08:49:25Z</dcterms:created>
  <dc:creator>weiyu</dc:creator>
  <dc:description/>
  <dc:language>en-US</dc:language>
  <cp:lastModifiedBy>wxd</cp:lastModifiedBy>
  <dcterms:modified xsi:type="dcterms:W3CDTF">2003-06-28T10:11:20Z</dcterms:modified>
  <cp:revision>23</cp:revision>
  <dc:subject/>
  <dc:title>PowerPoint 演示文稿</dc:title>
</cp:coreProperties>
</file>