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381-874C-4DE6-9A66-95F1D8FD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1A9-BF62-4BBC-9731-D7AB2C28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658-5B74-4EBD-963F-F364A0D0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AFA-D364-4C6B-AB8E-C98AE0B2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17B-9827-49B4-B111-058C07B3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FD1-6177-4DB4-9B6D-21335FBC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026-9998-457C-9354-9452E250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042-5CA2-4EDC-9BF4-F226C678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5A5-6E22-4559-8B97-84047DD8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437-0CF0-4D47-8A1A-7D5F6D1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B5A-23DD-4960-8B7B-2B32BE7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9DE-8F2F-4304-8721-B2A29AB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66A0-A9F2-471B-840F-4DE274F6C1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 The White family are _____ breakfast in a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in Asw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for   B. at     C. on    D.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. Pippa said she didn’t feel____very much tha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alk   B. like to walk   C. walking   D. like 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.Then anyone____wants to can go for a walk 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swan after the boat tr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ho     B. which     C. what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4. I’d prefer ____some shopping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do     B. done     C. to do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. The sun will burn you ___ you’re not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unless   B. if     C. and      D.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ick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3" name="stick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328320" cy="328320"/>
          </a:xfrm>
          <a:prstGeom prst="rect">
            <a:avLst/>
          </a:prstGeom>
          <a:ln w="0">
            <a:noFill/>
          </a:ln>
        </p:spPr>
      </p:pic>
      <p:pic>
        <p:nvPicPr>
          <p:cNvPr id="44" name="stick" descr=""/>
          <p:cNvPicPr/>
          <p:nvPr/>
        </p:nvPicPr>
        <p:blipFill>
          <a:blip r:embed="rId4"/>
          <a:stretch/>
        </p:blipFill>
        <p:spPr>
          <a:xfrm>
            <a:off x="914400" y="365760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stick" descr=""/>
          <p:cNvPicPr/>
          <p:nvPr/>
        </p:nvPicPr>
        <p:blipFill>
          <a:blip r:embed="rId5"/>
          <a:stretch/>
        </p:blipFill>
        <p:spPr>
          <a:xfrm>
            <a:off x="3733920" y="44956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6" name="stick" descr=""/>
          <p:cNvPicPr/>
          <p:nvPr/>
        </p:nvPicPr>
        <p:blipFill>
          <a:blip r:embed="rId6"/>
          <a:stretch/>
        </p:blipFill>
        <p:spPr>
          <a:xfrm>
            <a:off x="2514600" y="5334120"/>
            <a:ext cx="32868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00200"/>
          <a:ext cx="7391520" cy="432756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der,decide, marked …with,carrie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workers ,200 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ther…or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838080"/>
            <a:ext cx="7315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on holiday/va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break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ent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el like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lik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 the 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/pay a visi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in d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s and expressions in Unit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380880"/>
            <a:ext cx="4572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-mad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wate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980 meters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e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 meter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/rai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 pla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c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: think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/on the wat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on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marked with: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295280"/>
            <a:ext cx="8458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Introduction to Egy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pital city= Ca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pulation=53153000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growth=2.7% (1987-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expectancy= 62 (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=100000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t=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ral practic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Lesson 90-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8808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wan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90720" y="1295280"/>
          <a:ext cx="7391160" cy="4030560"/>
        </p:xfrm>
        <a:graphic>
          <a:graphicData uri="http://schemas.openxmlformats.org/drawingml/2006/table">
            <a:tbl>
              <a:tblPr/>
              <a:tblGrid>
                <a:gridCol w="2241360"/>
                <a:gridCol w="5149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s for building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,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 electr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3838 meters l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 at the base-40 at the 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ake: 500k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 by 63 ms, move 53,000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es in dang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66880" y="457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wan 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88078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carved in th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3000" y="914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00200"/>
          <a:ext cx="7391520" cy="406404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02:42:59Z</dcterms:created>
  <dc:creator>qz</dc:creator>
  <dc:description/>
  <dc:language>en-US</dc:language>
  <cp:lastModifiedBy>蒋黎梅</cp:lastModifiedBy>
  <dcterms:modified xsi:type="dcterms:W3CDTF">2002-08-14T06:05:02Z</dcterms:modified>
  <cp:revision>30</cp:revision>
  <dc:subject/>
  <dc:title>Unit 23</dc:title>
</cp:coreProperties>
</file>