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9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10.png" ContentType="image/png"/>
  <Override PartName="/ppt/media/chimes.wav" ContentType="audio/x-wav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4C3-5D76-4CB3-8B52-55F416D6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6EB-4C1C-4C85-8118-0E5A6868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B9E-F63B-42A4-A9E1-61EF017F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DD5-E39E-46F1-8954-C2E9B367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A58-BB67-4FDC-B012-7ED504B5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BA7-F081-48BA-859F-B5A33C95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979-40E5-40EE-8631-38E10F8A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D83-0C70-41B5-A156-66EAD4A8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F95-8A4C-4FFF-BED6-CB3C9BC7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0D5-CF14-4F77-9057-D8644DC6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178-31BB-4245-99AD-3D2CA7D2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B06-E8A8-4DD7-B8C1-0862B46A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FD54-7A53-49FB-B8EC-E3FBC56887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1219320"/>
            <a:ext cx="93726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Unit25 What do  you lik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Lesson9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9720" y="487692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讲人：刘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360" y="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sten and wri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106668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6858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2096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39625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6858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4960" y="83808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7040" y="144792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3400" y="274320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7760" y="45720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Meim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2440" y="914400"/>
            <a:ext cx="209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ery mu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9040" y="914400"/>
            <a:ext cx="132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3040" y="892080"/>
            <a:ext cx="185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on’t lik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4720" y="2276640"/>
            <a:ext cx="168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t d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ump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8360" y="26668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4280" y="25812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560" y="4267080"/>
            <a:ext cx="19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ato c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680" y="4267080"/>
            <a:ext cx="168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od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2400" y="4267080"/>
            <a:ext cx="108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20" y="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ading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71400" y="60660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erci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9720" y="1219320"/>
            <a:ext cx="85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ll the following sentences right(R) or wrong(W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960" y="2305080"/>
            <a:ext cx="80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.Li Shan is from a family of four people.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97880" y="22860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9760" y="2895480"/>
            <a:ext cx="64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.They like to eat the same food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4000" y="28954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0480" y="3505320"/>
            <a:ext cx="63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.Li Shan likes meat very much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326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7680" y="35053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8680" y="419112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4.Li Shan’s father is from Shanghai.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3480" y="41911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560" y="495288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5.Li Shan’s mother likes fish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40480" y="49528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82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3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0" y="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erci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9388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选择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52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68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8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84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0" y="990720"/>
            <a:ext cx="255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iscu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960" y="2438280"/>
            <a:ext cx="865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does your mother/father like to 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es your mother/father like to eat…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ere is your mother/father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60" y="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51920" y="431640"/>
            <a:ext cx="30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Homewor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0440" y="1905120"/>
            <a:ext cx="717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rite a letter to Li Shan t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you li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22040" y="2452680"/>
            <a:ext cx="47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Bye-bye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4:12:16Z</dcterms:created>
  <dc:creator>Pyq</dc:creator>
  <dc:description/>
  <dc:language>en-US</dc:language>
  <cp:lastModifiedBy>MS User</cp:lastModifiedBy>
  <dcterms:modified xsi:type="dcterms:W3CDTF">2006-03-16T14:12:13Z</dcterms:modified>
  <cp:revision>36</cp:revision>
  <dc:subject/>
  <dc:title>PowerPoint 演示文稿</dc:title>
</cp:coreProperties>
</file>