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2EF65-F87F-495F-8EDD-ACAF98D29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4089C-CB88-42F0-B4F0-532191660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2F7E0-BA58-4DD0-BBCE-989FD4716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47620-2194-4E8E-8C5E-4EA5A756B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7BE4B-4B72-4892-9267-D565A9C6D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E7947-3017-4FE6-B977-BF334D9A8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26E91-005C-4DCC-BBEF-672EB7F39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36AAE-DB92-4749-8E2D-6EC9E4BDF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6DCC5-323A-4A16-85D1-0A9D50F7A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3552D-7AF4-42D5-9A57-7243D5A5F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D3EB9-A67A-4FB0-BB96-06E6A4539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65F4D-A69C-43B3-BB76-9C2C54E40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FC357-4596-419C-BA10-A91B47E1A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AD0E6-8611-42BC-B95D-46EAB1984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5073E-DCC2-437C-B32A-FD6998F5B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D4C04-0D6C-4115-B5D2-8947A13F4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7E201-2873-4B56-98A0-BA53BBA63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1EAFD-AE20-4603-B6E0-AAF6E9871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A4E62-B885-4E05-A90E-381E4460B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0AB9F-D262-4ECF-A51C-A43B34A05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FA0D4-2562-4E96-A04D-9F950D6D9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002B7-36A3-4A0E-BEE3-A2FD31BFE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34756-E5B2-46BA-9956-3876BED8F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477A1-7D88-4754-91F3-B175A5E33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037FD-C0EE-44CC-B049-1F0416FFB52F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99" name="BTZBUL1A" descr="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7BC71-2F6F-4BE4-8C5C-13CFF8ADE617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58428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66"/>
                </a:solidFill>
                <a:latin typeface="Arial Black"/>
              </a:rPr>
              <a:t>English Idioms</a:t>
            </a:r>
            <a:endParaRPr b="0" lang="en-US" sz="7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严格说，英语中没有中国式的歇后语。中国式歇后语前半句通常为比喻，后半句为本意，如猪八戒照镜子（里外不是人） ；和尚打伞（无法无天）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Arial"/>
              </a:rPr>
              <a:t>另一类不涉及比喻或谐音，而是日常俗语，耳熟能详，不必说完，听者已可领会，如三人同行（必有吾师）。英语中不乏实例。请补完下半句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304920"/>
            <a:ext cx="9144000" cy="602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1.A bird in han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2. A friend in ne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3.A penny sav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4.A stitch in 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5.An apple a d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6.Ask not what your country do for you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7.Better to have loved and los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8.Birds of a feath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9.Damned if you do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10.Don’t count your chicke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09680" y="32400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s worth two in the bush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514600" y="838080"/>
            <a:ext cx="58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s a friend in dee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286000" y="137160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s a penny earne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343240" y="194328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aves nin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209680" y="251460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eeps the doctor away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029200" y="3048120"/>
            <a:ext cx="4114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sk what you can do for your country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886200" y="417204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an never to have loved at all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590920" y="4724280"/>
            <a:ext cx="510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lock togethe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666880" y="5257800"/>
            <a:ext cx="495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amned if you don’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809880" y="5791320"/>
            <a:ext cx="533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efore they are hatche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533520"/>
            <a:ext cx="9144000" cy="602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11.Don’t call us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12.Finders keepers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13.Fool me once, shame on you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14.He is a Jack of all trad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15.Hope for the best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16.If you can’t beat them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17.If you can’t stand the heat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18.If the shoe fits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19.If the mountain cannot come to Mohammed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20.Man proposes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09680" y="60948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we’ll call you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514600" y="1085760"/>
            <a:ext cx="556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osers weeper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038480" y="1676520"/>
            <a:ext cx="510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ol me twice, shame on m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429000" y="220968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d master of non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743200" y="2762280"/>
            <a:ext cx="60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d prepare for the wors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390840" y="3276720"/>
            <a:ext cx="54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join them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733920" y="3809880"/>
            <a:ext cx="54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tay out of the kitche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362320" y="4419720"/>
            <a:ext cx="510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ear i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867280" y="4952880"/>
            <a:ext cx="3048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ohammed will go to the mountai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209680" y="6039000"/>
            <a:ext cx="512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od dispos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457200"/>
            <a:ext cx="9144000" cy="54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21.One man’s me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22.Penny wise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23.Speak of the devi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24.The grass is always greener on the other si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25.There but for the grace of the Go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26.To err is human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27.Too many cook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28.Two’s company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29.United we stand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30.we must learn to wal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610000" y="495360"/>
            <a:ext cx="57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s another man’s poiso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981080" y="99072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ound foolish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743200" y="1542960"/>
            <a:ext cx="60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d the devil is sure to appea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019920" y="21337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f the fenc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724280" y="266688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o I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514600" y="3219480"/>
            <a:ext cx="533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o forgive, divin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495520" y="3753000"/>
            <a:ext cx="487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ill spoil the broth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590920" y="4324320"/>
            <a:ext cx="533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ree’s a crow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552760" y="4857840"/>
            <a:ext cx="579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ivided, we fall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124080" y="541008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efore we can ru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0" y="609480"/>
            <a:ext cx="9144000" cy="54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31.What goes u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32.When poverty comes in at the do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33.When in Ro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34.When the cat is aw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35.When the going gets tough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36.Where there is a will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37.Where there’s smoke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38.With friends like him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39.You can catch more flies with honey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40.You scratch my back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209680" y="609480"/>
            <a:ext cx="510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ust come dow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648320" y="1143000"/>
            <a:ext cx="44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ove flies out of the window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362320" y="1733400"/>
            <a:ext cx="57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o what the Romans d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124080" y="228600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mice will play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86200" y="28195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tough get going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276720" y="335268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re is a way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336840" y="3886200"/>
            <a:ext cx="48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re’s a fir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200400" y="4419720"/>
            <a:ext cx="510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o needs enemies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502920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an with vinega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200400" y="554364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and I’ll scratch your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0" y="99072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Monotype Corsiva"/>
              </a:rPr>
              <a:t>Thanks for your attention!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2971800"/>
            <a:ext cx="9144000" cy="28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Palatino"/>
              </a:rPr>
              <a:t>CAN YOU THINK OF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Palatino"/>
              </a:rPr>
              <a:t> </a:t>
            </a:r>
            <a:r>
              <a:rPr b="1" lang="en-US" sz="4400" spc="-1" strike="noStrike">
                <a:solidFill>
                  <a:srgbClr val="ff0066"/>
                </a:solidFill>
                <a:latin typeface="Palatino"/>
              </a:rPr>
              <a:t>MORE IDIOM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Palatino"/>
              </a:rPr>
              <a:t> </a:t>
            </a:r>
            <a:r>
              <a:rPr b="1" lang="en-US" sz="4400" spc="-1" strike="noStrike">
                <a:solidFill>
                  <a:srgbClr val="ff0066"/>
                </a:solidFill>
                <a:latin typeface="Palatino"/>
              </a:rPr>
              <a:t>LIKE THESE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7-15T15:40:02Z</dcterms:created>
  <dc:creator/>
  <dc:description/>
  <dc:language>en-US</dc:language>
  <cp:lastModifiedBy>w</cp:lastModifiedBy>
  <dcterms:modified xsi:type="dcterms:W3CDTF">2003-10-31T01:18:42Z</dcterms:modified>
  <cp:revision>2</cp:revision>
  <dc:subject/>
  <dc:title>English Idioms</dc:title>
</cp:coreProperties>
</file>