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乌鸦和狐狸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485-7118-4F0A-B438-6DF4E82C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7CC-6AF8-4AE9-93EC-F3F6918D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B55-F7C1-407A-BBA4-EECBC1A4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67A-E015-4699-8308-A8447B83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CC8-1128-4D22-B69F-ABDA07E8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D26-57BF-4997-ABDE-D055AEC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677-25AE-4B66-A252-6F4E8C8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F93-8932-457E-A3A0-98B2B604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CB9-C96E-4A66-840E-69DECF6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38B-7BA7-48EB-922C-B73CB84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E33-9452-4871-B595-CABC373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C53-193B-477B-882B-4C39493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3EFC-124D-43B2-88B5-0E58901042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133720"/>
            <a:ext cx="441972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狐狸和乌鸦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279120" y="6248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义教材小学语文第三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狐狸与乌鸦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食物" descr=""/>
          <p:cNvPicPr/>
          <p:nvPr/>
        </p:nvPicPr>
        <p:blipFill>
          <a:blip r:embed="rId2"/>
          <a:stretch/>
        </p:blipFill>
        <p:spPr>
          <a:xfrm>
            <a:off x="4816440" y="3809880"/>
            <a:ext cx="8222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狐狸与乌鸦" descr=""/>
          <p:cNvPicPr/>
          <p:nvPr/>
        </p:nvPicPr>
        <p:blipFill>
          <a:blip r:embed="rId3"/>
          <a:srcRect l="0" t="0" r="0" b="77779"/>
          <a:stretch/>
        </p:blipFill>
        <p:spPr>
          <a:xfrm>
            <a:off x="2286000" y="0"/>
            <a:ext cx="4468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食物" descr=""/>
          <p:cNvPicPr/>
          <p:nvPr/>
        </p:nvPicPr>
        <p:blipFill>
          <a:blip r:embed="rId4"/>
          <a:stretch/>
        </p:blipFill>
        <p:spPr>
          <a:xfrm>
            <a:off x="4800600" y="1066680"/>
            <a:ext cx="82224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095880" y="6248520"/>
            <a:ext cx="609840" cy="609480"/>
          </a:xfrm>
          <a:custGeom>
            <a:avLst/>
            <a:gdLst>
              <a:gd name="textAreaLeft" fmla="*/ 9504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85800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685800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685800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2468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4343400"/>
            <a:ext cx="1066320" cy="93240"/>
            <a:chOff x="1371600" y="4343400"/>
            <a:chExt cx="1066320" cy="93240"/>
          </a:xfrm>
        </p:grpSpPr>
        <p:sp>
          <p:nvSpPr>
            <p:cNvPr id="60" name=""/>
            <p:cNvSpPr/>
            <p:nvPr/>
          </p:nvSpPr>
          <p:spPr>
            <a:xfrm>
              <a:off x="1371600" y="436212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434340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57600" y="3716280"/>
            <a:ext cx="1196640" cy="93240"/>
            <a:chOff x="3657600" y="3716280"/>
            <a:chExt cx="1196640" cy="93240"/>
          </a:xfrm>
        </p:grpSpPr>
        <p:sp>
          <p:nvSpPr>
            <p:cNvPr id="63" name=""/>
            <p:cNvSpPr/>
            <p:nvPr/>
          </p:nvSpPr>
          <p:spPr>
            <a:xfrm>
              <a:off x="365760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5592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68920" y="3716280"/>
            <a:ext cx="1196640" cy="93240"/>
            <a:chOff x="4768920" y="3716280"/>
            <a:chExt cx="1196640" cy="93240"/>
          </a:xfrm>
        </p:grpSpPr>
        <p:sp>
          <p:nvSpPr>
            <p:cNvPr id="66" name=""/>
            <p:cNvSpPr/>
            <p:nvPr/>
          </p:nvSpPr>
          <p:spPr>
            <a:xfrm>
              <a:off x="476892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6724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3716280"/>
            <a:ext cx="1371600" cy="93240"/>
            <a:chOff x="5867280" y="3716280"/>
            <a:chExt cx="1371600" cy="93240"/>
          </a:xfrm>
        </p:grpSpPr>
        <p:sp>
          <p:nvSpPr>
            <p:cNvPr id="69" name=""/>
            <p:cNvSpPr/>
            <p:nvPr/>
          </p:nvSpPr>
          <p:spPr>
            <a:xfrm>
              <a:off x="5867280" y="37350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7162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895480" y="44197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2468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57800" y="3048120"/>
            <a:ext cx="1752480" cy="93240"/>
            <a:chOff x="5257800" y="3048120"/>
            <a:chExt cx="1752480" cy="93240"/>
          </a:xfrm>
        </p:grpSpPr>
        <p:sp>
          <p:nvSpPr>
            <p:cNvPr id="76" name=""/>
            <p:cNvSpPr/>
            <p:nvPr/>
          </p:nvSpPr>
          <p:spPr>
            <a:xfrm>
              <a:off x="5257800" y="30668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34040" y="304812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5280" y="3733920"/>
            <a:ext cx="3885840" cy="75600"/>
            <a:chOff x="1295280" y="3733920"/>
            <a:chExt cx="3885840" cy="75600"/>
          </a:xfrm>
        </p:grpSpPr>
        <p:grpSp>
          <p:nvGrpSpPr>
            <p:cNvPr id="79" name=""/>
            <p:cNvGrpSpPr/>
            <p:nvPr/>
          </p:nvGrpSpPr>
          <p:grpSpPr>
            <a:xfrm>
              <a:off x="1295280" y="3733920"/>
              <a:ext cx="1298880" cy="75600"/>
              <a:chOff x="1295280" y="3733920"/>
              <a:chExt cx="1298880" cy="75600"/>
            </a:xfrm>
          </p:grpSpPr>
          <p:sp>
            <p:nvSpPr>
              <p:cNvPr id="80" name=""/>
              <p:cNvSpPr/>
              <p:nvPr/>
            </p:nvSpPr>
            <p:spPr>
              <a:xfrm>
                <a:off x="12952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447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52680" y="3733920"/>
              <a:ext cx="1298880" cy="75600"/>
              <a:chOff x="2452680" y="3733920"/>
              <a:chExt cx="1298880" cy="75600"/>
            </a:xfrm>
          </p:grpSpPr>
          <p:sp>
            <p:nvSpPr>
              <p:cNvPr id="83" name=""/>
              <p:cNvSpPr/>
              <p:nvPr/>
            </p:nvSpPr>
            <p:spPr>
              <a:xfrm>
                <a:off x="24526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021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92880" y="3733920"/>
              <a:ext cx="1488240" cy="75600"/>
              <a:chOff x="3692880" y="3733920"/>
              <a:chExt cx="1488240" cy="75600"/>
            </a:xfrm>
          </p:grpSpPr>
          <p:sp>
            <p:nvSpPr>
              <p:cNvPr id="86" name=""/>
              <p:cNvSpPr/>
              <p:nvPr/>
            </p:nvSpPr>
            <p:spPr>
              <a:xfrm>
                <a:off x="3692880" y="374904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37000" y="373392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6324480" y="373392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343400"/>
            <a:ext cx="5791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40184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666880"/>
            <a:ext cx="1196640" cy="93960"/>
            <a:chOff x="1447920" y="2666880"/>
            <a:chExt cx="1196640" cy="93960"/>
          </a:xfrm>
        </p:grpSpPr>
        <p:sp>
          <p:nvSpPr>
            <p:cNvPr id="94" name=""/>
            <p:cNvSpPr/>
            <p:nvPr/>
          </p:nvSpPr>
          <p:spPr>
            <a:xfrm>
              <a:off x="144792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624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58880" y="2666880"/>
            <a:ext cx="1196640" cy="93960"/>
            <a:chOff x="2558880" y="2666880"/>
            <a:chExt cx="1196640" cy="93960"/>
          </a:xfrm>
        </p:grpSpPr>
        <p:sp>
          <p:nvSpPr>
            <p:cNvPr id="97" name=""/>
            <p:cNvSpPr/>
            <p:nvPr/>
          </p:nvSpPr>
          <p:spPr>
            <a:xfrm>
              <a:off x="255888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720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666880"/>
            <a:ext cx="1371600" cy="93960"/>
            <a:chOff x="3657600" y="2666880"/>
            <a:chExt cx="1371600" cy="93960"/>
          </a:xfrm>
        </p:grpSpPr>
        <p:sp>
          <p:nvSpPr>
            <p:cNvPr id="100" name=""/>
            <p:cNvSpPr/>
            <p:nvPr/>
          </p:nvSpPr>
          <p:spPr>
            <a:xfrm>
              <a:off x="365760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4340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76920" y="2666880"/>
            <a:ext cx="1371600" cy="93960"/>
            <a:chOff x="4876920" y="2666880"/>
            <a:chExt cx="1371600" cy="93960"/>
          </a:xfrm>
        </p:grpSpPr>
        <p:sp>
          <p:nvSpPr>
            <p:cNvPr id="103" name=""/>
            <p:cNvSpPr/>
            <p:nvPr/>
          </p:nvSpPr>
          <p:spPr>
            <a:xfrm>
              <a:off x="487692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5880" y="2666880"/>
            <a:ext cx="1371600" cy="93960"/>
            <a:chOff x="6095880" y="2666880"/>
            <a:chExt cx="1371600" cy="93960"/>
          </a:xfrm>
        </p:grpSpPr>
        <p:sp>
          <p:nvSpPr>
            <p:cNvPr id="106" name=""/>
            <p:cNvSpPr/>
            <p:nvPr/>
          </p:nvSpPr>
          <p:spPr>
            <a:xfrm>
              <a:off x="609588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168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86400" y="1981080"/>
            <a:ext cx="1828800" cy="93960"/>
            <a:chOff x="5486400" y="1981080"/>
            <a:chExt cx="1828800" cy="93960"/>
          </a:xfrm>
        </p:grpSpPr>
        <p:sp>
          <p:nvSpPr>
            <p:cNvPr id="109" name=""/>
            <p:cNvSpPr/>
            <p:nvPr/>
          </p:nvSpPr>
          <p:spPr>
            <a:xfrm>
              <a:off x="5486400" y="200016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198108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3259080"/>
            <a:ext cx="1371600" cy="93240"/>
            <a:chOff x="1447920" y="3259080"/>
            <a:chExt cx="1371600" cy="93240"/>
          </a:xfrm>
        </p:grpSpPr>
        <p:sp>
          <p:nvSpPr>
            <p:cNvPr id="112" name=""/>
            <p:cNvSpPr/>
            <p:nvPr/>
          </p:nvSpPr>
          <p:spPr>
            <a:xfrm>
              <a:off x="14479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3259080"/>
            <a:ext cx="1371600" cy="93240"/>
            <a:chOff x="2743200" y="3259080"/>
            <a:chExt cx="1371600" cy="93240"/>
          </a:xfrm>
        </p:grpSpPr>
        <p:sp>
          <p:nvSpPr>
            <p:cNvPr id="115" name=""/>
            <p:cNvSpPr/>
            <p:nvPr/>
          </p:nvSpPr>
          <p:spPr>
            <a:xfrm>
              <a:off x="2743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962520" y="3259080"/>
            <a:ext cx="1371600" cy="93240"/>
            <a:chOff x="3962520" y="3259080"/>
            <a:chExt cx="1371600" cy="93240"/>
          </a:xfrm>
        </p:grpSpPr>
        <p:sp>
          <p:nvSpPr>
            <p:cNvPr id="118" name=""/>
            <p:cNvSpPr/>
            <p:nvPr/>
          </p:nvSpPr>
          <p:spPr>
            <a:xfrm>
              <a:off x="39625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81480" y="3259080"/>
            <a:ext cx="1371600" cy="93240"/>
            <a:chOff x="5181480" y="3259080"/>
            <a:chExt cx="1371600" cy="93240"/>
          </a:xfrm>
        </p:grpSpPr>
        <p:sp>
          <p:nvSpPr>
            <p:cNvPr id="121" name=""/>
            <p:cNvSpPr/>
            <p:nvPr/>
          </p:nvSpPr>
          <p:spPr>
            <a:xfrm>
              <a:off x="518148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6728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3259080"/>
            <a:ext cx="1371600" cy="93240"/>
            <a:chOff x="6172200" y="3259080"/>
            <a:chExt cx="1371600" cy="93240"/>
          </a:xfrm>
        </p:grpSpPr>
        <p:sp>
          <p:nvSpPr>
            <p:cNvPr id="124" name=""/>
            <p:cNvSpPr/>
            <p:nvPr/>
          </p:nvSpPr>
          <p:spPr>
            <a:xfrm>
              <a:off x="6172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3809880"/>
            <a:ext cx="1371600" cy="93960"/>
            <a:chOff x="1371600" y="3809880"/>
            <a:chExt cx="1371600" cy="93960"/>
          </a:xfrm>
        </p:grpSpPr>
        <p:sp>
          <p:nvSpPr>
            <p:cNvPr id="127" name=""/>
            <p:cNvSpPr/>
            <p:nvPr/>
          </p:nvSpPr>
          <p:spPr>
            <a:xfrm>
              <a:off x="13716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66880" y="3809880"/>
            <a:ext cx="1371600" cy="93960"/>
            <a:chOff x="2666880" y="3809880"/>
            <a:chExt cx="1371600" cy="93960"/>
          </a:xfrm>
        </p:grpSpPr>
        <p:sp>
          <p:nvSpPr>
            <p:cNvPr id="130" name=""/>
            <p:cNvSpPr/>
            <p:nvPr/>
          </p:nvSpPr>
          <p:spPr>
            <a:xfrm>
              <a:off x="2666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3809880"/>
            <a:ext cx="1371600" cy="93960"/>
            <a:chOff x="3886200" y="3809880"/>
            <a:chExt cx="1371600" cy="93960"/>
          </a:xfrm>
        </p:grpSpPr>
        <p:sp>
          <p:nvSpPr>
            <p:cNvPr id="133" name=""/>
            <p:cNvSpPr/>
            <p:nvPr/>
          </p:nvSpPr>
          <p:spPr>
            <a:xfrm>
              <a:off x="38862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3809880"/>
            <a:ext cx="1371600" cy="93960"/>
            <a:chOff x="5105520" y="3809880"/>
            <a:chExt cx="1371600" cy="93960"/>
          </a:xfrm>
        </p:grpSpPr>
        <p:sp>
          <p:nvSpPr>
            <p:cNvPr id="136" name=""/>
            <p:cNvSpPr/>
            <p:nvPr/>
          </p:nvSpPr>
          <p:spPr>
            <a:xfrm>
              <a:off x="510552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3809880"/>
            <a:ext cx="1371600" cy="93960"/>
            <a:chOff x="6095880" y="3809880"/>
            <a:chExt cx="1371600" cy="93960"/>
          </a:xfrm>
        </p:grpSpPr>
        <p:sp>
          <p:nvSpPr>
            <p:cNvPr id="139" name=""/>
            <p:cNvSpPr/>
            <p:nvPr/>
          </p:nvSpPr>
          <p:spPr>
            <a:xfrm>
              <a:off x="6095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71600" y="4478400"/>
            <a:ext cx="1371600" cy="93240"/>
            <a:chOff x="1371600" y="4478400"/>
            <a:chExt cx="1371600" cy="93240"/>
          </a:xfrm>
        </p:grpSpPr>
        <p:sp>
          <p:nvSpPr>
            <p:cNvPr id="142" name=""/>
            <p:cNvSpPr/>
            <p:nvPr/>
          </p:nvSpPr>
          <p:spPr>
            <a:xfrm>
              <a:off x="13716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6880" y="4478400"/>
            <a:ext cx="1371600" cy="93240"/>
            <a:chOff x="2666880" y="4478400"/>
            <a:chExt cx="1371600" cy="93240"/>
          </a:xfrm>
        </p:grpSpPr>
        <p:sp>
          <p:nvSpPr>
            <p:cNvPr id="145" name=""/>
            <p:cNvSpPr/>
            <p:nvPr/>
          </p:nvSpPr>
          <p:spPr>
            <a:xfrm>
              <a:off x="266688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86200" y="4478400"/>
            <a:ext cx="1371600" cy="93240"/>
            <a:chOff x="3886200" y="4478400"/>
            <a:chExt cx="1371600" cy="93240"/>
          </a:xfrm>
        </p:grpSpPr>
        <p:sp>
          <p:nvSpPr>
            <p:cNvPr id="148" name=""/>
            <p:cNvSpPr/>
            <p:nvPr/>
          </p:nvSpPr>
          <p:spPr>
            <a:xfrm>
              <a:off x="38862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2468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124080"/>
            <a:ext cx="4953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73392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23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41768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98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05:47:01Z</dcterms:created>
  <dc:creator>ydj</dc:creator>
  <dc:description/>
  <dc:language>en-US</dc:language>
  <cp:lastModifiedBy>ydj</cp:lastModifiedBy>
  <dcterms:modified xsi:type="dcterms:W3CDTF">1999-07-25T10:20:04Z</dcterms:modified>
  <cp:revision>9</cp:revision>
  <dc:subject/>
  <dc:title>没有幻灯片标题</dc:title>
</cp:coreProperties>
</file>