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1A542-1A5E-4455-AA2A-C2D9CF59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6B228-94B6-4140-BE1D-4AEF2740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8FF752-4D26-4A29-BD70-3D246C7E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3F164B-7B9A-4D8F-AA28-34F66393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DF2025-6ACC-4E00-A1D4-481460CB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55B5A2-DFEC-46E8-AA35-83F830B1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2D8FC3-49D2-4D1F-92D7-3B7E4E9B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EA7700-F170-4677-9108-501C7C51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9F8A70-EF55-4EA2-989F-7AE9F154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BE8B74-1B72-47AE-BB0F-8587D0A8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F5214E-994F-4066-A0C8-4D6DAB5FC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7A23D-F76B-4AAC-8443-8DCA7F9A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9E2F4-7EDA-4E5E-B3CE-71FFA0A3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FA4CA-3DF8-4199-9116-7B306E87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0CAF8-067B-4905-B820-FCA9B1A5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749F5-3551-4794-BF42-1B48CA2F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E9FD8-9139-4A77-B749-D71A1A59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F6578-6A43-44D7-A409-AD231FA7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C3C29-35A0-4A43-A9BB-D71FC492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B5634-D1B9-4BE9-8296-5731853F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695AC-E948-4F1E-B7D8-4150A1C2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24523-AAED-4A0F-8A4C-7DCE4483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54F79-98DF-45FB-84AE-20F97611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F0971-2EB1-45E9-8DEE-38B9422C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3AB48-FDB1-449F-B20C-30DDD6BE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BEDB03-AAAE-4EA1-869E-250C84C1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FDA688-BEE8-409A-AAD9-6F7E83BA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9C68425-9DCD-4FDA-AE73-867A1F58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B96156-9C9A-4293-8BED-11D7BEE0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F4B1CA-0110-4C95-9D8D-B60E4BC0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B90305-5699-4B1B-9222-2C0001F8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F30074-AE32-4609-B191-10BE62D4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86AF57-8A2F-4D87-B197-3FF1AFCD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BE6696-0F81-4DE2-B82B-A36E4B97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A62C-B88B-49C2-8030-E6661C47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42CE18-D613-4D4D-B6EB-9940308E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A7DE75-0C52-497D-A5EB-C21A98F3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B7F3DD-B8DB-4D62-8F4F-D5756339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678FA8-1744-436C-A103-007B2FE6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52ED40-C939-4065-B5E7-C450FDCB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65A338-08E6-4C03-8609-49694614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364C81-5C8B-48C6-87A5-276F2ECC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A690B5-1D26-4303-AA68-21008558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AB2297-CAB1-4FF1-BED8-5036FC21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23C40C-4FDB-4689-AEB3-B8D41B47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1F1B-D80F-4987-B737-460FB876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6D9E2B-1637-4BFB-A92B-15D6CB6E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CF065E-C7DC-4DD6-92AE-955C9A50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B05E24-6C04-4996-B3F4-D7774BF0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36693A-138B-469D-A25B-CF0C40E4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4347F0-9A22-4BD0-86E5-037CEF0D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04F25A-0928-476F-A15D-ECE09FEF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4376EA7-2B9A-44A1-AFC1-669A1809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95BA4B3-A970-43DB-A012-E8CF8CAF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8DBE744-B9D5-471B-A945-710CC354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46B5622-3E00-49A0-A1DF-BFD1E46D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0B5A-2E37-4CFA-BD56-B906A026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70D4123-BFF0-4DC7-AE60-D0D5BA43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608F95-80F3-485A-B770-0945F4DC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C3195FB-5931-48C4-A309-EE43458B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367C1A1-E66E-41FF-A113-58DFFCC7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4E5CB8F-1B37-42E6-999D-4479D4FE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B9EE967-5DC6-443C-BE37-75961C24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FB040CE-F4E8-466A-BC77-E3FDC68C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9882-0B70-4183-B317-6FECBBF1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A161-E75D-4E23-B543-1709B780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F0A8-CB99-41AA-9C45-2632D014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CC95-F8A8-48A4-9EDD-F67F3BD4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16B9D-B79C-4C89-B1DD-912EC397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7BA4-F3F7-4546-8878-E01B5ED7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893B-E642-46BC-A194-A4C807B5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84CB-26CA-4865-B7A2-459D0E0F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75C5-5BFC-4582-B984-FCAE767F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2210-26A8-4030-A6D4-8C71DB64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4718C-86D2-497D-8CC7-DBC796FA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D73D6-1901-47BC-9A42-D744AAC4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4356B-3182-4369-BA64-8A914EB5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9D60C-BCD9-42EF-8F3C-81BF05A9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A4B9F-91DE-4BD5-99BB-D2F54DC9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A964C-2F78-4F40-8734-267060CB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3A658-57A4-4E2D-989A-5CC92EEE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0905E-EAF4-4BEC-BB21-F4BC7D38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13234-3226-43BE-8722-FE2D40BA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9F8FC-D9B9-4A00-9EF3-64F349DB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B3116-B0F5-4F4E-9C90-BBE70966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91C88-E7D3-4AD5-BD84-4D24D476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E3A15-1A63-49A1-8460-E4E220A3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98D4E-BD82-4A3F-8403-C5C551CA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55553-3F51-4A70-B275-2606784F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B258D-3827-475D-8E01-D006BA6C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AF202-BAF8-46CB-AD7C-C0D90F35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0DE35-ABD4-4478-AD7F-1D124556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7BDAE-01E4-4D1E-BA78-1CD38B65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B2AE0-4EF6-42D0-936C-1EB05A33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D9E2C-B3D3-4A55-8713-18CA8880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DC831-DDF6-49E6-BFAA-1AA37E78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6FB90-C9E1-47E1-B43E-00480731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3C9B8-5675-4077-A4D6-DE3F0A21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BF5BA-D86C-4EBD-9A55-C7005A10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404BE-A018-4A1D-8E96-E5C962F3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A1331-7894-4D42-8185-55910744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9F393-FD58-40EB-9181-3F2D468B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152F2-ADEF-4887-9517-A5D507F3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FD358-0E0F-4689-9598-5612BD8E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F9C7D-2A2F-47DE-B0B7-57D562F8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11E51-2CD4-4188-AC66-7698CA29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885B9-A199-4A71-859C-D6B3A196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3B80C-8528-4EEE-AB00-0266482D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27F11-7FC3-414A-A53F-EDC3C839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87092-BFA1-4000-AB2D-36E57030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B58DB-6371-4ED7-B487-ADF4FFC3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7AB8D-86DA-4F1D-A0BE-74E3614D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1DE75-A7C4-4BBD-BC41-A92C567F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08119-F6AB-440E-ABF9-358AF491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B4BFE6-EED5-48BD-B40E-75322EBE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F7FB7D-2C69-41FD-A264-EFA89E5C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869139-FB1C-4056-8BE5-A1631842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C633DA-EB4E-43E9-8815-287AE02E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5ADAA1-7DC4-4BEE-86A6-4C42EDE8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43D172-1362-4CEA-92A9-3E3BC31D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2E6825-E54E-4875-8574-0636E40D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6B9378-8666-494D-BC31-BCFF0714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D89EF5-F113-4273-9AC4-F7092E0B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11291-E6D9-403B-B1A8-9C1051B0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69B46D-2F41-4F97-B976-8B1B284B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8966C1-70F3-40AA-B7DA-4C5AF706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0C305E-AF82-487A-863D-261D798E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0426AB-C2C8-4ECE-B4CD-600FBA9199F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6F1893-2848-40D9-B0F6-F616D6A6528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904650-77B6-4DD6-8A73-AB5FF509A1B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A1DB9A-67DE-470E-B36F-1635363A146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B054D4-4398-41FA-A2DA-8D7D58914E7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1EDE76-4EE9-490A-A781-F03CE9E41D9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360EAF-B361-462E-A4D3-DDB6D327D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8FD0F-BC40-43F6-A682-823FD589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3D8222-44CC-44D4-B260-F2C733606FA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BE62AE-CCD1-4F11-B62B-BF376723484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404B67-B11F-4588-B731-183B4CFD170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D089BC-23EF-4DD0-9880-3C53DDC0AE4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D631D6-2CA6-47E8-8490-5BC7105C1ED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C853C5-8913-43E3-B176-63B4FC03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D34756-EFB2-4857-83D2-16DDE009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36DF33-33B3-4A8C-88D4-9918AC6F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41AF34-22FF-4B69-9818-62A0A1B7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A3E687-3E9E-4EFB-B0FA-B19985B5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8EE79-6F25-4054-BB97-D8B84D19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688747-F02F-49C1-A62B-148DE8E3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5F1DDD-9D29-4C3D-BC00-8A16AFBC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459DED-1658-4DA8-979D-4D64621B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DC49C3-8C69-4C62-95A8-E4F86651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A4D5A4-F9D6-4072-BE60-2C6C6935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8D065C-018A-4F72-9E54-AA73FA90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2C32A6-7B1B-4974-94BB-6E3268E8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305AB2-184F-4304-A8E6-22F37B68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EC42C0-6AC9-4B61-BCD4-3EF6C507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4F6BB3-0B5A-4CB8-81CA-8893C1B2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8CF8-391D-48C7-A4EA-B127C6784692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8F2C-3464-40F1-8B4C-07262E4C52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515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7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29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0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1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0421-8A9A-4C2D-8C25-7C74122CA19A}" type="slidenum">
              <a:rPr b="1" lang="zh-CN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522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566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73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32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ftr" idx="33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sldNum" idx="34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9775-2240-48A3-8261-CF06FB54CEB8}" type="slidenum">
              <a:rPr b="1" lang="zh-CN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22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629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632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635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638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35"/>
          </p:nvPr>
        </p:nvSpPr>
        <p:spPr>
          <a:xfrm>
            <a:off x="6705720" y="5486400"/>
            <a:ext cx="18288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8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9420-AE00-4476-B454-5623D305A1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4922-4544-45C4-890A-85DAAE33B75B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27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2460-14C6-40EB-8804-5981DDE96F3A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171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1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9100-097B-4C77-906B-C96D9D39B707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4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18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20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725D-8FAB-45A6-8116-02AE2DF9F9A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7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79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81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8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A3B4-B93B-4417-8CCC-7E828617F07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sldNum" idx="19"/>
          </p:nvPr>
        </p:nvSpPr>
        <p:spPr>
          <a:xfrm>
            <a:off x="8686800" y="6459480"/>
            <a:ext cx="380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2DDF-D1F8-4CD8-8BB7-EDC3CD01DE41}" type="slidenum"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2438280" y="762120"/>
            <a:ext cx="6019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title"/>
          </p:nvPr>
        </p:nvSpPr>
        <p:spPr>
          <a:xfrm>
            <a:off x="861480" y="774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F89E-D5C3-424B-B1A2-6583F8E3B6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57BB-C2F1-4ABD-BCD8-D1076931E9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187280" y="2449440"/>
            <a:ext cx="662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5.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why don’t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you do something about it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324000" y="1989000"/>
            <a:ext cx="8532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. There seems (to be)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2. I would like you t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3. It  looks as if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4. I insist that you (should)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5. why don’t you do something about it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2843280" y="981000"/>
            <a:ext cx="33908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Black"/>
              </a:rPr>
              <a:t>Oral pract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468360" y="441360"/>
            <a:ext cx="8136000" cy="584028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 txBox="1"/>
          <p:nvPr/>
        </p:nvSpPr>
        <p:spPr>
          <a:xfrm>
            <a:off x="3203640" y="1628640"/>
            <a:ext cx="2727360" cy="169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ank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132000" y="2997360"/>
            <a:ext cx="316872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s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339640" y="1341000"/>
            <a:ext cx="4103640" cy="107964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Black"/>
              </a:rPr>
              <a:t>At the shop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2" name=""/>
          <p:cNvSpPr/>
          <p:nvPr/>
        </p:nvSpPr>
        <p:spPr>
          <a:xfrm>
            <a:off x="1403280" y="3429000"/>
            <a:ext cx="6265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How to talk when shoppin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331640" y="1773360"/>
            <a:ext cx="6264360" cy="30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What’s happening?</a:t>
            </a:r>
            <a:br>
              <a:rPr sz="48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shop assistant and a customer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939160" cy="403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10080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3300"/>
                </a:solidFill>
                <a:latin typeface="Arial Black"/>
              </a:rPr>
              <a:t>?</a:t>
            </a:r>
            <a:r>
              <a:rPr b="0" lang="en-US" sz="9600" spc="-1" strike="noStrike">
                <a:solidFill>
                  <a:srgbClr val="e3e3ff"/>
                </a:solidFill>
                <a:latin typeface="Arial Black"/>
              </a:rPr>
              <a:t> </a:t>
            </a:r>
            <a:r>
              <a:rPr b="0" lang="en-US" sz="9600" spc="-1" strike="noStrike">
                <a:solidFill>
                  <a:srgbClr val="e3e3ff"/>
                </a:solidFill>
                <a:latin typeface="Arial"/>
              </a:rPr>
              <a:t>    </a:t>
            </a:r>
            <a:endParaRPr b="0" lang="en-US" sz="9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68360" y="145728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1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hat did the customer buy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 Why did she return to the sho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what did she want the assistant to 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4 what did they both agree to do at l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3434760" y="321300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nguage stu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2411280" y="2492280"/>
            <a:ext cx="431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nguage study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900000" y="2133720"/>
            <a:ext cx="720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.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There seems to be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something wrong with it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116000" y="2349360"/>
            <a:ext cx="741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2. I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would like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you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to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change this blous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95280" y="2149560"/>
            <a:ext cx="864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3.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It looks as if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it has not been washed following the instruction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539640" y="237816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4. I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insist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that you give me my money back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3:21:52Z</dcterms:created>
  <dc:creator>zz</dc:creator>
  <dc:description/>
  <dc:language>en-US</dc:language>
  <cp:lastModifiedBy>Legend User</cp:lastModifiedBy>
  <dcterms:modified xsi:type="dcterms:W3CDTF">2002-12-01T06:49:10Z</dcterms:modified>
  <cp:revision>18</cp:revision>
  <dc:subject/>
  <dc:title>介绍演讲者</dc:title>
</cp:coreProperties>
</file>