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4CB-DE21-45BD-8A18-DACBF58B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E47-8ADD-4C4F-AF81-675A28A3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E06-3E1F-42B8-BE28-AFBF819D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39B-0CF8-4472-B627-1971FC80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B390-23AD-4B83-B777-6FAAA78A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AA9D-5B52-444A-9B12-03BF826A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2BAA-BB50-4DDB-83C7-1727329F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32D4-43E0-44DB-9131-88DC57A7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DFF9-9C64-43F1-AE18-BE864279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4DF5-E28F-48F3-BF01-F1F7F1E2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5A27-0696-41E3-A6F9-97285F32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37E-308B-45E8-917A-672A0B99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4DA4-D305-47FD-8F08-749B916F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EF1C-D9A5-477D-A2D7-176F7B50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9EE3-5D37-45C3-92E1-2F51403D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C55F-3C82-47F1-A162-6FF883E2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75AC-203B-4723-B283-0C5DD261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90C-231F-4FFB-B3D1-9716045B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531-EB57-4E5A-B458-55689E88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4E5-C03F-4FBC-BD02-296EDF5B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026-D3DF-4079-B08E-80A453B1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AED-9D02-45FD-A378-02F77DCB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5BF-953C-4DC5-A5C3-B5F01D3C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454-003A-4F59-928F-7BEF86E9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7733-76CD-4B3F-AE02-E516F6D343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44BE-9496-4EEB-9ACE-1BD70BD49CC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7560" y="4648320"/>
            <a:ext cx="32896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限制性定语从句起补充说明的作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省去后不影响主句的意思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逗号与主句分开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翻译时常译作并列的分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7200" y="685800"/>
            <a:ext cx="67111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非限制性定语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is note was left by Joh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who was here a moment a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这条子是约翰留的，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他刚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来过这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35200" y="1447920"/>
            <a:ext cx="673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地点状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plin went to the Stat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most of the fil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ere made at that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59280" y="1143000"/>
            <a:ext cx="78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se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句中作定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plin 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mother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ll for many years,had to d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streets to earn 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4156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92640" y="1143000"/>
            <a:ext cx="7241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介词＋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/whom/w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the office,I never se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have time until 5:30 p.m.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by 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ime many peopl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ave gone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5320" y="533520"/>
            <a:ext cx="66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 introduced me to 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oommates,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both of wh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from Califor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84440" y="2971800"/>
            <a:ext cx="7002360" cy="34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f,many of,most of 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e of,two of, half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h of,neither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ch of,all of,several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f, little of, a number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69440" y="1676520"/>
            <a:ext cx="7108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eachers discussed Ji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of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os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problems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or study hab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65240" y="1544760"/>
            <a:ext cx="6645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改正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Last night I took a taxi,and which took me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048120"/>
            <a:ext cx="914400" cy="5331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2819520"/>
            <a:ext cx="25146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 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95280" y="1752480"/>
            <a:ext cx="746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expressed the hope which Mr. and Mrs. smith would come to visit China the nex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1828800"/>
            <a:ext cx="15397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50440" y="1295280"/>
            <a:ext cx="692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.Tom's mother kept te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im that he should 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arder,but ___didn't hel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he  B.which  C.she  D.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4191120"/>
            <a:ext cx="9144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0160" y="838080"/>
            <a:ext cx="7311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I shall never forget thos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ars  ___ I lived in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untry with the farm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__has a great effect 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that,which   B.when,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which,that   D.when,w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257800"/>
            <a:ext cx="33526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6880" y="990720"/>
            <a:ext cx="6598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.He paid the boy $10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ashing ten window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st of ___hadn't b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leaned at least a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ese      B.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54100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81400" y="609480"/>
            <a:ext cx="5529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比较：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ose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who want to go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please sign their nam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想去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人请在这里签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26320" y="4343400"/>
            <a:ext cx="43228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限制性定语从句起限定作用，是主句不可缺少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部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先行词间无逗号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翻译时常译作前置定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3840" y="685800"/>
            <a:ext cx="649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4.There are twenty-fi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upils in the class,___ 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from the United Stat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ree of which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some of wh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all of them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five of 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4343400"/>
            <a:ext cx="40384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533520"/>
            <a:ext cx="7057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The students climbed 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ll,___ they could get  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nderful vie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n its top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on the top of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on whose top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on the top of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876920"/>
            <a:ext cx="373356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3840" y="1371600"/>
            <a:ext cx="7056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6. The weather turned ou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be very good,___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re than we could exp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at        B.whi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D.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43434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444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ages___ are missing,is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of which    B.for whi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o that        D.to 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114800"/>
            <a:ext cx="26672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24360" y="1143000"/>
            <a:ext cx="792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.Beijing,___,is a beauti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ich is the capital of Ch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which is the capital c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hat is the capital of 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that is the capital c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352680"/>
            <a:ext cx="74678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0160" y="838080"/>
            <a:ext cx="7462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9.He made another wonder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iscovery ,___ of gre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mporta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ich I think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which I think it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which I think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I think which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809880"/>
            <a:ext cx="441972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8600" y="1371600"/>
            <a:ext cx="7293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0.She heard a terrible nois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___ brought her heart i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u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it                B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is            D.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43434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680" y="1523880"/>
            <a:ext cx="766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1.Carol said the work woul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e done by October,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ersonally I doubt very m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it             B.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when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51814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106668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2.The weather turned 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be very good,___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re than we could exp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at       B.which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D.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0384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07320" y="1270080"/>
            <a:ext cx="7261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3.He paid the boy $10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ashing ten windows,mo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of ___hadn't been clean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t least a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ese          B.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6386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4400" y="990720"/>
            <a:ext cx="622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travellers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 kn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about the floods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ook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other ro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travellers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 kn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about the floods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to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other ro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62600" y="457200"/>
            <a:ext cx="33012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只有那些知道前面有洪水的旅客们才绕道而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34000" y="5486400"/>
            <a:ext cx="33012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旅客们知道前面有洪水，因而绕道而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27160" y="507960"/>
            <a:ext cx="7818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4.___ is mentioned abov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number of the stud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senior high school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creas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         B.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   D.I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41911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876920"/>
            <a:ext cx="7696080" cy="173988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引导非限制性定语从句，位于句首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定语从句中作主语，代表整个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句所表达的内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4600" y="380880"/>
            <a:ext cx="7226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5.___ is known to all,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ill be an ___ and power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ountry in 20 or 30 years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at…advanc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This…advan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As…advan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It…advanc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562720"/>
            <a:ext cx="396216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762120"/>
            <a:ext cx="6345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　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几种情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来指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此时不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BBC World Servic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roadcasts all kind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rograms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ch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from month to mon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2120"/>
            <a:ext cx="7086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lock struck thirte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made everyone laug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5480" y="2514600"/>
            <a:ext cx="710064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修饰整个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代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lock struck thirteen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又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30720" y="4419720"/>
            <a:ext cx="6986880" cy="155628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levator is out of ord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too b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06200" y="1752480"/>
            <a:ext cx="693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e said that the man 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thief,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urned out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tr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1295280"/>
            <a:ext cx="6616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来指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rlie Chaplin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di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1977,was one 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orld’s greatest actor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1371600"/>
            <a:ext cx="719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m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宾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doctor 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m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he nurs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s talking to, is leaving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frica next 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22200" y="144792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时间状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e went to the States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912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en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he was noti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y an important film direct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7:34:46Z</dcterms:created>
  <dc:creator>Legend User</dc:creator>
  <dc:description/>
  <dc:language>en-US</dc:language>
  <cp:lastModifiedBy>Legend User</cp:lastModifiedBy>
  <dcterms:modified xsi:type="dcterms:W3CDTF">2002-09-29T01:59:18Z</dcterms:modified>
  <cp:revision>19</cp:revision>
  <dc:subject/>
  <dc:title>PowerPoint 演示文稿</dc:title>
</cp:coreProperties>
</file>