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5756275" cy="7981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040-CE77-4534-943D-95601418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A19-6E9D-4959-BDDE-A091324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60A-169F-4EBE-9458-16D8031B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9C2-2F2B-420B-BFCE-3FB2C76E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A44-3BA9-4CA7-8D33-6C8D8781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2AF-8011-4E62-B9A9-BCE911BD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E3F-EE61-439D-94D2-83AFA3FE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EF6-8AA1-4675-AA3E-DE4A81F2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E28-6FF9-4645-A366-91507F49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AD9-5F04-4721-8C35-EDCEABA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867-4DC2-4BFF-8068-F04611F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48E-7609-409C-8206-7668EF4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C4A1-9591-4408-B8C0-1821ECAC4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108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0:05:36Z</dcterms:created>
  <dc:creator>Legend User</dc:creator>
  <dc:description/>
  <dc:language>en-US</dc:language>
  <cp:lastModifiedBy>Legend User</cp:lastModifiedBy>
  <dcterms:modified xsi:type="dcterms:W3CDTF">2003-01-06T10:33:53Z</dcterms:modified>
  <cp:revision>2</cp:revision>
  <dc:subject/>
  <dc:title>幻灯片 1</dc:title>
</cp:coreProperties>
</file>