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ACD-79E7-4BC4-8D59-A1F106E4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92D-61A8-41AE-BA0E-0CFD5BB4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63F-CD4C-4132-A438-EB907D5C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907-9688-4D7C-9AE8-5943D8DA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74CF-1ABB-4F6B-8CC6-FE6F2F5F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D4F1-6B19-40A0-8CA0-2AD949F4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B17D-81B9-42E2-A788-BC06AAA9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A778-6ECF-4284-BF00-D7641E7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4549-27CA-46E8-BB7E-929B3EF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8B96-2E54-448B-B00F-DB8A9618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C501-DFC1-4B29-AF1B-1DB3B4C9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61E-A204-44B8-8475-2392709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BAC1-3FB5-45BE-9475-8DDE24CB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A45B-4C59-490D-8860-10BF75E3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1571-CFF1-4B1A-9ACD-0631CE3E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0F47-4AFE-43C0-AD03-8D239126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8907-EA27-4503-9FE5-F2DAF57E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CB5-1111-4C4D-8DAE-E8A5B03D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4E3-C361-4969-862A-C477A4C8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619-18C7-4591-9896-1A058FF4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187-A05F-4AED-B33D-D8255F83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117-70F0-4587-AF47-6355DD22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EB6-7F5D-4DCD-868F-38E2DDF6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124-C776-4E54-B390-6FDAEEAF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B260-3ACE-4011-A5B9-DC0A8540109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7ABC-EF50-4C4B-A8EB-536A18E2E2D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286000"/>
            <a:ext cx="5791320" cy="155628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+ which\whom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5373720"/>
            <a:ext cx="280836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12952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3680" y="4992840"/>
            <a:ext cx="3838320" cy="70344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中缺少什么成分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267080"/>
            <a:ext cx="27432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91120" y="5410080"/>
            <a:ext cx="2466360" cy="76428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确定句子类型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181480"/>
            <a:ext cx="40384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191120"/>
            <a:ext cx="25146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0640" y="1523880"/>
            <a:ext cx="678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old Olympic Game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moder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games came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began aroun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year 776BC in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676520"/>
            <a:ext cx="725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Some of the games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young men compete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re: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running,jumping 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restl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90512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country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first Olympic Gam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ere held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is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240" y="1676520"/>
            <a:ext cx="654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n Barcelona the Chines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got 16 gold medal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which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12 were won b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om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0440" y="914400"/>
            <a:ext cx="6340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ink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.This is the room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35440" y="1776240"/>
            <a:ext cx="7149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4.The comrad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came knows French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girl 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you'r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ooking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in the classroom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3429000"/>
            <a:ext cx="304920" cy="609480"/>
          </a:xfrm>
          <a:custGeom>
            <a:avLst/>
            <a:gdLst>
              <a:gd name="textAreaLeft" fmla="*/ 0 w 304920"/>
              <a:gd name="textAreaRight" fmla="*/ 305280 w 304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60480" y="1066680"/>
            <a:ext cx="6459840" cy="131292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或介词短语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)+which/whom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in fron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43200" y="228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类型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93200" y="2514600"/>
            <a:ext cx="5145840" cy="314136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.a few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os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ny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om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on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93920" y="5867280"/>
            <a:ext cx="4103640" cy="70344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3.NOUN+of 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496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03848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2:36:14Z</dcterms:created>
  <dc:creator>Legend User</dc:creator>
  <dc:description/>
  <dc:language>en-US</dc:language>
  <cp:lastModifiedBy>赵晨盼</cp:lastModifiedBy>
  <dcterms:modified xsi:type="dcterms:W3CDTF">2002-10-13T10:32:04Z</dcterms:modified>
  <cp:revision>5</cp:revision>
  <dc:subject/>
  <dc:title>PowerPoint 演示文稿</dc:title>
</cp:coreProperties>
</file>