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DBB-91DD-46CE-97B0-03CC33D5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008-72CC-4074-B737-7F8FB0D7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F17-7F08-4DBE-9075-6B58A254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BAE-A86A-4774-BB9E-98878E0A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D3A5-96E8-466A-96B0-C8DF96DC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21F5-BE8A-47A1-B1F5-1B92D2CD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8D9D-7F2A-47CF-9413-484DC6AA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6DCB-EA0B-47EE-90A6-DCB68EF7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8A8D-6A12-4CAD-91F6-B2780D1D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7E65-D814-4879-8E30-0EE9B2F6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C309-DD25-4099-92B5-B477182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A7F-943E-4665-BD55-6F74A9EE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8519-0672-46B6-AF9C-1F8D2E7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8966-4A34-44A0-919D-74B9CC59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1F60-9137-4DD1-AFBD-2241CA30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9E88-2C79-4962-B037-0F7EC609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F73E-0E0E-4EA4-9826-A0173238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A6C-BC49-497B-8831-F7C3E157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916-357D-4DC4-9A93-1B105310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272-0543-4C74-A09A-295F0984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B44-EC9D-4D7D-935D-7D12F24F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1E4-1F14-49E4-8D50-6183C50F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EF6-8FCD-4FE2-BED7-2FEA41F7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094-7B64-4390-A45D-57A18F0A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0299-822C-43B7-8C1C-1C95E425741C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BCC6-14A1-428F-AA3C-45E5A35A2887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066680"/>
            <a:ext cx="7772400" cy="825120"/>
          </a:xfrm>
          <a:prstGeom prst="rect">
            <a:avLst/>
          </a:prstGeom>
          <a:noFill/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3480" y="2590920"/>
            <a:ext cx="819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 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legs were badly hur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760" y="4419720"/>
            <a:ext cx="84466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hose legs were badly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urt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,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1720" y="2057400"/>
            <a:ext cx="778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7.Do you know Mrs Jackson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 daughter is a famous poet?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          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                     D.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434340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6600" y="3962520"/>
            <a:ext cx="85978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n whose department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r king worked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called at host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523880"/>
            <a:ext cx="92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called at the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r King worked in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departmen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2480" y="1523880"/>
            <a:ext cx="6515640" cy="448092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取代 了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one’s,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表示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所属关系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从句中作定语，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与名词连用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=of which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，不能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省略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800" y="1752480"/>
            <a:ext cx="77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I'd like a room____ window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038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8400" y="1828800"/>
            <a:ext cx="7768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I'd like a room____ the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indows 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87692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2800" y="1523880"/>
            <a:ext cx="817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.The river____are covered wit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trees is very long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banks      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of which bank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se the banks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the banks of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943600"/>
            <a:ext cx="51055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44880" y="1905120"/>
            <a:ext cx="880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4.The book,____the cover is green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elongs to the school library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ich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that               D.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19112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9800" y="1523880"/>
            <a:ext cx="842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5.The old lady has two daughters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_ are nurses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two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both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all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neither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495680"/>
            <a:ext cx="380988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47000" y="1574640"/>
            <a:ext cx="761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6.His parents wouldn’t let hi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arry anyone___ family wa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poor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om            B.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ose            D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181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1:12:59Z</dcterms:created>
  <dc:creator>Legend User</dc:creator>
  <dc:description/>
  <dc:language>en-US</dc:language>
  <cp:lastModifiedBy>Legend User</cp:lastModifiedBy>
  <dcterms:modified xsi:type="dcterms:W3CDTF">2002-09-30T12:15:59Z</dcterms:modified>
  <cp:revision>3</cp:revision>
  <dc:subject/>
  <dc:title>PowerPoint 演示文稿</dc:title>
</cp:coreProperties>
</file>