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03E-55FA-45C5-9723-FF453039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9C5-4106-49A6-8DC2-5F7B3E85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FDD-D224-4695-AC58-877C1DB2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A30-1CFA-4B02-9231-91870764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139-745B-47AE-A19C-FDB86910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50A-A577-4C47-B565-1C7A2786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884-802D-488F-9375-E077A15E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C4B-BED0-403C-9CC1-0A65F970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6A0-33A1-49FF-876F-2A541524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AF0-8273-4100-82A6-937BC18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473-1D87-4E7F-951D-493E933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944-C22A-42FA-A9BC-C6AE037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EA8-FD34-42EE-9031-43AAB15B9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china/billgates/" TargetMode="External"/><Relationship Id="rId2" Type="http://schemas.openxmlformats.org/officeDocument/2006/relationships/hyperlink" Target="http://it.sohu.com/itpeople/Bill_Gates.html" TargetMode="External"/><Relationship Id="rId3" Type="http://schemas.openxmlformats.org/officeDocument/2006/relationships/hyperlink" Target="http://it.sohu.com/itpeople/Bill_Gates.html" TargetMode="External"/><Relationship Id="rId4" Type="http://schemas.openxmlformats.org/officeDocument/2006/relationships/hyperlink" Target="http://it.sohu.com/itpeople/Bill_Gat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icrosoft.com/billgates/speedofthough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英语教研组  孙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合肥市第十一中学多媒体公开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华文琥珀"/>
              </a:rPr>
              <a:t>欢迎各位评委光临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 Narrow"/>
                <a:ea typeface="华文细黑"/>
              </a:rPr>
              <a:t>Wb Leeson90.Ex3 i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0" y="4143240"/>
            <a:ext cx="40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Berlin Sans FB"/>
              </a:rPr>
              <a:t>Good Bye!</a:t>
            </a:r>
            <a:r>
              <a:rPr b="0" lang="en-US" sz="54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EFC  SB  2B 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UNIT 23   A famous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MS Mincho"/>
              </a:rPr>
              <a:t>BILL  G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lbio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vision:    Ask  and 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’s the name of the book Jim and his father are talking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usiness @ The Speed of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es Mr Green think of the boo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’s an interesting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is the book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 tells us how computer technology can solve business problems in new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Is the book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, it’s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Are you interested in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(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ecause 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re-re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 you know about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American  Seattle   clever   computer manager much money 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can you learn from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Love his work and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Do you want to be person like Bill Gates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(No). Becaus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lg-1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784872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华文细黑"/>
              </a:rPr>
              <a:t>Seattle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 Washington  future  in the fut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large  spend  unusual  in the end    work out software  program  Harvard  unversity 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BASIC  microcomputer  Microsoft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Personal    improve   golf 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ackground:</a:t>
            </a:r>
            <a:r>
              <a:rPr b="0" lang="zh-CN" sz="20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微软中文主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搜狐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ILL GATES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55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8600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grow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favourit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th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a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2286000" cy="164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8098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illbio3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5867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5029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13 years old   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interested in   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Work out   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Only 17      4,200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UTER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SOFT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6600" y="28954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188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58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ASIC lau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 1975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basicfuture002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05-21billceosummit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76" name="billbio2a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3276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6172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s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1480" y="62485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1999  wrote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usiness @ the Speed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994 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enjo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ding golf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ates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_1046397832_03022801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175248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1920" y="220968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未来时速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Name: Bil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Date of birth: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Favourate  subject at school: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Hobbies: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What Gates did at  17: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3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5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4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9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Additional information: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Octorber 28,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scienc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6668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lay with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5520" y="312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ked out a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He went to 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69640" y="411480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 began a company called 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8560" y="46483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ill merried Melinda Fren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504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iness @ the Speed of Th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715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ow children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22:52Z</dcterms:created>
  <dc:creator>孙强</dc:creator>
  <dc:description/>
  <dc:language>en-US</dc:language>
  <cp:lastModifiedBy>孙强</cp:lastModifiedBy>
  <dcterms:modified xsi:type="dcterms:W3CDTF">2003-06-04T13:31:22Z</dcterms:modified>
  <cp:revision>64</cp:revision>
  <dc:subject/>
  <dc:title>合肥市第十一中学多媒体公开课</dc:title>
</cp:coreProperties>
</file>