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9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10.png" ContentType="image/png"/>
  <Override PartName="/ppt/media/chimes.wav" ContentType="audio/x-wav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49A-9DBF-4300-BCE7-357064C1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398-2704-4E4C-9499-D51012A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3C6-50F3-442E-9BCF-7B4C8F9E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F5E2-5F30-4E80-B3BA-B5D1BC0D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09D-A5B0-4B44-B8C8-A04DA741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83CD-A457-44CE-AEBC-EF4C35FC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069-1ACD-41E7-ADE7-8341286A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3DB-F085-4D08-8E19-60605421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F99-0945-4156-B1AE-C8E462F1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6255-457C-46C7-9B49-F9FC2205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920-049C-476B-9412-A7855D6D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F7D-2E60-4A22-937B-FDD5C5B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5729-A4BB-4B72-9052-B0402F609B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228600" y="1219320"/>
            <a:ext cx="937260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Unit25 What do  you like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Lesson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9720" y="487692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主讲人：刘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360" y="0"/>
            <a:ext cx="328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sten and writ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106668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6858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57913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2096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396252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68580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6858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4960" y="838080"/>
            <a:ext cx="10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7040" y="1447920"/>
            <a:ext cx="10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3400" y="274320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457200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Meim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2440" y="914400"/>
            <a:ext cx="209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very mu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9040" y="914400"/>
            <a:ext cx="132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ike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 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23040" y="892080"/>
            <a:ext cx="185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on’t lik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74720" y="2276640"/>
            <a:ext cx="168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ot d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ump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8360" y="26668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14280" y="25812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560" y="4267080"/>
            <a:ext cx="191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ato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680" y="4267080"/>
            <a:ext cx="168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ege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ood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2400" y="4267080"/>
            <a:ext cx="108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m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p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20" y="0"/>
            <a:ext cx="19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ading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71400" y="60660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9720" y="1219320"/>
            <a:ext cx="854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ll the following sentences right(R) or wrong(W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9960" y="2305080"/>
            <a:ext cx="808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.Li Shan is from a family of four people.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97880" y="228600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9760" y="289548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They like to eat the same food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4000" y="28954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0480" y="3505320"/>
            <a:ext cx="63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.Li Shan likes meat very muc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3268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7680" y="35053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4191120"/>
            <a:ext cx="708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4.Li Shan’s father is from Shanghai.(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419112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1560" y="4952880"/>
            <a:ext cx="58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.Li Shan’s mother likes fish.(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40480" y="49528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858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382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772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3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22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Exercis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388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选择填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6840" y="148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8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8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461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0" y="990720"/>
            <a:ext cx="255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960" y="2438280"/>
            <a:ext cx="8651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at does your mother/father like to e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oes your mother/father like to eat…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re is your mother/father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00100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160" y="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51920" y="431640"/>
            <a:ext cx="309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0440" y="1905120"/>
            <a:ext cx="717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rite a letter to Li Shan 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hat you lik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822040" y="2452680"/>
            <a:ext cx="47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Bye-bye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077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1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8T14:12:16Z</dcterms:created>
  <dc:creator>Pyq</dc:creator>
  <dc:description/>
  <dc:language>en-US</dc:language>
  <cp:lastModifiedBy>MS User</cp:lastModifiedBy>
  <dcterms:modified xsi:type="dcterms:W3CDTF">2006-03-16T14:12:13Z</dcterms:modified>
  <cp:revision>36</cp:revision>
  <dc:subject/>
  <dc:title>PowerPoint 演示文稿</dc:title>
</cp:coreProperties>
</file>