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805-918F-43BC-A4A5-AD5A518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542-CFE9-4775-9C10-E23C8DA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B3E-2FB8-4D92-BD65-15CE0182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F95-018D-4804-B4C2-C73D51F6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FFA4-62DA-4D51-942E-52F87527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5839-9E2C-4E67-B0C6-24C3F148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0776-D9DA-4691-AD75-90CD0890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8E2E-D7B8-4FF7-B9D8-BFBB645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0B0-DD91-43E7-907C-1AD4B56F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D5E-CF64-470F-8565-A206980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1005-C8BE-4E2A-BF8F-6A2552C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4D2-567D-43B2-8834-E94BD920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3087-C874-4922-A33D-CC21BC4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BB8-B141-40AA-BD17-C714934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C58C-8FA5-4F3C-BAFB-D50D8524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FCB-FE1F-4652-9FCD-86B0260F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F2EE-E628-412F-BCA4-B3D47130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93D-3DFC-4C0A-8D86-1B2D7C6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A1C-5AF1-42CC-8BF6-735AA40D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A0C-04D9-4603-9714-057270A4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909-2AF8-4C10-846A-0331D5FF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41E-1B8C-48F9-8764-8E00AE3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3EC-D509-46C5-AD72-EEA02C7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F44-4BB7-4313-ABE1-9F96260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06E6-2AED-47C6-B520-788E1B693F48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F587-6785-4FFD-BE14-B03A00AA118F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80880"/>
            <a:ext cx="595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he –ing for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构成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一般情况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rain-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hope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重读闭音节的动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stop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i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die-----                   lie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ie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4400" y="14889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rain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7400" y="20224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ho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560" y="31240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stop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2670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d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3960" y="419112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l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0600" y="487692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t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2349360"/>
            <a:ext cx="812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w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saw a lot of flow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989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Standing on the tower 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whole villag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could be se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24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988920"/>
            <a:ext cx="76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作宾语补足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saw  two bird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uild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49528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作定语、状语、宾补的用法被称作现在分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200" y="2859120"/>
            <a:ext cx="59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1.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表示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与动词宾语是主动关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3.hear,watch,see,feel:make,hav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2000" y="105264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完成时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e was praised for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taught for 60 year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been there several time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he offered to be our guid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8560" y="1197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 Narrow"/>
              </a:rPr>
              <a:t>Having+-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35280" y="3716280"/>
            <a:ext cx="5883120" cy="1556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表达的事件发生在主要动词的时间之前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120" y="1341360"/>
            <a:ext cx="835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finish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he work,she went ou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19051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被动语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e did it with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ask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The building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built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is our librar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所有格形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’s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83000" y="1828800"/>
            <a:ext cx="681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否定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Not having received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a reply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she decided to writ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2560" y="4265640"/>
            <a:ext cx="22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Arial Narrow"/>
              </a:rPr>
              <a:t>Not+-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00200" y="1371600"/>
            <a:ext cx="702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比较下列每组句子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Judy alway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s to lock the door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 seeing the Alps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for the first ti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记住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8840" y="44942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记得过去做过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1600200"/>
            <a:ext cx="6019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Sam ofte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s to lock the doo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’ll never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 seeing the Alps for the first time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47040" y="251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0520" y="4695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发生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20574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主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Collec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information is very important to busine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121932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y to learn English well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The room was hot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ope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e window,but that didn’t help.So 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tur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on the fan,but I was still hot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480" y="620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努力做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220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尝试新的方法，看是否行得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1600200"/>
            <a:ext cx="748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to tell you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at you failed the t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lending him some money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He never paid me bac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8880" y="114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遗憾地告诉某人某个坏消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对发生在过去 的某事感到后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600200"/>
            <a:ext cx="62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Missing the trai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s waiting for an hou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didn’t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 to start an argu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2200" y="11430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意味着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05280" y="38862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</a:rPr>
              <a:t>打算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1080" y="1371600"/>
            <a:ext cx="632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带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的动词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appreciate,advise,consider,dislike,enjoy,finish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can’t  help,keep,mind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miss,practice,sugges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144792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dvis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a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until tomorrow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ppreciat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aring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from the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will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onsider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o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with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islike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riv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long distanc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3280" y="62064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njoy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vis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them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an’t hel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worrying about it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kee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oping he will co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ould you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n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elping me with thi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ss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being with my famil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69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athlet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practic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rowing the bal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uggest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going to a movi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1430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动名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I would appreciate___ back this afternoo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you to call   B.you ca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your calling  D. you’re cal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952880"/>
            <a:ext cx="2819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14300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can hardly imagine Peter ___ across the Atlantic Ocean in five day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sail   B.to sail   C.sai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have sail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19112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160020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____ is a good form of exercise for both young and o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he walk   B.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walk     D.Wal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809880"/>
            <a:ext cx="243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1676520"/>
            <a:ext cx="725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宾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enjoy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English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How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ee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outside the theatr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6520" y="546120"/>
            <a:ext cx="654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__You were brave enough to raise objections at the meet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Well,now I regret ___ tha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do     B. to be do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have done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d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647712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762120"/>
            <a:ext cx="6933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Only one of these books is_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worth to rea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worth being rea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worth of reading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worth 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257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129528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The squirrel was lucky that it just missed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tching          B.to be caugh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caught   D.to cat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3434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28800" y="1066680"/>
            <a:ext cx="6629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boy is looking forward ___ a gif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be giv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giv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407664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1981080"/>
            <a:ext cx="72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Has the driver been used to ___in all kinds of weather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rive       B.dr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driving    D.be dr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0292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13716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Do you feel like ___ or shall we go by bu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walk    B.walk  C.walking   D.to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343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486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0.It’s no use ___ me believe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rying making    B.trying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rying to forc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try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52480" y="1523880"/>
            <a:ext cx="6923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1.Our teacher suggested ___ the exhibition onc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us to visit  B.our visi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visit       D.our to visi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58136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685800"/>
            <a:ext cx="6770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at worried the child most was ___ to visit his mother in the hospita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is not allowing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his not being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is being not allowed   D.having not been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3434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9120" y="1065240"/>
            <a:ext cx="767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3.As soon as he arrived hom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 got down to 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eveloping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developed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3526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7320" y="609480"/>
            <a:ext cx="661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表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 work wa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tir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试比较 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 was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tired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for the hard wor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are danc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0" y="4724280"/>
            <a:ext cx="37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上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作用相当于名词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被 称作是动名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55840" y="838080"/>
            <a:ext cx="769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现在分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European football is played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80 countries,___ it the mos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popular sport in the wor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making       B.mak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made         D.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45720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8000" y="760320"/>
            <a:ext cx="675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She asked me to help her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she couldn’t m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heavy  suitcase alon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only to realiz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aliz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aving been 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4956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7760" y="1370160"/>
            <a:ext cx="714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The salesman scolded th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irl caught ___and let her off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have stol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 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stea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867280"/>
            <a:ext cx="259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8280" y="1065240"/>
            <a:ext cx="7698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There was a terrible noise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sudden burst of ligh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follow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be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being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1148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62240" y="1566720"/>
            <a:ext cx="65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Do you know the boy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under the big tre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lay                   B.la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laying              D.ly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47242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34800" y="1065240"/>
            <a:ext cx="717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“Can’t you read?”Mary sai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_ to the noti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and point angril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ngrily point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and 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3526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50920" y="988920"/>
            <a:ext cx="802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visiting Minister expre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is satisfaction with his talk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he had enjoyed his sta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aving added    B.to ad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dding               D.add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4100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70760" y="988920"/>
            <a:ext cx="811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____ a reply,he decided to writ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Not rece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ceiving no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Not having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not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47242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4240" y="912960"/>
            <a:ext cx="736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When he was a boy,he use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 go there and watch 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repair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bicycles to be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icycles being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pairing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724280"/>
            <a:ext cx="5410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8480" y="1446120"/>
            <a:ext cx="694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0.____,his face turned pal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.When 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Having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D.After he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5181480"/>
            <a:ext cx="586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13000" y="907920"/>
            <a:ext cx="719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定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leep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bo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know the man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tand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t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1240" y="357336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与被修饰词是主动关系 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表示 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7040" y="4941720"/>
            <a:ext cx="35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walk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sti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36640" y="1992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3560" y="1217520"/>
            <a:ext cx="675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2.Not until Jane got off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us did she find her wall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missing    B.mi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losing      D.mis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2670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27680" y="1065240"/>
            <a:ext cx="778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en I got back hom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saw a message pinned to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oor___ “Sorry to miss you;Wi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ll later.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read              B.rea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read          D.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56272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723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5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状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stood there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iting for the bu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lking in the street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I saw two birds building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129528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作什么状语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2.-ing 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与句子主语存在主动关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的逻辑主语与句子主语一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伴随状语表示与主要动词同时间发生， 常放在句尾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时间、原因状语常放在句子开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916280"/>
            <a:ext cx="775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现在分词作状语时，它逻辑上的主语必须与句子的主语一致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205000"/>
            <a:ext cx="86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 flowers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looked very beautifu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19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17:35Z</dcterms:created>
  <dc:creator>Legend User</dc:creator>
  <dc:description/>
  <dc:language>en-US</dc:language>
  <cp:lastModifiedBy>赵晨盼</cp:lastModifiedBy>
  <dcterms:modified xsi:type="dcterms:W3CDTF">2002-11-03T13:08:29Z</dcterms:modified>
  <cp:revision>32</cp:revision>
  <dc:subject/>
  <dc:title>PowerPoint 演示文稿</dc:title>
</cp:coreProperties>
</file>