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D84-4BCE-4076-A1DA-4FE35007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FF2-F79F-489B-9D15-E6C609F7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D79-83CD-4F98-B5C7-CDC0A8AE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466-90A6-4C74-BCA6-5088A182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979-D5DD-4D6E-A394-F6DD4885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F6E-B097-4F34-AE62-344DA92F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7D8-5D83-4B86-B044-C3BF99D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96E-1A05-4D75-B8FF-50707D1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4D5-1885-41C7-9B55-221C54B7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5CB-B803-4D78-BF27-2CE3A63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711-58B6-447D-AF3F-0FBA05A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EA1-7CAB-4687-8512-4D057C66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84CF-CF2E-4E64-A4F7-A46565F9A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1219320"/>
            <a:ext cx="93726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Unit25 What do  you lik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sson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9720" y="48769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讲人：刘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360" y="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sten and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106668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85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209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9625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858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8380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040" y="1447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400" y="2743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4572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ei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914400"/>
            <a:ext cx="209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mu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9040" y="914400"/>
            <a:ext cx="132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040" y="892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4720" y="2276640"/>
            <a:ext cx="16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ump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360" y="266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4280" y="25812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4267080"/>
            <a:ext cx="19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ato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680" y="4267080"/>
            <a:ext cx="16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o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2400" y="4267080"/>
            <a:ext cx="108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20" y="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ading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1400" y="6066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9720" y="1219320"/>
            <a:ext cx="85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ll the following sentences right(R) or wrong(W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960" y="23050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.Li Shan is from a family of four people.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7880" y="2286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9760" y="289548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They like to eat the same food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480" y="3505320"/>
            <a:ext cx="63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.Li Shan likes meat very muc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26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5053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41911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.Li Shan’s father is from Shanghai.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41911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60" y="49528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.Li Shan’s mother likes fis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0480" y="49528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8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选择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0" y="99072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960" y="2438280"/>
            <a:ext cx="865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does your mother/father like to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es your mother/father like to eat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re is your mother/father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1920" y="43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440" y="1905120"/>
            <a:ext cx="71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rite a letter to Li Shan 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you li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22040" y="2452680"/>
            <a:ext cx="47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12:16Z</dcterms:created>
  <dc:creator>Pyq</dc:creator>
  <dc:description/>
  <dc:language>en-US</dc:language>
  <cp:lastModifiedBy>MS User</cp:lastModifiedBy>
  <dcterms:modified xsi:type="dcterms:W3CDTF">2006-03-16T14:12:13Z</dcterms:modified>
  <cp:revision>36</cp:revision>
  <dc:subject/>
  <dc:title>PowerPoint 演示文稿</dc:title>
</cp:coreProperties>
</file>