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8DC3F-446A-40CF-BD8B-2090C1BA5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B86CD-7372-4518-AB4F-451D165CA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457D3-51FE-46B9-889C-F88847DBC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7B7F6-FB41-40E6-BFD7-E03B7DE50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9CF79-813B-4B57-9A29-1339BAC26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56895-97D3-4CD2-A7B5-D1C347101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71A0C-AE05-4A87-A999-0570BA02C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2CDF4-2E54-4051-A5CB-5B47F0850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930A1-CAC2-4682-BADD-29916929A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BD238-811C-42D6-8622-B57B4F779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8C18F-061A-4213-A208-485458837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C1396-7188-4AF0-8F0D-8818DD281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786C4-C511-4FCD-BEBC-AC25537277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首页大" descr=""/>
          <p:cNvPicPr/>
          <p:nvPr/>
        </p:nvPicPr>
        <p:blipFill>
          <a:blip r:embed="rId2"/>
          <a:stretch/>
        </p:blipFill>
        <p:spPr>
          <a:xfrm>
            <a:off x="0" y="-228600"/>
            <a:ext cx="914400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531800" y="333360"/>
            <a:ext cx="610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Lesson 94 the ninety-fourth les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449360" y="914400"/>
            <a:ext cx="672768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Play a game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ccff"/>
                </a:solidFill>
                <a:latin typeface="Times New Roman"/>
              </a:rPr>
              <a:t>Today is Sunday . Liu Mei is very busy today 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ff"/>
                </a:solidFill>
                <a:latin typeface="Times New Roman"/>
              </a:rPr>
              <a:t>Her mother is not at home . So she has to do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ff"/>
                </a:solidFill>
                <a:latin typeface="Times New Roman"/>
              </a:rPr>
              <a:t>lot of  things  . What does she have to do ? Ca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ff"/>
                </a:solidFill>
                <a:latin typeface="Times New Roman"/>
              </a:rPr>
              <a:t>you guess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828800" y="3962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983600" y="2971800"/>
            <a:ext cx="338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Does she have to …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531800" y="333360"/>
            <a:ext cx="610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Lesson 94 the ninety-fourth les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685800" y="2819520"/>
          <a:ext cx="8001000" cy="2819160"/>
        </p:xfrm>
        <a:graphic>
          <a:graphicData uri="http://schemas.openxmlformats.org/drawingml/2006/table">
            <a:tbl>
              <a:tblPr/>
              <a:tblGrid>
                <a:gridCol w="1398600"/>
                <a:gridCol w="2602080"/>
                <a:gridCol w="1299960"/>
                <a:gridCol w="2700360"/>
              </a:tblGrid>
              <a:tr h="761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ff33"/>
                          </a:solidFill>
                          <a:latin typeface="Times New Roman"/>
                        </a:rPr>
                        <a:t>Na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ff33"/>
                          </a:solidFill>
                          <a:latin typeface="Times New Roman"/>
                        </a:rPr>
                        <a:t>Na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580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ff33"/>
                          </a:solidFill>
                          <a:latin typeface="Times New Roman"/>
                        </a:rPr>
                        <a:t>She / He  has to 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8580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8580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08" name=""/>
          <p:cNvSpPr/>
          <p:nvPr/>
        </p:nvSpPr>
        <p:spPr>
          <a:xfrm>
            <a:off x="533160" y="1371600"/>
            <a:ext cx="761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ffff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Find out three thing your friends have to do at home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write down their answers in the form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首页大" descr=""/>
          <p:cNvPicPr/>
          <p:nvPr/>
        </p:nvPicPr>
        <p:blipFill>
          <a:blip r:embed="rId2"/>
          <a:stretch/>
        </p:blipFill>
        <p:spPr>
          <a:xfrm>
            <a:off x="5562720" y="0"/>
            <a:ext cx="3581280" cy="28656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459720" y="304920"/>
            <a:ext cx="4152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What </a:t>
            </a:r>
            <a:r>
              <a:rPr b="1" lang="en-US" sz="2800" spc="-1" strike="noStrike" u="sng">
                <a:solidFill>
                  <a:srgbClr val="ffff66"/>
                </a:solidFill>
                <a:uFillTx/>
                <a:latin typeface="Times New Roman"/>
              </a:rPr>
              <a:t>does</a:t>
            </a: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 he </a:t>
            </a:r>
            <a:r>
              <a:rPr b="1" lang="en-US" sz="2800" spc="-1" strike="noStrike" u="sng">
                <a:solidFill>
                  <a:srgbClr val="ffff66"/>
                </a:solidFill>
                <a:uFillTx/>
                <a:latin typeface="Times New Roman"/>
              </a:rPr>
              <a:t>have to</a:t>
            </a: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 do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He </a:t>
            </a:r>
            <a:r>
              <a:rPr b="1" lang="en-US" sz="2800" spc="-1" strike="noStrike" u="sng">
                <a:solidFill>
                  <a:srgbClr val="ffff66"/>
                </a:solidFill>
                <a:uFillTx/>
                <a:latin typeface="Times New Roman"/>
              </a:rPr>
              <a:t>has to</a:t>
            </a: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 tidy his roo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09240" y="2133720"/>
            <a:ext cx="462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Lin Tao :      tidy the garden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04920" y="1905120"/>
            <a:ext cx="5105160" cy="759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10320" y="2819520"/>
            <a:ext cx="418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Bruce :         stay at home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94840" y="3571920"/>
            <a:ext cx="491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James :        do his home work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11040" y="4343400"/>
            <a:ext cx="546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Lucy :          help with the cooking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10320" y="5105520"/>
            <a:ext cx="505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Kate :          look after the baby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11040" y="5867280"/>
            <a:ext cx="443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Tom :          do the washing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521640" y="219240"/>
            <a:ext cx="593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What </a:t>
            </a:r>
            <a:r>
              <a:rPr b="1" lang="en-US" sz="2800" spc="-1" strike="noStrike" u="sng">
                <a:solidFill>
                  <a:srgbClr val="ffff66"/>
                </a:solidFill>
                <a:uFillTx/>
                <a:latin typeface="Times New Roman"/>
              </a:rPr>
              <a:t>will</a:t>
            </a: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 Ann </a:t>
            </a:r>
            <a:r>
              <a:rPr b="1" lang="en-US" sz="2800" spc="-1" strike="noStrike" u="sng">
                <a:solidFill>
                  <a:srgbClr val="ffff66"/>
                </a:solidFill>
                <a:uFillTx/>
                <a:latin typeface="Times New Roman"/>
              </a:rPr>
              <a:t>have to</a:t>
            </a: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 do tomorrow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36040" y="838080"/>
            <a:ext cx="300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She </a:t>
            </a:r>
            <a:r>
              <a:rPr b="1" lang="en-US" sz="2800" spc="-1" strike="noStrike" u="sng">
                <a:solidFill>
                  <a:srgbClr val="ffff66"/>
                </a:solidFill>
                <a:uFillTx/>
                <a:latin typeface="Times New Roman"/>
              </a:rPr>
              <a:t>will have to</a:t>
            </a: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7840" y="1447920"/>
            <a:ext cx="579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do some shopping with her Mommy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648320" y="1447920"/>
            <a:ext cx="396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66ff33"/>
                </a:solidFill>
                <a:uFillTx/>
                <a:latin typeface="Times New Roman"/>
              </a:rPr>
              <a:t>                </a:t>
            </a:r>
            <a:r>
              <a:rPr b="1" lang="zh-CN" sz="2800" spc="-1" strike="noStrike">
                <a:solidFill>
                  <a:srgbClr val="66ff33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ccccff"/>
                </a:solidFill>
                <a:latin typeface="Times New Roman"/>
              </a:rPr>
              <a:t>(Mumm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7120" y="2057400"/>
            <a:ext cx="465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ring her friends to her party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2743200"/>
            <a:ext cx="9144000" cy="7632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36760" y="2895480"/>
            <a:ext cx="556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What will her Mommy have to do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35680" y="3352680"/>
            <a:ext cx="265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o some shopping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520" y="3733920"/>
            <a:ext cx="296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repare for the food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49720" y="4149720"/>
            <a:ext cx="212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ok the meal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3352680"/>
            <a:ext cx="3124080" cy="1219320"/>
          </a:xfrm>
          <a:prstGeom prst="rect">
            <a:avLst/>
          </a:prstGeom>
          <a:noFill/>
          <a:ln w="572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20560" y="4714920"/>
            <a:ext cx="534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What will her friends have to do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18400" y="5222880"/>
            <a:ext cx="345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uy the presents for her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8400" y="5680080"/>
            <a:ext cx="227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go to her party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5181480"/>
            <a:ext cx="3657600" cy="1295640"/>
          </a:xfrm>
          <a:prstGeom prst="rect">
            <a:avLst/>
          </a:prstGeom>
          <a:noFill/>
          <a:ln w="572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图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787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531800" y="333360"/>
            <a:ext cx="610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Lesson 94 the ninety-fourth les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图1-400" descr=""/>
          <p:cNvPicPr/>
          <p:nvPr/>
        </p:nvPicPr>
        <p:blipFill>
          <a:blip r:embed="rId2"/>
          <a:stretch/>
        </p:blipFill>
        <p:spPr>
          <a:xfrm>
            <a:off x="2666880" y="1676520"/>
            <a:ext cx="3962520" cy="3414600"/>
          </a:xfrm>
          <a:prstGeom prst="rect">
            <a:avLst/>
          </a:prstGeom>
          <a:ln w="0">
            <a:noFill/>
          </a:ln>
        </p:spPr>
      </p:pic>
      <p:pic>
        <p:nvPicPr>
          <p:cNvPr id="69" name="图1-400" descr=""/>
          <p:cNvPicPr/>
          <p:nvPr/>
        </p:nvPicPr>
        <p:blipFill>
          <a:blip r:embed="rId3"/>
          <a:stretch/>
        </p:blipFill>
        <p:spPr>
          <a:xfrm>
            <a:off x="6095880" y="1143000"/>
            <a:ext cx="3048120" cy="23623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610200" y="1193760"/>
            <a:ext cx="302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Why can’t she come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10200" y="1523880"/>
            <a:ext cx="398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ff"/>
                </a:solidFill>
                <a:latin typeface="Times New Roman"/>
              </a:rPr>
              <a:t>She has to help her Mommy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11640" y="1905120"/>
            <a:ext cx="370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What does she have to do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12000" y="2286000"/>
            <a:ext cx="456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ff"/>
                </a:solidFill>
                <a:latin typeface="Times New Roman"/>
              </a:rPr>
              <a:t>She has to help with the washing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120" y="2666880"/>
            <a:ext cx="278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Is she coming late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08760" y="3048120"/>
            <a:ext cx="340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ff"/>
                </a:solidFill>
                <a:latin typeface="Times New Roman"/>
              </a:rPr>
              <a:t>She will come if she can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33520" y="1143000"/>
            <a:ext cx="5333760" cy="2362320"/>
          </a:xfrm>
          <a:prstGeom prst="rect">
            <a:avLst/>
          </a:prstGeom>
          <a:noFill/>
          <a:ln w="57240">
            <a:solidFill>
              <a:srgbClr val="00cc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88800" y="3776760"/>
            <a:ext cx="84484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Times New Roman"/>
              </a:rPr>
              <a:t>LUCY : where’s Meimei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Times New Roman"/>
              </a:rPr>
              <a:t>LILY   : She can’t come .She has to help her Mommy 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Times New Roman"/>
              </a:rPr>
              <a:t>LUCY : What does she have to do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Times New Roman"/>
              </a:rPr>
              <a:t>LILY   : She has to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help with the washing</a:t>
            </a:r>
            <a:r>
              <a:rPr b="1" lang="zh-CN" sz="2800" spc="-1" strike="noStrike">
                <a:solidFill>
                  <a:srgbClr val="ffff66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Times New Roman"/>
              </a:rPr>
              <a:t>LUCY : Is she coming later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Times New Roman"/>
              </a:rPr>
              <a:t>LILY   : She’ll come if she can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Times New Roman"/>
              </a:rPr>
              <a:t>LUCY : Oh well , Let’s ask Wei Hua instead 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图2-400" descr=""/>
          <p:cNvPicPr/>
          <p:nvPr/>
        </p:nvPicPr>
        <p:blipFill>
          <a:blip r:embed="rId2"/>
          <a:stretch/>
        </p:blipFill>
        <p:spPr>
          <a:xfrm flipH="1">
            <a:off x="-360" y="2133720"/>
            <a:ext cx="3048120" cy="25905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79" name="图3-400" descr=""/>
          <p:cNvPicPr/>
          <p:nvPr/>
        </p:nvPicPr>
        <p:blipFill>
          <a:blip r:embed="rId3"/>
          <a:stretch/>
        </p:blipFill>
        <p:spPr>
          <a:xfrm>
            <a:off x="3048120" y="2133720"/>
            <a:ext cx="3047760" cy="2624040"/>
          </a:xfrm>
          <a:prstGeom prst="rect">
            <a:avLst/>
          </a:prstGeom>
          <a:ln w="0">
            <a:noFill/>
          </a:ln>
        </p:spPr>
      </p:pic>
      <p:pic>
        <p:nvPicPr>
          <p:cNvPr id="80" name="图4-400" descr=""/>
          <p:cNvPicPr/>
          <p:nvPr/>
        </p:nvPicPr>
        <p:blipFill>
          <a:blip r:embed="rId4"/>
          <a:stretch/>
        </p:blipFill>
        <p:spPr>
          <a:xfrm>
            <a:off x="6095880" y="2133720"/>
            <a:ext cx="3048120" cy="26254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531800" y="333360"/>
            <a:ext cx="610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Lesson 94 the ninety-fourth les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133720"/>
            <a:ext cx="2971800" cy="2590560"/>
          </a:xfrm>
          <a:prstGeom prst="rect">
            <a:avLst/>
          </a:prstGeom>
          <a:noFill/>
          <a:ln w="572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971800" y="2133720"/>
            <a:ext cx="3124080" cy="2590560"/>
          </a:xfrm>
          <a:prstGeom prst="rect">
            <a:avLst/>
          </a:prstGeom>
          <a:noFill/>
          <a:ln w="57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095880" y="2133720"/>
            <a:ext cx="3048120" cy="2590560"/>
          </a:xfrm>
          <a:prstGeom prst="rect">
            <a:avLst/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图5-400" descr=""/>
          <p:cNvPicPr/>
          <p:nvPr/>
        </p:nvPicPr>
        <p:blipFill>
          <a:blip r:embed="rId2"/>
          <a:stretch/>
        </p:blipFill>
        <p:spPr>
          <a:xfrm>
            <a:off x="2666880" y="1657440"/>
            <a:ext cx="3962520" cy="3543120"/>
          </a:xfrm>
          <a:prstGeom prst="rect">
            <a:avLst/>
          </a:prstGeom>
          <a:ln w="0">
            <a:noFill/>
          </a:ln>
        </p:spPr>
      </p:pic>
      <p:pic>
        <p:nvPicPr>
          <p:cNvPr id="86" name="图5-400" descr=""/>
          <p:cNvPicPr/>
          <p:nvPr/>
        </p:nvPicPr>
        <p:blipFill>
          <a:blip r:embed="rId3"/>
          <a:stretch/>
        </p:blipFill>
        <p:spPr>
          <a:xfrm>
            <a:off x="6095880" y="1143000"/>
            <a:ext cx="3048120" cy="236232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1531800" y="333360"/>
            <a:ext cx="610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Lesson 94 the ninety-fourth les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11280" y="1193760"/>
            <a:ext cx="366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What does he have to do 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10200" y="1523880"/>
            <a:ext cx="501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ff"/>
                </a:solidFill>
                <a:latin typeface="Times New Roman"/>
              </a:rPr>
              <a:t>I’m not sure . I think he may have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ff"/>
                </a:solidFill>
                <a:latin typeface="Times New Roman"/>
              </a:rPr>
              <a:t>finish his homework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33520" y="1143000"/>
            <a:ext cx="5333760" cy="1295280"/>
          </a:xfrm>
          <a:prstGeom prst="rect">
            <a:avLst/>
          </a:prstGeom>
          <a:noFill/>
          <a:ln w="57240">
            <a:solidFill>
              <a:srgbClr val="00cc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99960" y="2971800"/>
            <a:ext cx="87379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Times New Roman"/>
              </a:rPr>
              <a:t>JIM     : where’s Li Lei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Times New Roman"/>
              </a:rPr>
              <a:t>BILL   : He can’t make it today. He has to stay at home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Times New Roman"/>
              </a:rPr>
              <a:t>JIM     : Why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Times New Roman"/>
              </a:rPr>
              <a:t>BILL   : I’m not sure . I think he may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have to help hi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Dad in the garden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Times New Roman"/>
              </a:rPr>
              <a:t>JIM     : Is he coming later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Times New Roman"/>
              </a:rPr>
              <a:t>BILL   : He’ll come if he can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Times New Roman"/>
              </a:rPr>
              <a:t>JIM     : Oh well , we’ll have to ask Zhang Li instead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图8-400" descr=""/>
          <p:cNvPicPr/>
          <p:nvPr/>
        </p:nvPicPr>
        <p:blipFill>
          <a:blip r:embed="rId2"/>
          <a:stretch/>
        </p:blipFill>
        <p:spPr>
          <a:xfrm>
            <a:off x="6095880" y="2133720"/>
            <a:ext cx="3048120" cy="2625480"/>
          </a:xfrm>
          <a:prstGeom prst="rect">
            <a:avLst/>
          </a:prstGeom>
          <a:ln w="0">
            <a:noFill/>
          </a:ln>
        </p:spPr>
      </p:pic>
      <p:pic>
        <p:nvPicPr>
          <p:cNvPr id="93" name="图7-400" descr=""/>
          <p:cNvPicPr/>
          <p:nvPr/>
        </p:nvPicPr>
        <p:blipFill>
          <a:blip r:embed="rId3"/>
          <a:stretch/>
        </p:blipFill>
        <p:spPr>
          <a:xfrm>
            <a:off x="2971800" y="2133720"/>
            <a:ext cx="3124080" cy="26254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1531800" y="333360"/>
            <a:ext cx="610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Lesson 94 the ninety-fourth les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2133720"/>
            <a:ext cx="2971800" cy="2590560"/>
          </a:xfrm>
          <a:prstGeom prst="rect">
            <a:avLst/>
          </a:prstGeom>
          <a:noFill/>
          <a:ln w="572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971800" y="2133720"/>
            <a:ext cx="3124080" cy="2590560"/>
          </a:xfrm>
          <a:prstGeom prst="rect">
            <a:avLst/>
          </a:prstGeom>
          <a:noFill/>
          <a:ln w="57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095880" y="2133720"/>
            <a:ext cx="3048120" cy="2590560"/>
          </a:xfrm>
          <a:prstGeom prst="rect">
            <a:avLst/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图6-400" descr=""/>
          <p:cNvPicPr/>
          <p:nvPr/>
        </p:nvPicPr>
        <p:blipFill>
          <a:blip r:embed="rId4"/>
          <a:stretch/>
        </p:blipFill>
        <p:spPr>
          <a:xfrm>
            <a:off x="0" y="2133720"/>
            <a:ext cx="2971800" cy="25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531800" y="333360"/>
            <a:ext cx="610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Lesson 94 the ninety-fourth les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051720" y="1828800"/>
            <a:ext cx="336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Where’re the twins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They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050640" y="3886200"/>
            <a:ext cx="2172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Where’s …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He | She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19T01:33:02Z</dcterms:created>
  <dc:creator>eetdc</dc:creator>
  <dc:description/>
  <dc:language>en-US</dc:language>
  <cp:lastModifiedBy>wb</cp:lastModifiedBy>
  <dcterms:modified xsi:type="dcterms:W3CDTF">2001-04-30T05:36:36Z</dcterms:modified>
  <cp:revision>18</cp:revision>
  <dc:subject/>
  <dc:title>PowerPoint 演示文稿</dc:title>
</cp:coreProperties>
</file>