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4A6-D789-4B1B-A498-73B1BF7F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556-62C1-46D8-816F-99917664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E4B-E3B8-4E42-AAE3-D37BFDCB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1E3-7302-4D26-9232-BB0C34ED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3ABB-55C0-4665-B4FB-950CD2BE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69FD-2B29-46DA-BB77-B207454D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929E-C316-4FFF-B949-5AB67523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B8F0-FB50-4ACB-AC23-02077133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A5B8-3794-4A7E-BDD0-EBB4E11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8EBC-27EA-408B-87AD-E7EC0928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14BD-0391-4830-9D78-DAB637AF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5A9-6207-4223-B7DA-46EB465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85C3-6D1F-40A7-A847-2D53071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652E-5679-45AA-A134-05E663A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BEC6-DCB6-4AE6-9CAB-94A70266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6D51-DF9F-4F59-9AAD-6FF719DE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3D76-C9C8-4D7C-8EEE-FE9E85C9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FB1-7F0C-4FBF-B20A-BD8B0F7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D05-B729-4B2A-B39D-F568BB6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8B7-E893-4F92-91BE-6E2B977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322-6110-4B32-8280-79AF16FD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409-C8CE-4FBD-9E29-413687CC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5AB-8976-4F1B-AC57-92E95A9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A35-1325-448E-9452-91C7B77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1DD-9E09-4C48-B9DC-0C2437ABA9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D89C-C34B-427E-B53E-A2F7F68B3CD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7560" y="4648320"/>
            <a:ext cx="3289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限制性定语从句起补充说明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去后不影响主句的意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逗号与主句分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并列的分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0" y="685800"/>
            <a:ext cx="6711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非限制性定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is note was left by Joh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s here a moment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条子是约翰留的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他刚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过这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35200" y="1447920"/>
            <a:ext cx="67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地点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went to the Stat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st of the fil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ere made at that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9280" y="1143000"/>
            <a:ext cx="78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句中作定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ther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ll for many years,had to 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treets to earn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2640" y="1143000"/>
            <a:ext cx="7241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介词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/whom/w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the office,I never se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have time until 5:30 p.m.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by 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ime many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ve gon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320" y="533520"/>
            <a:ext cx="66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 introduced me to 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ommates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oth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from Califor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4440" y="2971800"/>
            <a:ext cx="700236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f,many of,most of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e of,two of, half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of,neither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of,all of,several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f, little of, a numbe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9440" y="1676520"/>
            <a:ext cx="710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achers discussed J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of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oblems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or study hab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65240" y="1544760"/>
            <a:ext cx="66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正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Last night I took a taxi,and which took m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048120"/>
            <a:ext cx="914400" cy="533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819520"/>
            <a:ext cx="2514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 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752480"/>
            <a:ext cx="746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expressed the hope which Mr. and Mrs. smith would come to visit China the nex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828800"/>
            <a:ext cx="1539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50440" y="1295280"/>
            <a:ext cx="69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Tom's mother kept t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im that he should 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er,but ___didn't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he  B.which  C.she  D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191120"/>
            <a:ext cx="9144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0160" y="838080"/>
            <a:ext cx="731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 shall never forget tho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ars  ___ I lived in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ntry with the farm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has a great effect 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hat,which   B.when,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ich,that   D.when,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257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880" y="990720"/>
            <a:ext cx="659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st of ___hadn't b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leaned 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410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1400" y="609480"/>
            <a:ext cx="5529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较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ose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nt to g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lease sign their nam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想去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请在这里签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6320" y="4343400"/>
            <a:ext cx="43228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限制性定语从句起限定作用，是主句不可缺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先行词间无逗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前置定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3840" y="685800"/>
            <a:ext cx="649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.There are twenty-fi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upils in the class,___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the United St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ree of 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some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ll of them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five of 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40384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533520"/>
            <a:ext cx="705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 students climbed 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ll,___ they could get 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erful vi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its top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on the top of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ose top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on the top of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876920"/>
            <a:ext cx="37335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3840" y="1371600"/>
            <a:ext cx="70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. The weather turned 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 B.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444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ages___ are missing,i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of which    B.for 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o that        D.to 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114800"/>
            <a:ext cx="26672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360" y="1143000"/>
            <a:ext cx="792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Beijing,___,is a 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is the capital of Ch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which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is the capital of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that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74678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0160" y="838080"/>
            <a:ext cx="7462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9.He made another wond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iscovery ,___ of gre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mport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ich I think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which I think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ich I think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 think whic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9880"/>
            <a:ext cx="44197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8600" y="1371600"/>
            <a:ext cx="7293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.She heard a terrible noi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 brought her heart i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   B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is            D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680" y="1523880"/>
            <a:ext cx="766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1.Carol said the work wou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e done by October,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ersonally I doubt very m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B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en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51814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2.The weather turned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B.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38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07320" y="1270080"/>
            <a:ext cx="726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of ___hadn't been clean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6386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4400" y="990720"/>
            <a:ext cx="622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62600" y="4572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只有那些知道前面有洪水的旅客们才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4000" y="54864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旅客们知道前面有洪水，因而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27160" y="507960"/>
            <a:ext cx="781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4.___ is mentioned ab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number of the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enior high school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crea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         B.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 D.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76920"/>
            <a:ext cx="7696080" cy="17398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导非限制性定语从句，位于句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定语从句中作主语，代表整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所表达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4600" y="380880"/>
            <a:ext cx="722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.___ is known to all,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ill be an ___ and pow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ountry in 20 or 30 years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a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Thi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39621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762120"/>
            <a:ext cx="6345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种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此时不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BBC World Serv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roadcasts all kind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rogram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month to mon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2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lock struck thirte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de everyone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5480" y="2514600"/>
            <a:ext cx="7100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饰整个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代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lock struck thirteen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0720" y="4419720"/>
            <a:ext cx="6986880" cy="15562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levator is out of ord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oo b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200" y="1752480"/>
            <a:ext cx="693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said that the man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ief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urned ou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r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295280"/>
            <a:ext cx="661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rlie Chaplin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di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1977,was one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orld’s greatest actor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719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宾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doctor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he nur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 talking to, is leaving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frica next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22200" y="144792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时间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e went to the Stat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912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he was noti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y an important film dire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7:34:46Z</dcterms:created>
  <dc:creator>Legend User</dc:creator>
  <dc:description/>
  <dc:language>en-US</dc:language>
  <cp:lastModifiedBy>Legend User</cp:lastModifiedBy>
  <dcterms:modified xsi:type="dcterms:W3CDTF">2002-09-29T01:59:18Z</dcterms:modified>
  <cp:revision>19</cp:revision>
  <dc:subject/>
  <dc:title>PowerPoint 演示文稿</dc:title>
</cp:coreProperties>
</file>