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5756275" cy="79819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CD27-CAC7-45FC-BA52-04B3D8D0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BE0B-AC34-4B3F-A4F1-84D6E74B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1995-2E21-439A-BE17-FF5E1129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8FC9-A452-4E17-8A7D-3AF5A1C5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B7D5-09E1-4F6F-8E3E-A2777D5B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4BC0-385D-408F-A5BF-5D9986BF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1262-5AC2-46E2-B907-2DA52539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7655-C421-4A22-B487-D7A54048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1948-63FF-47CB-B48B-8D406517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1BA2-FD00-4D97-A228-7544AC65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B751-0F5D-4074-9753-D9AA0AF6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408B-4A83-4B67-AF88-9CB12E81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F5F7-381F-49F8-B2EB-C6E00D5041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1080" y="1828800"/>
            <a:ext cx="7512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They came to a farm hous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front of ___sat a small bo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which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.that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what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.w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96720" y="1676520"/>
            <a:ext cx="6988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In the dark street,t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sn't a single person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could turn for hel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whom            B.that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to whom        D.by wh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95280" y="1676520"/>
            <a:ext cx="7486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I'll never forget the days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pent togeth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on which        B.in which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that                 D.wh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95280" y="1676520"/>
            <a:ext cx="705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.I'll remember the days 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worked togeth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when              B.in which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on which        D.\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18960" y="1295280"/>
            <a:ext cx="7666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.There are several building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our school,the highest 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__ was built last ye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of which          B.of  them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\                 D.among th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94920" y="1447920"/>
            <a:ext cx="7345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.They gave us some Engli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ooks, ___ were difficult t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dersta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a few of them        B.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a few of which      D.th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9360" y="1219320"/>
            <a:ext cx="7444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.This dictionary,the first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ages___ are missing,is of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 us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of which       B.for which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to that           D.to whi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10:05:36Z</dcterms:created>
  <dc:creator>Legend User</dc:creator>
  <dc:description/>
  <dc:language>en-US</dc:language>
  <cp:lastModifiedBy>Legend User</cp:lastModifiedBy>
  <dcterms:modified xsi:type="dcterms:W3CDTF">2003-01-06T10:33:53Z</dcterms:modified>
  <cp:revision>2</cp:revision>
  <dc:subject/>
  <dc:title>幻灯片 1</dc:title>
</cp:coreProperties>
</file>