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5AB6-36FC-43C3-9387-C6C032E7B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08D2-29D9-4EA3-956C-3F06E9B3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3AA4-5E55-43A4-99B9-A9C77CA9E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7402-43C3-4638-A09A-0C28E3FD3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2317-FB23-44AA-9DCA-9416F6D8C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D5799-91DC-4C97-A20C-585BA06E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F1A9-06CC-4D00-BF3B-3C1D13AD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8432-3D5A-455C-A8BC-ED55DA36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F514-F39A-4A2E-84C3-EEABC2B8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698B-3387-418F-B56D-A8882C1B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5A7F-0742-44AE-A7A9-91B5EDF9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1A4A-8610-47D6-8658-521AF4EC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FC95-891E-4F07-B288-44DF84B2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68C5-877D-42AD-A2ED-3FC3114A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67AA-9535-4795-8199-2ED27457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AD4B7-ADAD-4C32-B489-B09683C0D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13F0-53A6-48B6-BD5F-7BC3A40EB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3639-4619-4A85-BE94-CFD65FEE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3906-5F4F-475A-9CA1-FE045C0C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CD3E-BC02-40A7-ACFE-2FF34F7B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DD64-5465-4AEB-B784-E2E2BEDA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C3E7-075D-4002-86CA-105B0EC0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6DF9-77CE-474F-A5B6-8D88D0AC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1A9B-9AC6-4DDB-B74D-7E457876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FE91-514F-454B-ABCA-C7F0480C8F1E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9865-4EE1-4928-B828-75E260DA26BA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09680" y="2286000"/>
            <a:ext cx="5791320" cy="1556280"/>
          </a:xfrm>
          <a:prstGeom prst="rect">
            <a:avLst/>
          </a:prstGeom>
          <a:noFill/>
          <a:ln cap="sq"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介词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+ which\whom\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在定语从句中的用法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96720" y="1676520"/>
            <a:ext cx="69883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2.In the dark street,ther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wasn't a single person___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I could turn for help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A.whom            B.that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C.to whom        D.by whom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76360" y="5373720"/>
            <a:ext cx="2808360" cy="0"/>
          </a:xfrm>
          <a:prstGeom prst="line">
            <a:avLst/>
          </a:prstGeom>
          <a:ln cap="sq" w="57240">
            <a:solidFill>
              <a:srgbClr val="a9f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295280" y="1676520"/>
            <a:ext cx="7486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3.I'll never forget the days___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we spent together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A.on which        B.in which 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C.that                 D.whe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4648320"/>
            <a:ext cx="1295280" cy="0"/>
          </a:xfrm>
          <a:prstGeom prst="line">
            <a:avLst/>
          </a:prstGeom>
          <a:ln cap="sq" w="57240">
            <a:solidFill>
              <a:srgbClr val="a9f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33680" y="4992840"/>
            <a:ext cx="3838320" cy="703440"/>
          </a:xfrm>
          <a:prstGeom prst="rect">
            <a:avLst/>
          </a:prstGeom>
          <a:noFill/>
          <a:ln cap="sq" w="38160">
            <a:solidFill>
              <a:srgbClr val="a9f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定语从句中缺少什么成分？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295280" y="1676520"/>
            <a:ext cx="705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4.I'll remember the days __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we worked together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A.when              B.in which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C.on which        D.\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3886200"/>
            <a:ext cx="1981080" cy="0"/>
          </a:xfrm>
          <a:prstGeom prst="line">
            <a:avLst/>
          </a:prstGeom>
          <a:ln cap="sq" w="57240">
            <a:solidFill>
              <a:srgbClr val="a9f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18960" y="1295280"/>
            <a:ext cx="76665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5.There are several buildings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in our school,the highest on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__ was built last year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A.of which          B.of  them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C.\                 D.among them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4267080"/>
            <a:ext cx="2743200" cy="0"/>
          </a:xfrm>
          <a:prstGeom prst="line">
            <a:avLst/>
          </a:prstGeom>
          <a:ln cap="sq" w="57240">
            <a:solidFill>
              <a:srgbClr val="a9f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91120" y="5410080"/>
            <a:ext cx="2466360" cy="764280"/>
          </a:xfrm>
          <a:prstGeom prst="rect">
            <a:avLst/>
          </a:prstGeom>
          <a:noFill/>
          <a:ln cap="sq" w="38160">
            <a:solidFill>
              <a:srgbClr val="a9f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aeaea"/>
                </a:solidFill>
                <a:latin typeface="Times New Roman"/>
              </a:rPr>
              <a:t>确定句子类型</a:t>
            </a:r>
            <a:r>
              <a:rPr b="0" lang="zh-CN" sz="4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294920" y="1447920"/>
            <a:ext cx="7345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6.They gave us some English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books, ___ were difficult to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understand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A.a few of them        B.they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C.a few of which      D.that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5181480"/>
            <a:ext cx="4038480" cy="0"/>
          </a:xfrm>
          <a:prstGeom prst="line">
            <a:avLst/>
          </a:prstGeom>
          <a:ln cap="sq" w="57240">
            <a:solidFill>
              <a:srgbClr val="a9f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449360" y="1219320"/>
            <a:ext cx="7444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7.This dictionary,the first few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pages___ are missing,is of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no us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A.of which       B.for which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C.to that           D.to which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191120"/>
            <a:ext cx="2514600" cy="0"/>
          </a:xfrm>
          <a:prstGeom prst="line">
            <a:avLst/>
          </a:prstGeom>
          <a:ln cap="sq" w="57240">
            <a:solidFill>
              <a:srgbClr val="a9f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20640" y="1523880"/>
            <a:ext cx="678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The old Olympic Games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from which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a9fc56"/>
                </a:solidFill>
                <a:latin typeface="Times New Roman"/>
              </a:rPr>
              <a:t>the modern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9fc56"/>
                </a:solidFill>
                <a:latin typeface="Times New Roman"/>
              </a:rPr>
              <a:t>games came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began around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the year 776BC in Greec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1676520"/>
            <a:ext cx="7259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Some of the games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 which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9fc56"/>
                </a:solidFill>
                <a:latin typeface="Times New Roman"/>
              </a:rPr>
              <a:t>the young men competed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ere: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running,jumping an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wrestling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828800" y="1905120"/>
            <a:ext cx="6193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The country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 which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9fc56"/>
                </a:solidFill>
                <a:latin typeface="Times New Roman"/>
              </a:rPr>
              <a:t>the first Olympic Game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9fc56"/>
                </a:solidFill>
                <a:latin typeface="Times New Roman"/>
              </a:rPr>
              <a:t>were held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is Greec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371240" y="1676520"/>
            <a:ext cx="6548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In Barcelona the Chines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team got 16 gold medals,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f which </a:t>
            </a:r>
            <a:r>
              <a:rPr b="0" lang="en-US" sz="4800" spc="-1" strike="noStrike">
                <a:solidFill>
                  <a:srgbClr val="a9fc56"/>
                </a:solidFill>
                <a:latin typeface="Times New Roman"/>
              </a:rPr>
              <a:t>12 were won by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9fc56"/>
                </a:solidFill>
                <a:latin typeface="Times New Roman"/>
              </a:rPr>
              <a:t>women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00440" y="914400"/>
            <a:ext cx="63406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hink: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1.This is the room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ich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 lived </a:t>
            </a:r>
            <a:r>
              <a:rPr b="0" lang="en-US" sz="4400" spc="-1" strike="noStrike">
                <a:solidFill>
                  <a:srgbClr val="a9fc56"/>
                </a:solidFill>
                <a:latin typeface="Times New Roman"/>
              </a:rPr>
              <a:t>in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last year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2.This is the room </a:t>
            </a:r>
            <a:r>
              <a:rPr b="0" lang="en-US" sz="4400" spc="-1" strike="noStrike">
                <a:solidFill>
                  <a:srgbClr val="a9fc56"/>
                </a:solidFill>
                <a:latin typeface="Times New Roman"/>
              </a:rPr>
              <a:t>in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ich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 lived last year.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3.This is the room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re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 lived last year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035440" y="1776240"/>
            <a:ext cx="7149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4.The comrade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ith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a9fc56"/>
                </a:solidFill>
                <a:latin typeface="Times New Roman"/>
              </a:rPr>
              <a:t>whom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 came knows French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he girl  </a:t>
            </a:r>
            <a:r>
              <a:rPr b="0" lang="en-US" sz="4400" spc="-1" strike="noStrike">
                <a:solidFill>
                  <a:srgbClr val="a9fc56"/>
                </a:solidFill>
                <a:latin typeface="Times New Roman"/>
              </a:rPr>
              <a:t>whom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you're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ooking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r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is in the classroom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3429000"/>
            <a:ext cx="304920" cy="609480"/>
          </a:xfrm>
          <a:custGeom>
            <a:avLst/>
            <a:gdLst>
              <a:gd name="textAreaLeft" fmla="*/ 0 w 304920"/>
              <a:gd name="textAreaRight" fmla="*/ 305280 w 3049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727de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860480" y="1066680"/>
            <a:ext cx="6459840" cy="1312920"/>
          </a:xfrm>
          <a:prstGeom prst="rect">
            <a:avLst/>
          </a:prstGeom>
          <a:noFill/>
          <a:ln cap="sq"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介词</a:t>
            </a: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或介词短语</a:t>
            </a: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)+which/whom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in front of whom/which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43200" y="2286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类型：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93200" y="2514600"/>
            <a:ext cx="5145840" cy="3141360"/>
          </a:xfrm>
          <a:prstGeom prst="rect">
            <a:avLst/>
          </a:prstGeom>
          <a:noFill/>
          <a:ln cap="sq"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2.a few of whom/which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most of whom/which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many of whom/which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some of whom/which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none of whom/which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93920" y="5867280"/>
            <a:ext cx="4103640" cy="703440"/>
          </a:xfrm>
          <a:prstGeom prst="rect">
            <a:avLst/>
          </a:prstGeom>
          <a:noFill/>
          <a:ln cap="sq"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3.NOUN+of which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24960" y="1828800"/>
            <a:ext cx="7512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1.They came to a farm house,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in front of ___sat a small boy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A.which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　　　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B.that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C.what 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　　　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D.wher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4038480"/>
            <a:ext cx="1981080" cy="0"/>
          </a:xfrm>
          <a:prstGeom prst="line">
            <a:avLst/>
          </a:prstGeom>
          <a:ln cap="sq" w="57240">
            <a:solidFill>
              <a:srgbClr val="a9f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2:36:14Z</dcterms:created>
  <dc:creator>Legend User</dc:creator>
  <dc:description/>
  <dc:language>en-US</dc:language>
  <cp:lastModifiedBy>赵晨盼</cp:lastModifiedBy>
  <dcterms:modified xsi:type="dcterms:W3CDTF">2002-10-13T10:32:04Z</dcterms:modified>
  <cp:revision>5</cp:revision>
  <dc:subject/>
  <dc:title>PowerPoint 演示文稿</dc:title>
</cp:coreProperties>
</file>