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0C422-B50F-480F-8E5B-DDCED6AE6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B2488-C99A-4377-A429-8B77E801E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D0C9C-D864-47C7-BC31-92B3C4822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D58EE-840C-4869-AF95-1C5DDC1FC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299C1-68AA-405B-B70F-E987E5D5F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2E8D4-CD8E-40D1-A274-8D199153C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21595-D432-4183-946D-46516D464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80D4B-75F3-4F49-B2D7-6393A94FB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E8471-1D32-4EFB-954F-3C6D9A688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57F8C-C590-4856-A3B7-A6233378F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994A3-F506-4E51-8DA3-DA52D2DE9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D20A7-D151-40DC-95B4-91E8761DA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704A1-61C4-4027-871B-72E3E665C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9C32F-88E2-43C4-A126-91EB52C3C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7CFAD-B0ED-4D0B-8781-989F4C5D3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14422-0D59-4C04-9743-4ECAA3BE5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7F54E-A536-4E66-920B-535455FAA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E0FE8-52B8-4B57-8CEB-90DB283E9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546B9-7ED7-4936-A087-F0874FB01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F9448-C75C-4888-A6B2-4DDCBDEA4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9399A-3912-4B51-AA53-42B2CA31F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3BDE2-640D-415E-A529-91C865C53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0E030-0154-4AB6-ADEB-727DE4106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8A4FE-3250-4C75-AE14-9FD002C3E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2.png"/><Relationship Id="rId5" Type="http://schemas.openxmlformats.org/officeDocument/2006/relationships/image" Target="../media/image3.jpe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minispir" descr=""/>
          <p:cNvPicPr/>
          <p:nvPr/>
        </p:nvPicPr>
        <p:blipFill>
          <a:blip r:embed="rId3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minispir" descr=""/>
          <p:cNvPicPr/>
          <p:nvPr/>
        </p:nvPicPr>
        <p:blipFill>
          <a:blip r:embed="rId4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275B7-3D34-464F-B43B-6AD1B7B154B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minispir" descr=""/>
          <p:cNvPicPr/>
          <p:nvPr/>
        </p:nvPicPr>
        <p:blipFill>
          <a:blip r:embed="rId4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minispir" descr=""/>
          <p:cNvPicPr/>
          <p:nvPr/>
        </p:nvPicPr>
        <p:blipFill>
          <a:blip r:embed="rId6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230A5-E934-4083-8D1D-38BF47343A7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447920" y="2362320"/>
            <a:ext cx="69339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连接词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that/which/who/who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在定语从句中作</a:t>
            </a:r>
            <a:r>
              <a:rPr b="0" lang="zh-CN" sz="4000" spc="-1" strike="noStrike">
                <a:solidFill>
                  <a:srgbClr val="0033cc"/>
                </a:solidFill>
                <a:latin typeface="Times New Roman"/>
              </a:rPr>
              <a:t>主语或宾语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用法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905040" y="1752480"/>
            <a:ext cx="79149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3.This is the mountain villag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______ we visited the other day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A.which            B.in which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C.where            D.wh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990720" y="3124080"/>
            <a:ext cx="2057400" cy="6858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061280" y="1752480"/>
            <a:ext cx="57816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4.This is the factory ___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we visited last Friday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A.whose     B.in which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C.who         D.th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581280" y="3809880"/>
            <a:ext cx="2057400" cy="6858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058760" y="1752480"/>
            <a:ext cx="74790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5.Is this the store ____ sell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all kinds of fresh flower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A.where               B.which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C.in which           D.the one th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181480" y="3124080"/>
            <a:ext cx="2057400" cy="6858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120320" y="1547640"/>
            <a:ext cx="74944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6.Is this store ___ sells all kind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of fresh flower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A.where                B.which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C.in which            D.the one th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257800" y="3657600"/>
            <a:ext cx="3276720" cy="6858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057680" y="1752480"/>
            <a:ext cx="67950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7.He has done ____ he can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help m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A.all that        B.all what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C.which         D.all which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143000" y="3124080"/>
            <a:ext cx="2133720" cy="6858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906120" y="1828800"/>
            <a:ext cx="792576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8.The man ___ is our new teacher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A.whom you spok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B.whom you spoke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C.with who you spoke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D.you spoke with wh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990720" y="3276720"/>
            <a:ext cx="4952880" cy="6858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1134720" y="1828800"/>
            <a:ext cx="73540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9.On the bus I saw a student __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I thought was your brother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A.whom       B.who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C.that           D.h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733920" y="3200400"/>
            <a:ext cx="2057400" cy="6858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371600" y="1905120"/>
            <a:ext cx="72388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定语从句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It was in the bookstore </a:t>
            </a:r>
            <a:r>
              <a:rPr b="0" lang="zh-CN" sz="4800" spc="-1" strike="noStrike">
                <a:solidFill>
                  <a:srgbClr val="000099"/>
                </a:solidFill>
                <a:latin typeface="Times New Roman"/>
              </a:rPr>
              <a:t>that I met your brother-in-law the other da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752480" y="838080"/>
            <a:ext cx="60962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met your brother-in-law </a:t>
            </a:r>
            <a:r>
              <a:rPr b="0" lang="en-US" sz="4400" spc="-1" strike="noStrike">
                <a:solidFill>
                  <a:srgbClr val="660033"/>
                </a:solidFill>
                <a:latin typeface="Times New Roman"/>
              </a:rPr>
              <a:t>in the bookstor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the other day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t is/was… that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00200" y="3733920"/>
            <a:ext cx="6705720" cy="21049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It wa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in the bookstore </a:t>
            </a: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tha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I met your brother-in-law the other day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371600" y="1752480"/>
            <a:ext cx="70866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定语从句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We expressed the hope </a:t>
            </a:r>
            <a:r>
              <a:rPr b="0" lang="zh-CN" sz="4400" spc="-1" strike="noStrike">
                <a:solidFill>
                  <a:srgbClr val="000099"/>
                </a:solidFill>
                <a:latin typeface="Times New Roman"/>
              </a:rPr>
              <a:t>that Mr and Mrs smith would come to visit China the next year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496240" y="1600200"/>
            <a:ext cx="451296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0033cc"/>
                </a:solidFill>
                <a:latin typeface="Times New Roman"/>
              </a:rPr>
              <a:t>复合句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主句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从句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主句是一个完整的句子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它包含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一句子的</a:t>
            </a:r>
            <a:r>
              <a:rPr b="0" lang="zh-CN" sz="4000" spc="-1" strike="noStrike">
                <a:solidFill>
                  <a:srgbClr val="0033cc"/>
                </a:solidFill>
                <a:latin typeface="Times New Roman"/>
              </a:rPr>
              <a:t>主要主语和动词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从句不是一个完整的句子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它必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须</a:t>
            </a:r>
            <a:r>
              <a:rPr b="0" lang="zh-CN" sz="4000" spc="-1" strike="noStrike">
                <a:solidFill>
                  <a:srgbClr val="0033cc"/>
                </a:solidFill>
                <a:latin typeface="Times New Roman"/>
              </a:rPr>
              <a:t>和一个主句连用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4649760" y="2514600"/>
            <a:ext cx="676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定语从句是从属分句，修饰先行词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219320" y="1143000"/>
            <a:ext cx="7543800" cy="609480"/>
          </a:xfrm>
          <a:prstGeom prst="wedgeRectCallout">
            <a:avLst>
              <a:gd name="adj1" fmla="val 36152"/>
              <a:gd name="adj2" fmla="val 177865"/>
            </a:avLst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先行词由名词（或代词）来充当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4840" y="3809880"/>
            <a:ext cx="4752720" cy="1922400"/>
          </a:xfrm>
          <a:prstGeom prst="rect">
            <a:avLst/>
          </a:prstGeom>
          <a:noFill/>
          <a:ln w="572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作用：定语从句对一个先行词进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描写、限定或提供进一步的信息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又称为形容词性从句或关系从句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83160" y="658800"/>
            <a:ext cx="71622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number of 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peopl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reached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 many as 250,000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They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lost homes in th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arthquak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925200" y="3809880"/>
            <a:ext cx="7660440" cy="2104920"/>
          </a:xfrm>
          <a:prstGeom prst="rect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number of 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people </a:t>
            </a:r>
            <a:r>
              <a:rPr b="0" lang="en-US" sz="4400" spc="-1" strike="noStrike">
                <a:solidFill>
                  <a:srgbClr val="0033cc"/>
                </a:solidFill>
                <a:latin typeface="Times New Roman"/>
              </a:rPr>
              <a:t>who lost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Times New Roman"/>
              </a:rPr>
              <a:t>homes in the earthquak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reached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 many as 250,000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553080" y="2819520"/>
            <a:ext cx="2133720" cy="761760"/>
          </a:xfrm>
          <a:prstGeom prst="cloudCallout">
            <a:avLst>
              <a:gd name="adj1" fmla="val -20462"/>
              <a:gd name="adj2" fmla="val 95833"/>
            </a:avLst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定语从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495680" y="3048120"/>
            <a:ext cx="1752840" cy="609480"/>
          </a:xfrm>
          <a:prstGeom prst="cloudCallout">
            <a:avLst>
              <a:gd name="adj1" fmla="val -46740"/>
              <a:gd name="adj2" fmla="val 70050"/>
            </a:avLst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先行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500840" y="1928880"/>
            <a:ext cx="6458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The boy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was John's brother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 saw 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him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yesterday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611360" y="3886200"/>
            <a:ext cx="6892560" cy="1434600"/>
          </a:xfrm>
          <a:prstGeom prst="rect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Times New Roman"/>
              </a:rPr>
              <a:t>The boy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400" spc="-1" strike="noStrike">
                <a:solidFill>
                  <a:srgbClr val="0033cc"/>
                </a:solidFill>
                <a:latin typeface="Times New Roman"/>
              </a:rPr>
              <a:t>whom we saw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0" lang="zh-CN" sz="4400" spc="-1" strike="noStrike">
                <a:solidFill>
                  <a:srgbClr val="0033cc"/>
                </a:solidFill>
                <a:latin typeface="Times New Roman"/>
              </a:rPr>
              <a:t>yesterday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was John's brother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248520" y="3048120"/>
            <a:ext cx="2133360" cy="761760"/>
          </a:xfrm>
          <a:prstGeom prst="cloudCallout">
            <a:avLst>
              <a:gd name="adj1" fmla="val -18972"/>
              <a:gd name="adj2" fmla="val 99166"/>
            </a:avLst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定语从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219320" y="3200400"/>
            <a:ext cx="1752480" cy="609480"/>
          </a:xfrm>
          <a:prstGeom prst="cloudCallout">
            <a:avLst>
              <a:gd name="adj1" fmla="val 34240"/>
              <a:gd name="adj2" fmla="val 102606"/>
            </a:avLst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先行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838080" y="1676520"/>
            <a:ext cx="8001000" cy="3504960"/>
            <a:chOff x="838080" y="1676520"/>
            <a:chExt cx="8001000" cy="3504960"/>
          </a:xfrm>
        </p:grpSpPr>
        <p:sp>
          <p:nvSpPr>
            <p:cNvPr id="103" name=""/>
            <p:cNvSpPr/>
            <p:nvPr/>
          </p:nvSpPr>
          <p:spPr>
            <a:xfrm>
              <a:off x="838080" y="1676520"/>
              <a:ext cx="8001000" cy="3445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33cc"/>
                  </a:solidFill>
                  <a:latin typeface="Times New Roman"/>
                </a:rPr>
                <a:t> </a:t>
              </a:r>
              <a:r>
                <a:rPr b="0" lang="zh-CN" sz="4400" spc="-1" strike="noStrike">
                  <a:solidFill>
                    <a:srgbClr val="0033cc"/>
                  </a:solidFill>
                  <a:latin typeface="Times New Roman"/>
                </a:rPr>
                <a:t>　　　主语             　宾语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0033cc"/>
                  </a:solidFill>
                  <a:latin typeface="Times New Roman"/>
                </a:rPr>
                <a:t>　人　  </a:t>
              </a:r>
              <a:r>
                <a:rPr b="0" lang="zh-CN" sz="4400" spc="-1" strike="noStrike">
                  <a:solidFill>
                    <a:srgbClr val="0033cc"/>
                  </a:solidFill>
                  <a:latin typeface="Times New Roman"/>
                </a:rPr>
                <a:t>who               who\whom\ 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0033cc"/>
                  </a:solidFill>
                  <a:latin typeface="Times New Roman"/>
                </a:rPr>
                <a:t>              </a:t>
              </a:r>
              <a:r>
                <a:rPr b="0" lang="zh-CN" sz="4400" spc="-1" strike="noStrike">
                  <a:solidFill>
                    <a:srgbClr val="0033cc"/>
                  </a:solidFill>
                  <a:latin typeface="Times New Roman"/>
                </a:rPr>
                <a:t>that                   that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0033cc"/>
                  </a:solidFill>
                  <a:latin typeface="Times New Roman"/>
                </a:rPr>
                <a:t>　物  　</a:t>
              </a:r>
              <a:r>
                <a:rPr b="0" lang="zh-CN" sz="4400" spc="-1" strike="noStrike">
                  <a:solidFill>
                    <a:srgbClr val="0033cc"/>
                  </a:solidFill>
                  <a:latin typeface="Times New Roman"/>
                </a:rPr>
                <a:t>which              which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0033cc"/>
                  </a:solidFill>
                  <a:latin typeface="Times New Roman"/>
                </a:rPr>
                <a:t>　　　　</a:t>
              </a:r>
              <a:r>
                <a:rPr b="0" lang="zh-CN" sz="4400" spc="-1" strike="noStrike">
                  <a:solidFill>
                    <a:srgbClr val="0033cc"/>
                  </a:solidFill>
                  <a:latin typeface="Times New Roman"/>
                </a:rPr>
                <a:t>that                  that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8080" y="2438280"/>
              <a:ext cx="8001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38080" y="3200400"/>
              <a:ext cx="8001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38080" y="3809880"/>
              <a:ext cx="8001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38080" y="4495680"/>
              <a:ext cx="8001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666880" y="1676520"/>
              <a:ext cx="0" cy="3504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181480" y="1676520"/>
              <a:ext cx="0" cy="3504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658160" y="1555920"/>
            <a:ext cx="3065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确定主句和从句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455120" y="2209680"/>
            <a:ext cx="2455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找出先行词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455120" y="2819520"/>
            <a:ext cx="2581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找出连接词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430000" y="3505320"/>
            <a:ext cx="495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连接词在定语从句中作何成分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962360" y="4191120"/>
            <a:ext cx="4078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可否用其他连接词替换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　是什么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352880" y="5486400"/>
            <a:ext cx="225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可否省略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817000" y="762120"/>
            <a:ext cx="4021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如何分析含有定语从句的复合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906840" y="803160"/>
            <a:ext cx="77274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请用</a:t>
            </a:r>
            <a:r>
              <a:rPr b="0" lang="zh-CN" sz="4400" spc="-1" strike="noStrike">
                <a:solidFill>
                  <a:srgbClr val="ff0000"/>
                </a:solidFill>
                <a:latin typeface="Times New Roman"/>
              </a:rPr>
              <a:t>定语从句合并每组句子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Times New Roman"/>
              </a:rPr>
              <a:t>1.The long bridge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still looks nic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400" spc="-1" strike="noStrike">
                <a:solidFill>
                  <a:srgbClr val="ff0000"/>
                </a:solidFill>
                <a:latin typeface="Times New Roman"/>
              </a:rPr>
              <a:t>The bridge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has been there f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nearly fifty year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077840" y="3809880"/>
            <a:ext cx="7710480" cy="2104920"/>
          </a:xfrm>
          <a:prstGeom prst="rect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1.The long </a:t>
            </a:r>
            <a:r>
              <a:rPr b="0" lang="zh-CN" sz="4400" spc="-1" strike="noStrike">
                <a:solidFill>
                  <a:srgbClr val="ff0000"/>
                </a:solidFill>
                <a:latin typeface="Times New Roman"/>
              </a:rPr>
              <a:t>bridge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400" spc="-1" strike="noStrike">
                <a:solidFill>
                  <a:srgbClr val="0033cc"/>
                </a:solidFill>
                <a:latin typeface="Times New Roman"/>
              </a:rPr>
              <a:t>which /that h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cc"/>
                </a:solidFill>
                <a:latin typeface="Times New Roman"/>
              </a:rPr>
              <a:t>  </a:t>
            </a:r>
            <a:r>
              <a:rPr b="0" lang="zh-CN" sz="4400" spc="-1" strike="noStrike">
                <a:solidFill>
                  <a:srgbClr val="0033cc"/>
                </a:solidFill>
                <a:latin typeface="Times New Roman"/>
              </a:rPr>
              <a:t>been there for nearly fifty years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still looks nice.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440720" y="914400"/>
            <a:ext cx="63864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zh-CN" sz="4400" spc="-1" strike="noStrike">
                <a:solidFill>
                  <a:srgbClr val="ff0000"/>
                </a:solidFill>
                <a:latin typeface="Times New Roman"/>
              </a:rPr>
              <a:t>He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has a great knowled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of biology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zh-CN" sz="4400" spc="-1" strike="noStrike">
                <a:solidFill>
                  <a:srgbClr val="ff0000"/>
                </a:solidFill>
                <a:latin typeface="Times New Roman"/>
              </a:rPr>
              <a:t>biologist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is a perso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365840" y="3505320"/>
            <a:ext cx="6974640" cy="2104920"/>
          </a:xfrm>
          <a:prstGeom prst="rect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zh-CN" sz="4400" spc="-1" strike="noStrike">
                <a:solidFill>
                  <a:srgbClr val="ff0000"/>
                </a:solidFill>
                <a:latin typeface="Times New Roman"/>
              </a:rPr>
              <a:t>biologist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is a person </a:t>
            </a:r>
            <a:r>
              <a:rPr b="0" lang="zh-CN" sz="4400" spc="-1" strike="noStrike">
                <a:solidFill>
                  <a:srgbClr val="0033cc"/>
                </a:solidFill>
                <a:latin typeface="Times New Roman"/>
              </a:rPr>
              <a:t>wh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cc"/>
                </a:solidFill>
                <a:latin typeface="Times New Roman"/>
              </a:rPr>
              <a:t>  </a:t>
            </a:r>
            <a:r>
              <a:rPr b="0" lang="zh-CN" sz="4400" spc="-1" strike="noStrike">
                <a:solidFill>
                  <a:srgbClr val="0033cc"/>
                </a:solidFill>
                <a:latin typeface="Times New Roman"/>
              </a:rPr>
              <a:t>has a great knowledge o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cc"/>
                </a:solidFill>
                <a:latin typeface="Times New Roman"/>
              </a:rPr>
              <a:t>  </a:t>
            </a:r>
            <a:r>
              <a:rPr b="0" lang="zh-CN" sz="4400" spc="-1" strike="noStrike">
                <a:solidFill>
                  <a:srgbClr val="0033cc"/>
                </a:solidFill>
                <a:latin typeface="Times New Roman"/>
              </a:rPr>
              <a:t>biology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2T11:28:47Z</dcterms:created>
  <dc:creator>Legend User</dc:creator>
  <dc:description/>
  <dc:language>en-US</dc:language>
  <cp:lastModifiedBy>Legend User</cp:lastModifiedBy>
  <dcterms:modified xsi:type="dcterms:W3CDTF">2002-09-30T10:33:22Z</dcterms:modified>
  <cp:revision>10</cp:revision>
  <dc:subject/>
  <dc:title>PowerPoint 演示文稿</dc:title>
</cp:coreProperties>
</file>