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2B9-1865-418A-99AD-D1619ABC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0A83-770C-47F3-A871-D7A75455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80DA-20D8-4D81-8B0A-6A01C367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55C5-8BF7-4369-A613-F8922891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7389-A7C6-4A0E-9F55-9D9E54EA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C1FD-2842-4906-A803-A583EDC8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AB85-F26D-476F-88C7-621AD628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7F66-4653-4099-9344-9AB21420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E1E9-F087-4F28-962C-38A0AE85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AEF5-3C59-4814-8913-61E15E33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7A29-7201-42FC-AA1C-6C628DDB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4AB2-CDE1-4BE3-BA59-B52A0BEA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EDB5-AD2F-49E2-BF1E-242F1568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B542-03B4-4113-8849-0AFF5B0E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49E3-5DFF-4803-BA1F-E576E90E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98F2-9229-49E7-8581-792BA504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DB02-989E-4084-9AE9-6CF07BDA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01DE-F8E1-4BB9-8B2E-EB19A499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EAE-DBA7-4266-922F-A6A5BC6E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033B-98BA-474A-93C6-4899CE8E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9C7-6E99-4086-B0D1-66B30556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BE15-9960-4321-95B7-9ED9695F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AED5-7F41-4D58-8A7F-215A96FF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B19-8ACB-4F9C-940C-D6382317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89A1-8343-4708-90D1-FECEE4815DDA}" type="slidenum"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E4CD-4C5D-4C3C-83CB-AEBB09C9A962}" type="slidenum"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1066680"/>
            <a:ext cx="7772400" cy="825120"/>
          </a:xfrm>
          <a:prstGeom prst="rect">
            <a:avLst/>
          </a:prstGeom>
          <a:noFill/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hose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在定语从句中的用法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3480" y="2590920"/>
            <a:ext cx="819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1.Mr King was taken to hospital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is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legs were badly hurt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760" y="4419720"/>
            <a:ext cx="8446680" cy="1556280"/>
          </a:xfrm>
          <a:prstGeom prst="rect">
            <a:avLst/>
          </a:prstGeom>
          <a:noFill/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1.Mr King,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hose legs were badly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urt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,was taken to hospital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1720" y="2057400"/>
            <a:ext cx="7785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7.Do you know Mrs Jackson,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___ daughter is a famous poet?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which                  B.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who                     D.of who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4343400"/>
            <a:ext cx="236196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46600" y="3962520"/>
            <a:ext cx="8597880" cy="1556280"/>
          </a:xfrm>
          <a:prstGeom prst="rect">
            <a:avLst/>
          </a:prstGeom>
          <a:noFill/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2.The boss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n whose department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Mr king worked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called at hostital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523880"/>
            <a:ext cx="927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2.The boss called at the hospital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Mr King worked in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his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department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12480" y="1523880"/>
            <a:ext cx="6515640" cy="4480920"/>
          </a:xfrm>
          <a:prstGeom prst="rect">
            <a:avLst/>
          </a:prstGeom>
          <a:noFill/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hose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取代 了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one’s,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表示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所属关系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hose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在从句中作定语，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与名词连用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hose =of which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，不能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省略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8800" y="1752480"/>
            <a:ext cx="775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1.I'd like a room____ windows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look out over the sea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whose             B.of 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of which         D.in whic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4038480"/>
            <a:ext cx="236232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8400" y="1828800"/>
            <a:ext cx="7768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2.I'd like a room____ the 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indows look out over the sea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whose             B.of 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of which         D.in whic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876920"/>
            <a:ext cx="236232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2800" y="1523880"/>
            <a:ext cx="817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3.The river____are covered wit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trees is very long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which banks         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B.of which banks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whose the banks   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D.the banks of whic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943600"/>
            <a:ext cx="510552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44880" y="1905120"/>
            <a:ext cx="8800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4.The book,____the cover is green 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belongs to the school library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of which       B.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that               D.whic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191120"/>
            <a:ext cx="236196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79800" y="1523880"/>
            <a:ext cx="8428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5.The old lady has two daughters,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____ are nurses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two of the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B.both of who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all of who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D.neither of the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4495680"/>
            <a:ext cx="380988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47000" y="1574640"/>
            <a:ext cx="7614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6.His parents wouldn’t let hi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marry anyone___ family was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poor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of whom            B.who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of whose            D.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5181480"/>
            <a:ext cx="236232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9T01:12:59Z</dcterms:created>
  <dc:creator>Legend User</dc:creator>
  <dc:description/>
  <dc:language>en-US</dc:language>
  <cp:lastModifiedBy>Legend User</cp:lastModifiedBy>
  <dcterms:modified xsi:type="dcterms:W3CDTF">2002-09-30T12:15:59Z</dcterms:modified>
  <cp:revision>3</cp:revision>
  <dc:subject/>
  <dc:title>PowerPoint 演示文稿</dc:title>
</cp:coreProperties>
</file>