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CB15-A5D9-42CC-88D5-6716D612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307-9B6E-460E-938A-2C80B5523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C3CA-6ABD-4DDA-B02C-7258AF53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52B-6C0F-45E7-9A03-6018751BF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1C86-65FE-49D3-B812-6067B0531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970-DCDE-4B91-8EF2-2C5B4BE9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76F7-8846-4283-A8C1-E2C17E151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45A9-B1F4-47DD-A095-41BC4F3AA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8A5F-9F27-4486-9B20-7448D6FC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7804-DD0D-4CD9-95A2-1E48C493C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80C5-8F9D-4A77-A11B-F8491F8E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1696C-1C17-4483-9DC5-8D7AD26E2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B585-4E12-452B-8752-8F221EDDE3A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457200"/>
            <a:ext cx="8458200" cy="57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. The White family are _____ breakfast in a ho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in Asw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for   B. at     C. on    D.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2. Pippa said she didn’t feel____very much that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walk   B. like to walk   C. walking   D. like wal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3.Then anyone____wants to can go for a walk ro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swan after the boat tri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who     B. which     C. what     D. Wh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4. I’d prefer ____some shopping tomorr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do     B. done     C. to do     D. D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5. The sun will burn you ___ you’re not care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A. unless   B. if     C. and      D.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stick" descr=""/>
          <p:cNvPicPr/>
          <p:nvPr/>
        </p:nvPicPr>
        <p:blipFill>
          <a:blip r:embed="rId2"/>
          <a:stretch/>
        </p:blipFill>
        <p:spPr>
          <a:xfrm>
            <a:off x="2133720" y="1523880"/>
            <a:ext cx="328320" cy="328680"/>
          </a:xfrm>
          <a:prstGeom prst="rect">
            <a:avLst/>
          </a:prstGeom>
          <a:ln w="0">
            <a:noFill/>
          </a:ln>
        </p:spPr>
      </p:pic>
      <p:pic>
        <p:nvPicPr>
          <p:cNvPr id="43" name="stick" descr=""/>
          <p:cNvPicPr/>
          <p:nvPr/>
        </p:nvPicPr>
        <p:blipFill>
          <a:blip r:embed="rId3"/>
          <a:stretch/>
        </p:blipFill>
        <p:spPr>
          <a:xfrm>
            <a:off x="6477120" y="2362320"/>
            <a:ext cx="328320" cy="328320"/>
          </a:xfrm>
          <a:prstGeom prst="rect">
            <a:avLst/>
          </a:prstGeom>
          <a:ln w="0">
            <a:noFill/>
          </a:ln>
        </p:spPr>
      </p:pic>
      <p:pic>
        <p:nvPicPr>
          <p:cNvPr id="44" name="stick" descr=""/>
          <p:cNvPicPr/>
          <p:nvPr/>
        </p:nvPicPr>
        <p:blipFill>
          <a:blip r:embed="rId4"/>
          <a:stretch/>
        </p:blipFill>
        <p:spPr>
          <a:xfrm>
            <a:off x="914400" y="3657600"/>
            <a:ext cx="328680" cy="328680"/>
          </a:xfrm>
          <a:prstGeom prst="rect">
            <a:avLst/>
          </a:prstGeom>
          <a:ln w="0">
            <a:noFill/>
          </a:ln>
        </p:spPr>
      </p:pic>
      <p:pic>
        <p:nvPicPr>
          <p:cNvPr id="45" name="stick" descr=""/>
          <p:cNvPicPr/>
          <p:nvPr/>
        </p:nvPicPr>
        <p:blipFill>
          <a:blip r:embed="rId5"/>
          <a:stretch/>
        </p:blipFill>
        <p:spPr>
          <a:xfrm>
            <a:off x="3733920" y="4495680"/>
            <a:ext cx="328320" cy="328680"/>
          </a:xfrm>
          <a:prstGeom prst="rect">
            <a:avLst/>
          </a:prstGeom>
          <a:ln w="0">
            <a:noFill/>
          </a:ln>
        </p:spPr>
      </p:pic>
      <p:pic>
        <p:nvPicPr>
          <p:cNvPr id="46" name="stick" descr=""/>
          <p:cNvPicPr/>
          <p:nvPr/>
        </p:nvPicPr>
        <p:blipFill>
          <a:blip r:embed="rId6"/>
          <a:stretch/>
        </p:blipFill>
        <p:spPr>
          <a:xfrm>
            <a:off x="2514600" y="5334120"/>
            <a:ext cx="328680" cy="32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838080" y="914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e Rescue of Abu Simb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09480" y="1600200"/>
          <a:ext cx="7391520" cy="4327560"/>
        </p:xfrm>
        <a:graphic>
          <a:graphicData uri="http://schemas.openxmlformats.org/drawingml/2006/table">
            <a:tbl>
              <a:tblPr/>
              <a:tblGrid>
                <a:gridCol w="2895840"/>
                <a:gridCol w="44956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rescued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sider,decide, marked …with,carried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yea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mone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 bill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0workers ,200 other peo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to vis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ther…or…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5800" y="838080"/>
            <a:ext cx="73152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on holiday/va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t break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enty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eel like do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fer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like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 the edg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lan/pay a visit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 in dan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nger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6781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Words and expressions in Unit 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95280" y="380880"/>
            <a:ext cx="4572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an-made pro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loo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tro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water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the N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980 meters w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se by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63 meter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/rais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ggest plan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c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sider: think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ove/on the water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 on the pro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marked with:ma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295280"/>
            <a:ext cx="84582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 Black"/>
              </a:rPr>
              <a:t>Introduction to Egyp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Capital city= Ca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Times New Roman"/>
              </a:rPr>
              <a:t>Population=53153000(199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pulation growth=2.7% (1987-199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fe expectancy= 62 (199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a=1000000sq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est=0sq k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Oral practice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1371600" y="198072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3333cc"/>
                </a:solidFill>
                <a:latin typeface="Times New Roman"/>
              </a:rPr>
              <a:t>Lesson 90-91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4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28808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pyram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38088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wan D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90720" y="1295280"/>
          <a:ext cx="7391160" cy="4030560"/>
        </p:xfrm>
        <a:graphic>
          <a:graphicData uri="http://schemas.openxmlformats.org/drawingml/2006/table">
            <a:tbl>
              <a:tblPr/>
              <a:tblGrid>
                <a:gridCol w="2241360"/>
                <a:gridCol w="514980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sons for building 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ood,destro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duce electricit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 3838 meters l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80 at the base-40 at the t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lake: 500k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lem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se by 63 ms, move 53,000 peopl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Times New Roman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mples in dang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"/>
          <p:cNvSpPr/>
          <p:nvPr/>
        </p:nvSpPr>
        <p:spPr>
          <a:xfrm>
            <a:off x="2666880" y="4572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swan D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288078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143000" y="91440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emple of Abu Sim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57913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s carved in the r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43000" y="9144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emple of Abu Simb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838080" y="9144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The Rescue of Abu Simbe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1600200"/>
          <a:ext cx="7391520" cy="4064040"/>
        </p:xfrm>
        <a:graphic>
          <a:graphicData uri="http://schemas.openxmlformats.org/drawingml/2006/table">
            <a:tbl>
              <a:tblPr/>
              <a:tblGrid>
                <a:gridCol w="2895840"/>
                <a:gridCol w="4495680"/>
              </a:tblGrid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rescued 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long: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much money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w to visi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7T02:42:59Z</dcterms:created>
  <dc:creator>qz</dc:creator>
  <dc:description/>
  <dc:language>en-US</dc:language>
  <cp:lastModifiedBy>蒋黎梅</cp:lastModifiedBy>
  <dcterms:modified xsi:type="dcterms:W3CDTF">2002-08-14T06:05:02Z</dcterms:modified>
  <cp:revision>30</cp:revision>
  <dc:subject/>
  <dc:title>Unit 23</dc:title>
</cp:coreProperties>
</file>