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F63BA-D4BC-4935-8BE9-936216068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385A6-7032-41AE-AE1D-BBB0B0721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3952E2-8E43-488B-A498-671E67097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F3821D-66B5-473C-95E5-F026255EB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42E7AD-ED2C-482B-B281-E15059F8D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388EB4-D57C-4C31-A44E-48EAA9BB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61659C-477D-4EBC-9870-150424DF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E7D783-0E1A-4622-8C94-F1DADD06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0793CE-EBBD-48E3-B9BA-9BD36DB2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E2CCE1-F5F8-43D7-852C-22DE46479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390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762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390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177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E8E1C9-BA8A-46A9-B0B6-45F54C523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BB3964-46F7-45BC-A12A-7DE26A48A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A447C-8449-418F-B7B9-042BF55DB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07C949-AA95-45F8-AAFB-0F2DAA62D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7C0DC4-1E77-4DE1-8354-A9F4884B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0F9E44-4761-4DE0-BF32-05C7B680B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4CF8CD-9C1D-400E-8883-1F5E679F2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9831B4-7404-41E4-A82F-3ABC8C121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08199A-78A3-4226-ABDD-4CE480C6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B67ECA-DEB7-4CE3-80D2-F9756B5C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C66CC1-B312-4A09-BB5F-B92F0DBB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45C21C-CAA0-472D-9B35-2074DCAA1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2D3F71-D919-4156-9EA3-49EFC9B8A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390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762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390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177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E97BB-81FA-412D-8440-2CC039179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390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762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390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177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E78C2B-5EF6-4599-9C13-753ABB135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B50C55C-2AAA-4980-8FE7-203213BCB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0626AA4-9A03-4E82-8F98-E4724F7DB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65EE6BB-A045-40A3-A979-9E58B67C4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1953AFD-5B2A-4B5C-9EDB-F1047C290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F47969E-6608-4778-A8C9-322DDF552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A2695BA-BE77-4E54-8B42-FCE007450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CF1D5A5-7D63-435F-BE12-3C892CB2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9740E7C-E490-45EB-B668-0877F371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1A15C9B-6518-4C87-A443-F0D2E526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2C013-5665-4DEE-A2FF-223D79720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B5C6C21-565B-4BC5-8A92-B148BDDE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80C4654-EA6C-4E2E-8DE4-D780F3A03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390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762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390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177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1B59439-46B2-4FEB-9A53-110925EC9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D65EFC-5598-42B0-A1F7-454DCE856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1EF535-6D32-47EB-B2C0-02D06588F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1CAE46-C8E6-4B36-8F9E-A84BB6142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14C619-25CA-4B46-A549-E7075BFAF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4F74D2-39DA-417C-8BC5-F8E2FD8AE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C4B371-8D10-4826-BF38-D5B2324C9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682951-0892-4714-9B20-7726DD2A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BADF2-BAE1-48B9-BFB3-ED3106E7E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FB58FA-1A12-4C63-BFB3-4C91A2DA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019371-9168-4D0B-A1BE-CAFE8EC8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8F9BF7-6612-42C1-98B1-75F830B4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3280C8-CB2A-4FEB-913A-6EE42A045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390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762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390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177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50850D-F7ED-460D-AE24-748286F95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D85BAB0-9659-499F-8252-3006CEDCC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DD6A62F-A1F9-449F-BDE3-23310C6B6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F982C34-171C-4CA6-A8DD-584D7FA75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AE825C5-6DE4-4987-8840-1BE3B9DC4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9CAF8F2-3A2E-4F44-8800-75E2E970D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CEB2C-5EEE-4F93-B254-37FA908CB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3475B7A-072E-42F2-BA57-B3789FF0E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6216531-2B74-4131-A74D-503EC770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59E7A5B-1E02-436B-8CB9-3037A842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B1DFEDF-C71C-4F49-8180-CEE7C9FD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2B08FF4-B10C-40B1-BDF4-A177ED3C6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E66EBF8-8D63-473F-B1D6-1845FA290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3390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762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3390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60177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0A7CF42-C2B1-45AE-8194-97A151BDE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0D25C-6D56-4420-847A-2481FCDA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A9515-BF6D-4A2E-89C3-6627AC1D8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05E9E-7C03-47D9-B3CF-54EDD313E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954BF-BF1D-484C-A1D0-C98CD93B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4C695-6FEA-43E4-80D9-71AC2AFFC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E842C-F813-434B-A144-5E424A0A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D75D4-73FF-42E1-8D18-EFD5E03D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B3228-B20E-49C1-8D0F-09C5E9302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50EDA-1777-4B80-99DE-CFC64EDB2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90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762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90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177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A6C20-2466-49B4-99D5-1ADF0A6CC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4316F-5D6B-4507-B6DF-876178DE7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4A7E1-AB61-488B-9102-048BFAA5A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6AA3B-70E2-4EBA-8AB4-D49AFBE43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384AE-E24F-4C21-AA03-DC447C3A0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B2727-67E5-4252-A6D1-14B640BC0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5DBD2-F04E-4F07-BE5A-FBBFC3CE4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74252-35E7-4A82-81D1-852731207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711D2-BF31-4E72-B52C-B3ECE157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04725-BB04-41B8-B84B-5B1FC5CC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399E5-8974-4578-AFE8-36DDD4ED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46EB0-2B2D-4D8F-AC4A-8276CA51C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ACC2F-4A37-4BA4-B7C5-35011F045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390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762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390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177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10468-0684-4C9C-9CB2-3F295A9A0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90BBF-9364-4BB1-8CA2-93C05FC98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C5605-0197-4B45-9BE7-CA2960230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FE2A1-2427-48E3-A920-D8164CF0E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68067-0DC0-43D4-BA0D-04CC2603C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B6763-BA82-4BB1-ADB0-B5563823C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7D3AD-2AA6-4930-B02B-137217660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66422-38D8-4437-8623-7D880F782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07DE4-6669-451F-BC9D-63BC4E19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89BED-FD1A-48E3-9AD6-7E6D71CE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E7CCD-0F15-4776-AC7A-9727ED8A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B7B05-0270-456A-98BF-2B8D29270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12667-74DB-4F9F-898F-BC5FFFF49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390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762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390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177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72BB0-5884-4765-AA4E-8A33AE1D2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D713A-03DA-434E-88B5-C92F6946A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48D00-2389-4B09-B126-58F70548C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0527B-FA00-4153-854D-D7DCA2B7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36168-C45A-4FC7-B737-2B1471BF9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2AE45-A7EA-429F-8C73-5139B90ED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68286-2D7B-4D1C-9DA0-C63B6296C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88B13-5D10-4E61-BA25-C5246CFBF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DBB92-0D64-4E3D-AACC-21795656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AA1F5-F8CA-4701-9052-60ADE4B6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0A65C-CECB-4997-B9C4-707C842A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8EE9D-4CBB-4350-BB31-A778E0714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EE84A-D4B6-4C28-ABDE-EF0E958A4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35820-E4E8-409D-B79D-AE857C54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390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762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390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177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DB3E9-545A-4B0D-9E0E-8BA7146EA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D00374-19D2-473E-B4A1-CCC6F8719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A2585A-BFEC-4C48-8499-2167328B5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314E71-D885-4C93-A13F-956522EC7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AFB92B-C93E-45D2-93E0-BC46D0F3B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E04361-EA9A-4B46-88EE-E4375A84E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B0E71D-07D7-40AB-8E8B-9F11799EC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B3681E-F86B-4115-81EC-12815A51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E2C2AB-6B37-4DE7-B4CA-DF0E6561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560D09-7077-4F0A-815F-33C36C69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77FB5-ADEE-4C41-AC64-5CFEF3B6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76C107-749C-45A6-B556-AB98C570A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51D933-AE90-47F6-8612-A48B6C4F4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390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762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390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177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30EEE6-0D52-415B-908F-5DAAD89D1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133D018-7F29-4793-98EF-EC7D88E4190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B5E9023-7E73-4382-9891-BD8BFB958F8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80E950C-BD85-4E17-AE7C-E6C5A7D36F5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76ECCF5-DCDE-4CE1-A3B8-6DC96589C32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FEA2911-6AE9-40B4-A956-7F5ABDE7C3B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A0F9941-171D-4C01-809F-3091230ABDF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B014EDF-410F-4C5A-893D-4F530C62D4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72D82-ABA5-4AE8-A221-B572DBF4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54C8B7C-2C24-461B-AF0E-764AEB70CDE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A3648C7-33BB-48C5-9AB7-56C62952FB3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67193BE-5CA4-4BC2-9D35-F6A2916437B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6D95251-05E0-4C99-B0DA-617443AA40A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390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762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390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177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F763569-CA9F-4F1B-822F-F76C73E054F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458D7ED-A431-4D0F-A4D0-D5041C95D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79A8FC0-9EAD-4691-998A-D64945CB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23CEDB-9C5B-40CA-8F99-CF00A7D57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7DA23B5-3955-45E4-8F7E-8B697E136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CEB2FEC-1385-49EF-BDF7-E669D6983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7F5C7-0CE9-4BE3-AC10-A9293FAF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688865A-79D3-46F4-833B-E5E9CF457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D1A17CD-7877-4830-A800-D75F2B3F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F0559DB-A758-4C20-A7F3-9AE749D3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4D607D9-8F32-455F-88B8-ADA2A159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BE20FE9-D165-4A39-9175-AE4578D96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A4A5A32-E13E-42AB-9B9E-A173C752C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90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762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90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177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81DD0D7-A2B0-4CFA-999C-43CFD5851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09261E-DA0C-4559-A1E7-92967E240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095EE2-45A8-4FBD-905A-9FAEC32F0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D9CE8A-6878-41B3-BF38-6089101C1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9379E-E92B-47A2-A08E-E352E04CEF57}" type="slidenum">
              <a:rPr b="0" lang="zh-CN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30391-83B8-449A-86B3-7CFC00D2CD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981080" y="533520"/>
            <a:ext cx="38124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62120" y="10666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143000" y="685800"/>
            <a:ext cx="38088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362320" y="1522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99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sp>
          <p:nvSpPr>
            <p:cNvPr id="515" name=""/>
            <p:cNvSpPr/>
            <p:nvPr/>
          </p:nvSpPr>
          <p:spPr>
            <a:xfrm>
              <a:off x="0" y="2286000"/>
              <a:ext cx="533520" cy="533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33520" y="281916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7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29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30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31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0F0A8-A58C-48E1-89B0-792B3CE41859}" type="slidenum">
              <a:rPr b="1" lang="zh-CN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sp>
          <p:nvSpPr>
            <p:cNvPr id="522" name=""/>
            <p:cNvSpPr/>
            <p:nvPr/>
          </p:nvSpPr>
          <p:spPr>
            <a:xfrm>
              <a:off x="1981440" y="533520"/>
              <a:ext cx="38088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143000" y="685800"/>
              <a:ext cx="38124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566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573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9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dt" idx="32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ftr" idx="33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sldNum" idx="34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D9C2D-1A3F-4DD6-AB48-F3DA4FF54790}" type="slidenum">
              <a:rPr b="1" lang="zh-CN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622" name="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28" name="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629" name="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632" name="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635" name="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638" name="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 type="dt" idx="35"/>
          </p:nvPr>
        </p:nvSpPr>
        <p:spPr>
          <a:xfrm>
            <a:off x="6705720" y="5486400"/>
            <a:ext cx="18288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8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 type="ftr" idx="3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 type="sldNum" idx="3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EC0C-FEDE-4288-899B-782631F4C04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52131-B0F1-4AA6-8054-7505FC1BB50E}" type="slidenum">
              <a:rPr b="0" lang="zh-CN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27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3B269-85E8-4BFF-B376-3F548F62B1D2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171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dt" idx="10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ftr" idx="11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12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943D7-AAD8-4CF3-A4CD-2C8284113D8E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14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18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9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20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27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ACD5F-58CD-4B23-B3BA-291676F6D3F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75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79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81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88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BC10F-CD05-403D-96D0-CD4BB11F03A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0" y="4303800"/>
            <a:ext cx="9144000" cy="255420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3"/>
          <a:stretch/>
        </p:blipFill>
        <p:spPr>
          <a:xfrm>
            <a:off x="8686800" y="64008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sldNum" idx="19"/>
          </p:nvPr>
        </p:nvSpPr>
        <p:spPr>
          <a:xfrm>
            <a:off x="8686800" y="6459480"/>
            <a:ext cx="380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2D862-87C1-4A00-8B17-196D2136C8D2}" type="slidenum">
              <a:rPr b="0" lang="zh-CN" sz="1400" spc="-1" strike="noStrike">
                <a:solidFill>
                  <a:srgbClr val="ffff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4"/>
          <a:stretch/>
        </p:blipFill>
        <p:spPr>
          <a:xfrm>
            <a:off x="60948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2438280" y="762120"/>
            <a:ext cx="60199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title"/>
          </p:nvPr>
        </p:nvSpPr>
        <p:spPr>
          <a:xfrm>
            <a:off x="861480" y="774720"/>
            <a:ext cx="114300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77" name="" descr=""/>
            <p:cNvPicPr/>
            <p:nvPr/>
          </p:nvPicPr>
          <p:blipFill>
            <a:blip r:embed="rId2"/>
            <a:stretch/>
          </p:blipFill>
          <p:spPr>
            <a:xfrm>
              <a:off x="1676520" y="4772160"/>
              <a:ext cx="7467480" cy="20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685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" descr=""/>
            <p:cNvPicPr/>
            <p:nvPr/>
          </p:nvPicPr>
          <p:blipFill>
            <a:blip r:embed="rId4"/>
            <a:stretch/>
          </p:blipFill>
          <p:spPr>
            <a:xfrm>
              <a:off x="304920" y="1371600"/>
              <a:ext cx="8534160" cy="377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dt" idx="2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ftr" idx="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sldNum" idx="2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56CAE-A742-44E6-A706-7C116B450C8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0201B-2EA9-44E6-B595-ADB972D230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1187280" y="2449440"/>
            <a:ext cx="6626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5. </a:t>
            </a:r>
            <a:r>
              <a:rPr b="1" lang="en-US" sz="4800" spc="-1" strike="noStrike">
                <a:solidFill>
                  <a:srgbClr val="ffff00"/>
                </a:solidFill>
                <a:latin typeface="Arial Black"/>
              </a:rPr>
              <a:t>why don’t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you do something about it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/>
          </p:nvPr>
        </p:nvSpPr>
        <p:spPr>
          <a:xfrm>
            <a:off x="324000" y="1989000"/>
            <a:ext cx="85327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1. There seems (to be)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2. I would like you to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3. It  looks as if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4. I insist that you (should)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5. why don’t you do something about it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2843280" y="981000"/>
            <a:ext cx="339084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Black"/>
              </a:rPr>
              <a:t>Oral practi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7" name="" descr=""/>
          <p:cNvPicPr/>
          <p:nvPr/>
        </p:nvPicPr>
        <p:blipFill>
          <a:blip r:embed="rId1"/>
          <a:stretch/>
        </p:blipFill>
        <p:spPr>
          <a:xfrm>
            <a:off x="468360" y="441360"/>
            <a:ext cx="8136000" cy="5840280"/>
          </a:xfrm>
          <a:prstGeom prst="rect">
            <a:avLst/>
          </a:prstGeom>
          <a:ln w="0">
            <a:noFill/>
          </a:ln>
        </p:spPr>
      </p:pic>
      <p:sp>
        <p:nvSpPr>
          <p:cNvPr id="698" name=""/>
          <p:cNvSpPr txBox="1"/>
          <p:nvPr/>
        </p:nvSpPr>
        <p:spPr>
          <a:xfrm>
            <a:off x="3203640" y="1628640"/>
            <a:ext cx="2727360" cy="169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hank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3132000" y="2997360"/>
            <a:ext cx="3168720" cy="12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anks</a:t>
            </a:r>
            <a:endParaRPr b="1" lang="en-US" sz="4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339640" y="1341000"/>
            <a:ext cx="4103640" cy="107964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Black"/>
              </a:rPr>
              <a:t>At the shop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2" name=""/>
          <p:cNvSpPr/>
          <p:nvPr/>
        </p:nvSpPr>
        <p:spPr>
          <a:xfrm>
            <a:off x="1403280" y="3429000"/>
            <a:ext cx="6265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Black"/>
              </a:rPr>
              <a:t>How to talk when shopping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331640" y="1773360"/>
            <a:ext cx="6264360" cy="30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 Black"/>
              </a:rPr>
              <a:t>What’s happening?</a:t>
            </a:r>
            <a:br>
              <a:rPr sz="48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shop assistant and a customer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6840" y="1988640"/>
            <a:ext cx="8939160" cy="403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10080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3300"/>
                </a:solidFill>
                <a:latin typeface="Arial Black"/>
              </a:rPr>
              <a:t>?</a:t>
            </a:r>
            <a:r>
              <a:rPr b="0" lang="en-US" sz="9600" spc="-1" strike="noStrike">
                <a:solidFill>
                  <a:srgbClr val="e3e3ff"/>
                </a:solidFill>
                <a:latin typeface="Arial Black"/>
              </a:rPr>
              <a:t> </a:t>
            </a:r>
            <a:r>
              <a:rPr b="0" lang="en-US" sz="9600" spc="-1" strike="noStrike">
                <a:solidFill>
                  <a:srgbClr val="e3e3ff"/>
                </a:solidFill>
                <a:latin typeface="Arial"/>
              </a:rPr>
              <a:t>    </a:t>
            </a:r>
            <a:endParaRPr b="0" lang="en-US" sz="9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68360" y="1457280"/>
            <a:ext cx="8424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Black"/>
              </a:rPr>
              <a:t>1 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what did the customer buy 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2 Why did she return to the sho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3 what did she want the assistant to d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4 what did they both agree to do at la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8" name=""/>
          <p:cNvSpPr/>
          <p:nvPr/>
        </p:nvSpPr>
        <p:spPr>
          <a:xfrm>
            <a:off x="3434760" y="3213000"/>
            <a:ext cx="190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anguage stud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2411280" y="2492280"/>
            <a:ext cx="43196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anguage study</a:t>
            </a:r>
            <a:endParaRPr b="0" lang="en-US" sz="4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900000" y="2133720"/>
            <a:ext cx="7201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1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. </a:t>
            </a:r>
            <a:r>
              <a:rPr b="1" lang="en-US" sz="4800" spc="-1" strike="noStrike">
                <a:solidFill>
                  <a:srgbClr val="ffff00"/>
                </a:solidFill>
                <a:latin typeface="Arial Black"/>
              </a:rPr>
              <a:t>There seems to be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something wrong with it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1116000" y="2349360"/>
            <a:ext cx="7416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2. I </a:t>
            </a:r>
            <a:r>
              <a:rPr b="1" lang="en-US" sz="4800" spc="-1" strike="noStrike">
                <a:solidFill>
                  <a:srgbClr val="ffff00"/>
                </a:solidFill>
                <a:latin typeface="Arial Black"/>
              </a:rPr>
              <a:t>would like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you </a:t>
            </a:r>
            <a:r>
              <a:rPr b="1" lang="en-US" sz="4800" spc="-1" strike="noStrike">
                <a:solidFill>
                  <a:srgbClr val="ffff00"/>
                </a:solidFill>
                <a:latin typeface="Arial Black"/>
              </a:rPr>
              <a:t>to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change this blouse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395280" y="2149560"/>
            <a:ext cx="8640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3. </a:t>
            </a:r>
            <a:r>
              <a:rPr b="1" lang="en-US" sz="4800" spc="-1" strike="noStrike">
                <a:solidFill>
                  <a:srgbClr val="ffff00"/>
                </a:solidFill>
                <a:latin typeface="Arial Black"/>
              </a:rPr>
              <a:t>It looks as if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it has not been washed following the instruction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539640" y="2378160"/>
            <a:ext cx="820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4. I </a:t>
            </a:r>
            <a:r>
              <a:rPr b="1" lang="en-US" sz="4800" spc="-1" strike="noStrike">
                <a:solidFill>
                  <a:srgbClr val="ffff00"/>
                </a:solidFill>
                <a:latin typeface="Arial Black"/>
              </a:rPr>
              <a:t>insist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that you give me my money back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3:21:52Z</dcterms:created>
  <dc:creator>zz</dc:creator>
  <dc:description/>
  <dc:language>en-US</dc:language>
  <cp:lastModifiedBy>Legend User</cp:lastModifiedBy>
  <dcterms:modified xsi:type="dcterms:W3CDTF">2002-12-01T06:49:10Z</dcterms:modified>
  <cp:revision>18</cp:revision>
  <dc:subject/>
  <dc:title>介绍演讲者</dc:title>
</cp:coreProperties>
</file>