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9.gif" ContentType="image/gif"/>
  <Override PartName="/ppt/media/image25.wmf" ContentType="image/x-wmf"/>
  <Override PartName="/ppt/media/image27.wmf" ContentType="image/x-wmf"/>
  <Override PartName="/ppt/media/image22.wmf" ContentType="image/x-wmf"/>
  <Override PartName="/ppt/media/image21.gif" ContentType="image/gif"/>
  <Override PartName="/ppt/media/image10.jpeg" ContentType="image/jpeg"/>
  <Override PartName="/ppt/media/image19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30.gif" ContentType="image/gif"/>
  <Override PartName="/ppt/media/image16.wmf" ContentType="image/x-wmf"/>
  <Override PartName="/ppt/media/image33.wmf" ContentType="image/x-wmf"/>
  <Override PartName="/ppt/media/image34.png" ContentType="image/png"/>
  <Override PartName="/ppt/media/image35.wmf" ContentType="image/x-wmf"/>
  <Override PartName="/ppt/media/image3.jpeg" ContentType="image/jpeg"/>
  <Override PartName="/ppt/media/image6.jpeg" ContentType="image/jpeg"/>
  <Override PartName="/ppt/media/image12.wmf" ContentType="image/x-wmf"/>
  <Override PartName="/ppt/media/image36.wmf" ContentType="image/x-wmf"/>
  <Override PartName="/ppt/media/image4.jpeg" ContentType="image/jpeg"/>
  <Override PartName="/ppt/media/image32.wmf" ContentType="image/x-wmf"/>
  <Override PartName="/ppt/media/image2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gif" ContentType="image/gif"/>
  <Override PartName="/ppt/media/image15.wmf" ContentType="image/x-wmf"/>
  <Override PartName="/ppt/media/image13.wmf" ContentType="image/x-wmf"/>
  <Override PartName="/ppt/media/image1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068-F282-4A4E-9BBA-6C64D4F8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7F0-CB71-425B-81AE-EEA74E9D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00F-88EB-433B-AA73-48162D2C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103-A78D-49A3-BDAF-3E6B5CFE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16E-59CA-48F8-AED1-B1C41FF1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90A-01CA-4F37-990D-99AE28BE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495-446C-4769-B7DE-5273C0EF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6FB-9B0E-4FFD-87D2-06052F4D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789-9F20-4902-9A89-AEE12913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5D4-31B5-4000-B8E4-C85E7FDD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5F8-0A92-4509-BD53-B0FE00C6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265-3055-4464-BE56-9464EBC2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4C0F-5D24-4859-A41C-DAAADF9E2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gif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7.xml"/><Relationship Id="rId12" Type="http://schemas.openxmlformats.org/officeDocument/2006/relationships/slide" Target="slide21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" Target="slide16.xml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8.wmf"/><Relationship Id="rId3" Type="http://schemas.openxmlformats.org/officeDocument/2006/relationships/image" Target="../media/image32.wmf"/><Relationship Id="rId4" Type="http://schemas.openxmlformats.org/officeDocument/2006/relationships/slide" Target="slide16.xml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image" Target="../media/image4.jpeg"/><Relationship Id="rId5" Type="http://schemas.openxmlformats.org/officeDocument/2006/relationships/slide" Target="slide9.xml"/><Relationship Id="rId6" Type="http://schemas.openxmlformats.org/officeDocument/2006/relationships/image" Target="../media/image5.jpeg"/><Relationship Id="rId7" Type="http://schemas.openxmlformats.org/officeDocument/2006/relationships/slide" Target="slide11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0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12.xml"/><Relationship Id="rId16" Type="http://schemas.openxmlformats.org/officeDocument/2006/relationships/image" Target="../media/image10.jpe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1752480"/>
          <a:ext cx="914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752480"/>
                    <a:ext cx="914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791320" y="57150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33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715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Times New Roman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5029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715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ccff"/>
                </a:solidFill>
                <a:latin typeface="Times New Roman"/>
              </a:rPr>
              <a:t>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71800" y="1219320"/>
            <a:ext cx="2809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alisto MT"/>
              </a:rPr>
              <a:t>Lesson 9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NewsMedia_90034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6477120"/>
            <a:ext cx="60948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0"/>
            <a:ext cx="83818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Every year , a lot of people join the activit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 of planting tre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ewsMedia_16369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wedgeEllipseCallout">
            <a:avLst>
              <a:gd name="adj1" fmla="val -293750"/>
              <a:gd name="adj2" fmla="val 69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0"/>
            <a:ext cx="7772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is is a new way to collect the rubbish, very machiner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机械化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20913019b_2" descr=""/>
          <p:cNvPicPr/>
          <p:nvPr/>
        </p:nvPicPr>
        <p:blipFill>
          <a:blip r:embed="rId1"/>
          <a:stretch/>
        </p:blipFill>
        <p:spPr>
          <a:xfrm flipH="1">
            <a:off x="-305280" y="0"/>
            <a:ext cx="9448920" cy="67327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0"/>
            <a:ext cx="7162560" cy="1922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nimals can live with people friendly and peacefull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平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 can 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1.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2.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3.Do you have any good idea to protec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(think about i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13480" y="3666960"/>
            <a:ext cx="17305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7560"/>
            <a:ext cx="8610480" cy="65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1.pour ….into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倾泻…进入…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2. die,death, d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3. be afraid of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担心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害怕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4. Write a story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报道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about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5. for a year,(for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一段时间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6. since you join Greener China(since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过去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gichat" descr=""/>
          <p:cNvPicPr/>
          <p:nvPr/>
        </p:nvPicPr>
        <p:blipFill>
          <a:blip r:embed="rId1"/>
          <a:stretch/>
        </p:blipFill>
        <p:spPr>
          <a:xfrm>
            <a:off x="7415280" y="914400"/>
            <a:ext cx="172872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629400" y="228600"/>
            <a:ext cx="25146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注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"/>
            <a:ext cx="5715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Read the dialogue on page 11 again and answer the questio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143000"/>
            <a:ext cx="83818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Where has Hu Lan just been t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Why has the river near the factory become dir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What has happened to the fish in the ri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 What does Greener China want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 Why are they going to write to the TV station and the newspap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 Do you like take care of the environment ? Why or why no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 What can you do to improve the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21337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30492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ga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99" name="pucca" descr=""/>
          <p:cNvPicPr/>
          <p:nvPr/>
        </p:nvPicPr>
        <p:blipFill>
          <a:blip r:embed="rId2"/>
          <a:stretch/>
        </p:blipFill>
        <p:spPr>
          <a:xfrm>
            <a:off x="6324480" y="4781520"/>
            <a:ext cx="1227240" cy="11127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297180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809880" y="20574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483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21337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97180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3809880" y="2895480"/>
            <a:ext cx="838440" cy="8384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483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3809880" y="12193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21337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3" action="ppaction://hlinksldjump"/>
          </p:cNvPr>
          <p:cNvSpPr/>
          <p:nvPr/>
        </p:nvSpPr>
        <p:spPr>
          <a:xfrm>
            <a:off x="297180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2680" y="457200"/>
            <a:ext cx="60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685800"/>
            <a:ext cx="6324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Have you ever smok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Have you ever picked flowers or stepped on the grass in a pa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A0106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295960"/>
            <a:ext cx="175104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590920" y="762120"/>
            <a:ext cx="4419360" cy="1371600"/>
            <a:chOff x="2590920" y="762120"/>
            <a:chExt cx="4419360" cy="1371600"/>
          </a:xfrm>
        </p:grpSpPr>
        <p:sp>
          <p:nvSpPr>
            <p:cNvPr id="115" name=""/>
            <p:cNvSpPr/>
            <p:nvPr/>
          </p:nvSpPr>
          <p:spPr>
            <a:xfrm>
              <a:off x="2590920" y="762120"/>
              <a:ext cx="44193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990720"/>
              <a:ext cx="40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No smoking he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2480" y="3200400"/>
            <a:ext cx="3124080" cy="1676160"/>
            <a:chOff x="1752480" y="3200400"/>
            <a:chExt cx="3124080" cy="1676160"/>
          </a:xfrm>
        </p:grpSpPr>
        <p:sp>
          <p:nvSpPr>
            <p:cNvPr id="118" name=""/>
            <p:cNvSpPr/>
            <p:nvPr/>
          </p:nvSpPr>
          <p:spPr>
            <a:xfrm>
              <a:off x="1752480" y="3200400"/>
              <a:ext cx="3124080" cy="167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6720" y="3200400"/>
              <a:ext cx="3039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Don’t step  on the gras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19920" y="2819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78084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if0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46600" cy="537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0"/>
            <a:ext cx="7696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( could you stop….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057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aw pictures ,on the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990720"/>
            <a:ext cx="1371600" cy="685800"/>
          </a:xfrm>
          <a:prstGeom prst="smileyFace">
            <a:avLst>
              <a:gd name="adj" fmla="val -465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1680" y="5662440"/>
            <a:ext cx="119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400" y="304920"/>
            <a:ext cx="77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953240" cy="494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148896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gif01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194440"/>
            <a:ext cx="1303200" cy="12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4480" y="1143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stop cutting down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143000"/>
            <a:ext cx="2286000" cy="1371600"/>
          </a:xfrm>
          <a:prstGeom prst="cloudCallout">
            <a:avLst>
              <a:gd name="adj1" fmla="val 64305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8320" y="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5181840" cy="3695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80320" y="5181480"/>
            <a:ext cx="1363680" cy="135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400" y="0"/>
            <a:ext cx="1752480" cy="2057400"/>
          </a:xfrm>
          <a:prstGeom prst="cloudCallout">
            <a:avLst>
              <a:gd name="adj1" fmla="val 57606"/>
              <a:gd name="adj2" fmla="val 73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57200"/>
            <a:ext cx="1523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</a:rPr>
              <a:t>Stop  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1219320"/>
            <a:ext cx="3886200" cy="190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n’t throw l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th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343400"/>
            <a:ext cx="388620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draw 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public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D06455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52480" y="838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13372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Every year we should plant more trees and flowers.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can pick the beautiful flowers in parks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07%5B2%5D" descr=""/>
          <p:cNvPicPr/>
          <p:nvPr/>
        </p:nvPicPr>
        <p:blipFill>
          <a:blip r:embed="rId1"/>
          <a:stretch/>
        </p:blipFill>
        <p:spPr>
          <a:xfrm>
            <a:off x="7238880" y="505764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flipV="1">
            <a:off x="457200" y="914040"/>
            <a:ext cx="3809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吸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666880"/>
            <a:ext cx="38862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乱图乱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600200"/>
            <a:ext cx="41911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不要乱砍乱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419112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.Don't cut down the trees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. Don't draw pictures on the wal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.No smoking here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2286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Find the the right 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D00448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92960" y="5905440"/>
            <a:ext cx="8510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0560" y="1371600"/>
            <a:ext cx="690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 We should not throw about wa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batterie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电池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should put different rubbish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into different dustbin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箱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无标题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99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905120"/>
            <a:ext cx="7467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Do you keep your classroom clean and ti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Do you clean your bedroom every 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00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3080" y="5335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209680"/>
            <a:ext cx="79232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car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刻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r name on a 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very year we should plant more trees and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Students may put waste paper in a wastebas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irl1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7200" y="304920"/>
            <a:ext cx="1084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nalimb" descr=""/>
          <p:cNvPicPr/>
          <p:nvPr/>
        </p:nvPicPr>
        <p:blipFill>
          <a:blip r:embed="rId1"/>
          <a:stretch/>
        </p:blipFill>
        <p:spPr>
          <a:xfrm>
            <a:off x="2868480" y="914400"/>
            <a:ext cx="3356280" cy="495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1447920" cy="144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28600"/>
            <a:ext cx="5638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y a sentence with the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tree3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353040" cy="2822400"/>
          </a:xfrm>
          <a:prstGeom prst="rect">
            <a:avLst/>
          </a:prstGeom>
          <a:ln w="0">
            <a:noFill/>
          </a:ln>
        </p:spPr>
      </p:pic>
      <p:pic>
        <p:nvPicPr>
          <p:cNvPr id="165" name="SY01265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40720" y="5791320"/>
            <a:ext cx="503280" cy="1066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1219320"/>
            <a:ext cx="2590560" cy="1752480"/>
          </a:xfrm>
          <a:prstGeom prst="cloudCallout">
            <a:avLst>
              <a:gd name="adj1" fmla="val -86027"/>
              <a:gd name="adj2" fmla="val 5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urt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286000"/>
            <a:ext cx="8153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1.Read and listen  the dialogue .(at least 3 times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2.Recite the words and 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3. Finish the exercise 2 on page 10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gif056%5B1%5D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9880" y="609480"/>
            <a:ext cx="2210040" cy="1451160"/>
          </a:xfrm>
          <a:prstGeom prst="rect">
            <a:avLst/>
          </a:prstGeom>
          <a:ln w="0">
            <a:noFill/>
          </a:ln>
        </p:spPr>
      </p:pic>
      <p:pic>
        <p:nvPicPr>
          <p:cNvPr id="53" name="kill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666880"/>
            <a:ext cx="3276720" cy="1513080"/>
          </a:xfrm>
          <a:prstGeom prst="rect">
            <a:avLst/>
          </a:prstGeom>
          <a:ln w="0">
            <a:noFill/>
          </a:ln>
        </p:spPr>
      </p:pic>
      <p:pic>
        <p:nvPicPr>
          <p:cNvPr id="54" name="NewsMedia_12860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590920"/>
            <a:ext cx="1905120" cy="2247840"/>
          </a:xfrm>
          <a:prstGeom prst="rect">
            <a:avLst/>
          </a:prstGeom>
          <a:ln w="0">
            <a:noFill/>
          </a:ln>
        </p:spPr>
      </p:pic>
      <p:pic>
        <p:nvPicPr>
          <p:cNvPr id="55" name="NewsMedia_16369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24480" y="4876920"/>
            <a:ext cx="257184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NewsMedia_16668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3276720" cy="2178000"/>
          </a:xfrm>
          <a:prstGeom prst="rect">
            <a:avLst/>
          </a:prstGeom>
          <a:ln w="0">
            <a:noFill/>
          </a:ln>
        </p:spPr>
      </p:pic>
      <p:pic>
        <p:nvPicPr>
          <p:cNvPr id="57" name="NewsMedia_90034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419720"/>
            <a:ext cx="2971800" cy="1973160"/>
          </a:xfrm>
          <a:prstGeom prst="rect">
            <a:avLst/>
          </a:prstGeom>
          <a:ln w="0">
            <a:noFill/>
          </a:ln>
        </p:spPr>
      </p:pic>
      <p:pic>
        <p:nvPicPr>
          <p:cNvPr id="58" name="NewsMedia_207984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248520" y="304920"/>
            <a:ext cx="3333600" cy="2314440"/>
          </a:xfrm>
          <a:prstGeom prst="rect">
            <a:avLst/>
          </a:prstGeom>
          <a:ln w="0">
            <a:noFill/>
          </a:ln>
        </p:spPr>
      </p:pic>
      <p:pic>
        <p:nvPicPr>
          <p:cNvPr id="59" name="020913019b_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352680" y="4800600"/>
            <a:ext cx="228600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NewsMedia_196856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895480" y="2286000"/>
            <a:ext cx="3810240" cy="242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28600" y="0"/>
            <a:ext cx="9372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To the nature, what have we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what should we d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6756480" cy="3500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0" y="169704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66680" y="1219320"/>
            <a:ext cx="60962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57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ickyka@s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ewsMedia_166686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2294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381880" y="64008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0"/>
            <a:ext cx="8077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picture showed sandstorm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沙尘暴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this summer,it happened in Beijing and Tianjin and many other citie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2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5516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29600" y="6553080"/>
            <a:ext cx="457200" cy="30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477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If we don’t pay attention to the environment , maybe one day , we will be like this person here, using the mask(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面具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Do you think s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NewsMedia_2079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493"/>
                </a:moveTo>
                <a:lnTo>
                  <a:pt x="20776" y="7493"/>
                </a:lnTo>
                <a:lnTo>
                  <a:pt x="20776" y="12828"/>
                </a:lnTo>
                <a:cubicBezTo>
                  <a:pt x="20776" y="13751"/>
                  <a:pt x="21576" y="14482"/>
                  <a:pt x="22612" y="14482"/>
                </a:cubicBezTo>
                <a:lnTo>
                  <a:pt x="24275" y="14482"/>
                </a:lnTo>
                <a:cubicBezTo>
                  <a:pt x="25310" y="14482"/>
                  <a:pt x="26111" y="13751"/>
                  <a:pt x="26111" y="12828"/>
                </a:cubicBezTo>
                <a:lnTo>
                  <a:pt x="26111" y="7493"/>
                </a:lnTo>
                <a:lnTo>
                  <a:pt x="24275" y="7493"/>
                </a:lnTo>
                <a:lnTo>
                  <a:pt x="27782" y="3985"/>
                </a:lnTo>
                <a:lnTo>
                  <a:pt x="31455" y="7493"/>
                </a:lnTo>
                <a:lnTo>
                  <a:pt x="29619" y="7493"/>
                </a:lnTo>
                <a:lnTo>
                  <a:pt x="29619" y="12828"/>
                </a:lnTo>
                <a:cubicBezTo>
                  <a:pt x="29619" y="15596"/>
                  <a:pt x="27042" y="18155"/>
                  <a:pt x="24275" y="18155"/>
                </a:cubicBezTo>
                <a:lnTo>
                  <a:pt x="22612" y="18155"/>
                </a:lnTo>
                <a:cubicBezTo>
                  <a:pt x="19844" y="18155"/>
                  <a:pt x="17268" y="15596"/>
                  <a:pt x="17268" y="12828"/>
                </a:cubicBez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257800"/>
            <a:ext cx="9144000" cy="119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o many trees were cut down ,so when a heavy rain comes ,a lot of people di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ill1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8305920" y="6095880"/>
            <a:ext cx="533160" cy="30492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is the bon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骨头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 a kind of animals in Tibet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藏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They were killed by our human being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who know the animals’ Chinese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NewsMedia_196856" descr=""/>
          <p:cNvPicPr/>
          <p:nvPr/>
        </p:nvPicPr>
        <p:blipFill>
          <a:blip r:embed="rId1"/>
          <a:stretch/>
        </p:blipFill>
        <p:spPr>
          <a:xfrm>
            <a:off x="-457200" y="533520"/>
            <a:ext cx="9601200" cy="61182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152280 w 609480"/>
              <a:gd name="textAreaRight" fmla="*/ 457200 w 60948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0"/>
            <a:ext cx="579096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 lot of fish died , because of water pollutio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污染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ewsMedia_128603" descr=""/>
          <p:cNvPicPr/>
          <p:nvPr/>
        </p:nvPicPr>
        <p:blipFill>
          <a:blip r:embed="rId1"/>
          <a:stretch/>
        </p:blipFill>
        <p:spPr>
          <a:xfrm>
            <a:off x="1143000" y="-1066680"/>
            <a:ext cx="7169040" cy="84582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763120" y="6095880"/>
            <a:ext cx="38088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ies  were pouring dirty water in the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9:30Z</dcterms:created>
  <dc:creator>WW</dc:creator>
  <dc:description/>
  <dc:language>en-US</dc:language>
  <cp:lastModifiedBy>WW</cp:lastModifiedBy>
  <dcterms:modified xsi:type="dcterms:W3CDTF">2002-09-30T07:46:19Z</dcterms:modified>
  <cp:revision>58</cp:revision>
  <dc:subject/>
  <dc:title>没有幻灯片标题</dc:title>
</cp:coreProperties>
</file>