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65D-A51E-45B5-A36D-A1100CCF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B11-CA6E-4454-9CC3-19B7884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F13-48DA-4081-A8B4-1736C63F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1A0-9461-47D0-B4DD-D4208523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1EC-4795-4F7A-A0FA-F080AEBA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5C0-55E2-4C29-9ED3-2328FC5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D42-79F5-468F-B462-B229834D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DEA-6465-4B6D-9D1D-C4BAC6AE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A2F-FC5F-4E97-990B-48A4C64A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4DD-BEDF-4B38-B8DA-52FE85E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FE3-DDFA-4CD9-AD76-65A32D8F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A7B-D4F4-4EA2-9D0A-B5697A29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99EE-A3FA-40E5-B66D-7D262A905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89917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After that it still took seven years </a:t>
            </a:r>
            <a:r>
              <a:rPr b="1" lang="zh-CN" sz="2400" spc="-1" strike="noStrike">
                <a:solidFill>
                  <a:srgbClr val="fc3000"/>
                </a:solidFill>
                <a:latin typeface="Times New Roman"/>
              </a:rPr>
              <a:t>befo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hey finally go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fore…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…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多久）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宁愿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不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was not long before they got married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27672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议还没结束，他就离开了会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988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left before the meeting en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93704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We hadn’t wait long before the bus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1972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没等多久，汽车就来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宁愿饿死，也就不行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943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 will die of hunger before he will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2:38:34Z</dcterms:created>
  <dc:creator>user</dc:creator>
  <dc:description/>
  <dc:language>en-US</dc:language>
  <cp:lastModifiedBy>user</cp:lastModifiedBy>
  <dcterms:modified xsi:type="dcterms:W3CDTF">2003-09-18T02:44:14Z</dcterms:modified>
  <cp:revision>4</cp:revision>
  <dc:subject/>
  <dc:title>PowerPoint 演示文稿</dc:title>
</cp:coreProperties>
</file>