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gif" ContentType="image/gif"/>
  <Override PartName="/ppt/media/image27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25.png" ContentType="image/png"/>
  <Override PartName="/ppt/media/image19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applause.wav" ContentType="audio/x-wav"/>
  <Override PartName="/ppt/media/image11.png" ContentType="image/png"/>
  <Override PartName="/ppt/media/image9.jpeg" ContentType="image/jpeg"/>
  <Override PartName="/ppt/media/image1.jpeg" ContentType="image/jpeg"/>
  <Override PartName="/ppt/media/image22.jpeg" ContentType="image/jpeg"/>
  <Override PartName="/ppt/media/image10.jpeg" ContentType="image/jpeg"/>
  <Override PartName="/ppt/media/image14.png" ContentType="image/png"/>
  <Override PartName="/ppt/media/image29.gif" ContentType="image/gif"/>
  <Override PartName="/ppt/media/image15.jpeg" ContentType="image/jpeg"/>
  <Override PartName="/ppt/media/image16.gif" ContentType="image/gif"/>
  <Override PartName="/ppt/media/image17.png" ContentType="image/png"/>
  <Override PartName="/ppt/media/image18.png" ContentType="image/png"/>
  <Override PartName="/ppt/media/type.wav" ContentType="audio/x-wav"/>
  <Override PartName="/ppt/media/image20.jpeg" ContentType="image/jpeg"/>
  <Override PartName="/ppt/media/image21.jpeg" ContentType="image/jpeg"/>
  <Override PartName="/ppt/media/image23.jpeg" ContentType="image/jpeg"/>
  <Override PartName="/ppt/media/image24.png" ContentType="image/png"/>
  <Override PartName="/ppt/media/image2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B6BA-EA53-4544-815A-B26C4296F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D9C4-A477-439B-9D21-B9022ED5A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DA2C-5945-4B0D-85E2-63B8A8AA9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0DF9-6F4C-4A5D-B3DF-D330E39AC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C0B0-9913-458D-9FC8-9BF784C29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FD25-3322-4A59-A318-5E01E4336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8FD1-214E-483F-B363-9D9D9928C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082A-FA5A-40C5-8761-8597BE5CD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34FB-F9CF-4357-B62E-A3391B930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201F-A49D-41A2-AB4E-E23FACA93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B300-CBEF-4276-9366-F3BE951DD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A9CC-68FD-4D04-BCCF-CDF6BEFEE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7E85D-CE18-4A80-8616-EA496629B03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file:///usr/lib/libreoffice/share/gallery/sounds/applause.wav" TargetMode="External"/><Relationship Id="rId2" Type="http://schemas.microsoft.com/office/2007/relationships/media" Target="file:///usr/lib/libreoffice/share/gallery/sounds/applause.wav" TargetMode="External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gif"/><Relationship Id="rId6" Type="http://schemas.openxmlformats.org/officeDocument/2006/relationships/image" Target="../media/image29.gif"/><Relationship Id="rId7" Type="http://schemas.openxmlformats.org/officeDocument/2006/relationships/audio" Target="../media/applause.wav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file:///Unit%205%20language%20point1.ppt" TargetMode="External"/><Relationship Id="rId3" Type="http://schemas.openxmlformats.org/officeDocument/2006/relationships/image" Target="../media/image16.gif"/><Relationship Id="rId4" Type="http://schemas.openxmlformats.org/officeDocument/2006/relationships/hyperlink" Target="file:///Unit%205%20language%20point%202.ppt" TargetMode="External"/><Relationship Id="rId5" Type="http://schemas.openxmlformats.org/officeDocument/2006/relationships/image" Target="../media/image16.gi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hyperlink" Target="file:///Unit%205%20language%20point3.ppt" TargetMode="External"/><Relationship Id="rId3" Type="http://schemas.openxmlformats.org/officeDocument/2006/relationships/image" Target="../media/image16.gif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icentennial%20Man" descr=""/>
          <p:cNvPicPr/>
          <p:nvPr/>
        </p:nvPicPr>
        <p:blipFill>
          <a:blip r:embed="rId1"/>
          <a:stretch/>
        </p:blipFill>
        <p:spPr>
          <a:xfrm>
            <a:off x="2514600" y="3276720"/>
            <a:ext cx="2768760" cy="3581280"/>
          </a:xfrm>
          <a:prstGeom prst="rect">
            <a:avLst/>
          </a:prstGeom>
          <a:ln w="0">
            <a:noFill/>
          </a:ln>
        </p:spPr>
      </p:pic>
      <p:pic>
        <p:nvPicPr>
          <p:cNvPr id="42" name="Jurassic%20Park1" descr=""/>
          <p:cNvPicPr/>
          <p:nvPr/>
        </p:nvPicPr>
        <p:blipFill>
          <a:blip r:embed="rId2"/>
          <a:stretch/>
        </p:blipFill>
        <p:spPr>
          <a:xfrm>
            <a:off x="5181480" y="0"/>
            <a:ext cx="39006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Hero6" descr=""/>
          <p:cNvPicPr/>
          <p:nvPr/>
        </p:nvPicPr>
        <p:blipFill>
          <a:blip r:embed="rId3"/>
          <a:stretch/>
        </p:blipFill>
        <p:spPr>
          <a:xfrm>
            <a:off x="0" y="0"/>
            <a:ext cx="2603520" cy="3429000"/>
          </a:xfrm>
          <a:prstGeom prst="rect">
            <a:avLst/>
          </a:prstGeom>
          <a:ln w="0">
            <a:noFill/>
          </a:ln>
        </p:spPr>
      </p:pic>
      <p:pic>
        <p:nvPicPr>
          <p:cNvPr id="44" name="Mulan" descr=""/>
          <p:cNvPicPr/>
          <p:nvPr/>
        </p:nvPicPr>
        <p:blipFill>
          <a:blip r:embed="rId4"/>
          <a:stretch/>
        </p:blipFill>
        <p:spPr>
          <a:xfrm>
            <a:off x="0" y="3352680"/>
            <a:ext cx="2590920" cy="3505320"/>
          </a:xfrm>
          <a:prstGeom prst="rect">
            <a:avLst/>
          </a:prstGeom>
          <a:ln w="0">
            <a:noFill/>
          </a:ln>
        </p:spPr>
      </p:pic>
      <p:pic>
        <p:nvPicPr>
          <p:cNvPr id="45" name="Keanu%20Reeves" descr=""/>
          <p:cNvPicPr/>
          <p:nvPr/>
        </p:nvPicPr>
        <p:blipFill>
          <a:blip r:embed="rId5"/>
          <a:stretch/>
        </p:blipFill>
        <p:spPr>
          <a:xfrm>
            <a:off x="2590920" y="0"/>
            <a:ext cx="2577960" cy="33526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1371600" y="2286000"/>
            <a:ext cx="609588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cc"/>
                </a:solidFill>
                <a:latin typeface="Westminster"/>
              </a:rPr>
              <a:t>The Silver Screen</a:t>
            </a:r>
            <a:endParaRPr b="1" lang="en-US" sz="6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cc"/>
              </a:solidFill>
              <a:latin typeface="Westminster"/>
              <a:ea typeface="Westminster"/>
            </a:endParaRPr>
          </a:p>
        </p:txBody>
      </p:sp>
      <p:sp>
        <p:nvSpPr>
          <p:cNvPr id="47" name=""/>
          <p:cNvSpPr/>
          <p:nvPr/>
        </p:nvSpPr>
        <p:spPr>
          <a:xfrm>
            <a:off x="2666880" y="609480"/>
            <a:ext cx="3429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>
                <a:solidFill>
                  <a:srgbClr val="ffffff"/>
                </a:solidFill>
                <a:latin typeface="Times New Roman"/>
              </a:rPr>
              <a:t>Unit 5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0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6781680" y="0"/>
            <a:ext cx="2362320" cy="2209680"/>
          </a:xfrm>
          <a:prstGeom prst="irregularSeal1">
            <a:avLst/>
          </a:prstGeom>
          <a:solidFill>
            <a:srgbClr val="ffff6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52280" y="152280"/>
            <a:ext cx="8839440" cy="65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9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to Make Comments on a fil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, tell the story in your own wor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xt, make comments on different things about the film, for 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do you feel about the story? Wh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e the actors/actresses very good or not? Why do you think s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re a lot of action in the film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do you feel about the ending of the film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ly, you have to give your opinion about the whole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film. If you think highly of the film you may encourag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people to go and see i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315200" y="7300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1717"/>
                </a:solidFill>
                <a:latin typeface="Times New Roman"/>
              </a:rPr>
              <a:t>TIP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533520" y="53341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5"/>
          <a:stretch/>
        </p:blipFill>
        <p:spPr>
          <a:xfrm>
            <a:off x="0" y="0"/>
            <a:ext cx="1096920" cy="9144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6"/>
          <a:stretch/>
        </p:blipFill>
        <p:spPr>
          <a:xfrm>
            <a:off x="8047080" y="0"/>
            <a:ext cx="1096920" cy="9144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1828800" y="1219320"/>
            <a:ext cx="541008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09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Thank   You</a:t>
            </a:r>
            <a:endParaRPr b="1" lang="en-US" sz="8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50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1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10"/>
                </p:tgtEl>
              </p:cMediaNode>
            </p:audio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1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IT" descr=""/>
          <p:cNvPicPr/>
          <p:nvPr/>
        </p:nvPicPr>
        <p:blipFill>
          <a:blip r:embed="rId2"/>
          <a:stretch/>
        </p:blipFill>
        <p:spPr>
          <a:xfrm>
            <a:off x="685800" y="58680"/>
            <a:ext cx="3200400" cy="2151000"/>
          </a:xfrm>
          <a:prstGeom prst="rect">
            <a:avLst/>
          </a:prstGeom>
          <a:ln w="0">
            <a:noFill/>
          </a:ln>
        </p:spPr>
      </p:pic>
      <p:pic>
        <p:nvPicPr>
          <p:cNvPr id="50" name="Hero1" descr=""/>
          <p:cNvPicPr/>
          <p:nvPr/>
        </p:nvPicPr>
        <p:blipFill>
          <a:blip r:embed="rId3"/>
          <a:stretch/>
        </p:blipFill>
        <p:spPr>
          <a:xfrm>
            <a:off x="5257800" y="3422520"/>
            <a:ext cx="3352680" cy="22161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066680" y="23623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Bicentennial 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629400" y="57913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H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jurassicpark1" descr=""/>
          <p:cNvPicPr/>
          <p:nvPr/>
        </p:nvPicPr>
        <p:blipFill>
          <a:blip r:embed="rId4"/>
          <a:stretch/>
        </p:blipFill>
        <p:spPr>
          <a:xfrm>
            <a:off x="685800" y="3429000"/>
            <a:ext cx="3200400" cy="21258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295280" y="57150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Jurassic Pa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Mulan1" descr=""/>
          <p:cNvPicPr/>
          <p:nvPr/>
        </p:nvPicPr>
        <p:blipFill>
          <a:blip r:embed="rId5"/>
          <a:stretch/>
        </p:blipFill>
        <p:spPr>
          <a:xfrm>
            <a:off x="5257800" y="76320"/>
            <a:ext cx="3162240" cy="2286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553080" y="23623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3300"/>
                </a:solidFill>
                <a:latin typeface="Times New Roman"/>
              </a:rPr>
              <a:t>Mu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0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52280" y="152280"/>
            <a:ext cx="8991720" cy="65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ste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 What do we know about the city where Malcolm Grew up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t was 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 What did he want to be when he was a stude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 What was the reason why Malcolm studied law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reason is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 When did Malcolm really start his career in the theat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en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 Why was the film called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he Dream Machin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mportant to Malcol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t was__________________________________________________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143000" y="132552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3000"/>
                </a:solidFill>
                <a:latin typeface="Times New Roman"/>
              </a:rPr>
              <a:t>a small town far from the big c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52280" y="2406600"/>
            <a:ext cx="883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3000"/>
                </a:solidFill>
                <a:latin typeface="Times New Roman"/>
              </a:rPr>
              <a:t>When Malcolm was young he wanted to be a teache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53520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3000"/>
                </a:solidFill>
                <a:latin typeface="Times New Roman"/>
              </a:rPr>
              <a:t>his father wanted him to study la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90720" y="466236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3000"/>
                </a:solidFill>
                <a:latin typeface="Times New Roman"/>
              </a:rPr>
              <a:t>Malcolm met Fiona, he started his career in the theat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066680" y="6110280"/>
            <a:ext cx="73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3000"/>
                </a:solidFill>
                <a:latin typeface="Times New Roman"/>
              </a:rPr>
              <a:t>important because he did not have any exper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0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5" name="Keanu%20Reeves1" descr=""/>
          <p:cNvPicPr/>
          <p:nvPr/>
        </p:nvPicPr>
        <p:blipFill>
          <a:blip r:embed="rId2"/>
          <a:stretch/>
        </p:blipFill>
        <p:spPr>
          <a:xfrm>
            <a:off x="7147080" y="3429000"/>
            <a:ext cx="1996920" cy="2743200"/>
          </a:xfrm>
          <a:prstGeom prst="rect">
            <a:avLst/>
          </a:prstGeom>
          <a:ln w="0">
            <a:noFill/>
          </a:ln>
        </p:spPr>
      </p:pic>
      <p:pic>
        <p:nvPicPr>
          <p:cNvPr id="66" name="Meryl%20streep" descr=""/>
          <p:cNvPicPr/>
          <p:nvPr/>
        </p:nvPicPr>
        <p:blipFill>
          <a:blip r:embed="rId3"/>
          <a:stretch/>
        </p:blipFill>
        <p:spPr>
          <a:xfrm>
            <a:off x="7086600" y="0"/>
            <a:ext cx="2095560" cy="25146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7086600" y="25909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66"/>
                </a:solidFill>
                <a:latin typeface="Times New Roman"/>
              </a:rPr>
              <a:t>Meryl Stre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162920" y="62485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66"/>
                </a:solidFill>
                <a:latin typeface="Times New Roman"/>
              </a:rPr>
              <a:t>Keanu Ree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52280" y="109440"/>
            <a:ext cx="678204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When and where was Meryl Streep born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How did he begin to act in play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When did she began to act in her first film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What about his family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52280" y="3657600"/>
            <a:ext cx="678204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When and where was Keanu Reeves born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Where did Keanu Reeves grow up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What about the time when he was young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What did make him famous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背景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2" name="Keanu%20Reeves1" descr=""/>
          <p:cNvPicPr/>
          <p:nvPr/>
        </p:nvPicPr>
        <p:blipFill>
          <a:blip r:embed="rId2"/>
          <a:stretch/>
        </p:blipFill>
        <p:spPr>
          <a:xfrm>
            <a:off x="66600" y="76320"/>
            <a:ext cx="2371680" cy="3124080"/>
          </a:xfrm>
          <a:prstGeom prst="rect">
            <a:avLst/>
          </a:prstGeom>
          <a:ln w="0">
            <a:noFill/>
          </a:ln>
        </p:spPr>
      </p:pic>
      <p:pic>
        <p:nvPicPr>
          <p:cNvPr id="73" name="Meryl%20streep" descr=""/>
          <p:cNvPicPr/>
          <p:nvPr/>
        </p:nvPicPr>
        <p:blipFill>
          <a:blip r:embed="rId3"/>
          <a:stretch/>
        </p:blipFill>
        <p:spPr>
          <a:xfrm>
            <a:off x="6413400" y="76320"/>
            <a:ext cx="2730600" cy="32763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76320" y="336708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Keanu Ree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629400" y="344340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Meryl Streep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590920" y="60948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INTERVIEW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8600" y="3733920"/>
            <a:ext cx="8839080" cy="29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098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ful expres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studied/worked/acted at different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…and then…          What did you do nex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ally you found a job as …    Later on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roles did you act?   How long have you b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king as…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背景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04920" y="973080"/>
            <a:ext cx="853416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he first part (the first paragraph) --- Steven Spielberg is a passionate about film from a very early a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2131920"/>
            <a:ext cx="8610480" cy="21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he second part (the second paragraph) --- He could not go to the Film Academy but later his career began to take off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8600" y="3641760"/>
            <a:ext cx="861048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he third part (the next four paragraph) it is about several of Steven Spielberg’s successful fil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52280" y="4784760"/>
            <a:ext cx="8839440" cy="17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he forth part (the last paragraph) What Steven Spielberg has said and writt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362320" y="18252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Four parts of the tex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GIF053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790640" y="3276720"/>
            <a:ext cx="876240" cy="291960"/>
          </a:xfrm>
          <a:prstGeom prst="rect">
            <a:avLst/>
          </a:prstGeom>
          <a:ln w="0">
            <a:noFill/>
          </a:ln>
        </p:spPr>
      </p:pic>
      <p:pic>
        <p:nvPicPr>
          <p:cNvPr id="85" name="GIF053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029200" y="5486400"/>
            <a:ext cx="990720" cy="3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1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76320" y="76320"/>
            <a:ext cx="8991360" cy="68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3197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me famous films of Spielber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197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Jaw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1975) is about a big shark that attacks and eats swimmer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197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E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1982) is about a little creature that comes from outer space and wants to go hom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197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Jurassic Park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1993) is about an island where a very rich man keeps all kinds of dinosaur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197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. Schindler’s List(1993) is about the cruelty of war/a German who saved thousands of Jewish people from being killed in the wa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197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5. Saving Private Ryan(1998) is also about the cruelty of war/an American captain who led his team to search for a soldier named Rya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0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9" name="一个不能少1" descr=""/>
          <p:cNvPicPr/>
          <p:nvPr/>
        </p:nvPicPr>
        <p:blipFill>
          <a:blip r:embed="rId2"/>
          <a:stretch/>
        </p:blipFill>
        <p:spPr>
          <a:xfrm>
            <a:off x="324000" y="162000"/>
            <a:ext cx="3409920" cy="2276280"/>
          </a:xfrm>
          <a:prstGeom prst="rect">
            <a:avLst/>
          </a:prstGeom>
          <a:ln w="0">
            <a:noFill/>
          </a:ln>
        </p:spPr>
      </p:pic>
      <p:pic>
        <p:nvPicPr>
          <p:cNvPr id="90" name="一个不能少2" descr=""/>
          <p:cNvPicPr/>
          <p:nvPr/>
        </p:nvPicPr>
        <p:blipFill>
          <a:blip r:embed="rId3"/>
          <a:stretch/>
        </p:blipFill>
        <p:spPr>
          <a:xfrm>
            <a:off x="-47520" y="4038480"/>
            <a:ext cx="3400200" cy="2286000"/>
          </a:xfrm>
          <a:prstGeom prst="rect">
            <a:avLst/>
          </a:prstGeom>
          <a:ln w="0">
            <a:noFill/>
          </a:ln>
        </p:spPr>
      </p:pic>
      <p:pic>
        <p:nvPicPr>
          <p:cNvPr id="91" name="一个不能少3" descr=""/>
          <p:cNvPicPr/>
          <p:nvPr/>
        </p:nvPicPr>
        <p:blipFill>
          <a:blip r:embed="rId4"/>
          <a:stretch/>
        </p:blipFill>
        <p:spPr>
          <a:xfrm>
            <a:off x="6838920" y="3467160"/>
            <a:ext cx="2305080" cy="3390840"/>
          </a:xfrm>
          <a:prstGeom prst="rect">
            <a:avLst/>
          </a:prstGeom>
          <a:ln w="0">
            <a:noFill/>
          </a:ln>
        </p:spPr>
      </p:pic>
      <p:pic>
        <p:nvPicPr>
          <p:cNvPr id="92" name="一个不能少4" descr=""/>
          <p:cNvPicPr/>
          <p:nvPr/>
        </p:nvPicPr>
        <p:blipFill>
          <a:blip r:embed="rId5"/>
          <a:stretch/>
        </p:blipFill>
        <p:spPr>
          <a:xfrm>
            <a:off x="3371760" y="4410000"/>
            <a:ext cx="3409920" cy="2295720"/>
          </a:xfrm>
          <a:prstGeom prst="rect">
            <a:avLst/>
          </a:prstGeom>
          <a:ln w="0">
            <a:noFill/>
          </a:ln>
        </p:spPr>
      </p:pic>
      <p:pic>
        <p:nvPicPr>
          <p:cNvPr id="93" name="一个不能少5" descr=""/>
          <p:cNvPicPr/>
          <p:nvPr/>
        </p:nvPicPr>
        <p:blipFill>
          <a:blip r:embed="rId6"/>
          <a:stretch/>
        </p:blipFill>
        <p:spPr>
          <a:xfrm>
            <a:off x="5429160" y="152280"/>
            <a:ext cx="3409920" cy="23148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2895480" y="2057400"/>
            <a:ext cx="3124440" cy="1981080"/>
          </a:xfrm>
          <a:prstGeom prst="cloudCallout">
            <a:avLst>
              <a:gd name="adj1" fmla="val 70324"/>
              <a:gd name="adj2" fmla="val 53925"/>
            </a:avLst>
          </a:prstGeom>
          <a:solidFill>
            <a:srgbClr val="b7ff2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200400" y="2362320"/>
            <a:ext cx="2514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Orange LET"/>
              </a:rPr>
              <a:t>Not One L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91314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0" y="2133720"/>
            <a:ext cx="1447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ot One L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447920" y="228600"/>
            <a:ext cx="457200" cy="5791320"/>
          </a:xfrm>
          <a:custGeom>
            <a:avLst/>
            <a:gdLst>
              <a:gd name="textAreaLeft" fmla="*/ 292320 w 457200"/>
              <a:gd name="textAreaRight" fmla="*/ 457560 w 457200"/>
              <a:gd name="textAreaTop" fmla="*/ 150840 h 5791320"/>
              <a:gd name="textAreaBottom" fmla="*/ 5640480 h 5791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057400" y="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aracter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343400" y="7632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r. Gao, Mr. Tian, Minzhi, Huike Some other pupi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133720" y="92880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or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29000" y="990720"/>
            <a:ext cx="5562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s film is about a 13-year-old girl, called Wei Minzhi, who takes care of the village school when the teacher, Mr. Gao, is away for a month. She has to make sure that all the students stay in the school. When one of them – Huike runs away to the city, she follows him and bring him back, together with the people from the TV st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90512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en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962520" y="4648320"/>
            <a:ext cx="4952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ny people like this film not only because the story itself is moving, but also because most of the people in the film use their real names and play themsel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 flipH="1" rot="10800000">
            <a:off x="6324480" y="3962160"/>
            <a:ext cx="1067040" cy="42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5T08:13:06Z</dcterms:created>
  <dc:creator>user</dc:creator>
  <dc:description/>
  <dc:language>en-US</dc:language>
  <cp:lastModifiedBy> </cp:lastModifiedBy>
  <dcterms:modified xsi:type="dcterms:W3CDTF">2004-08-15T03:08:10Z</dcterms:modified>
  <cp:revision>40</cp:revision>
  <dc:subject/>
  <dc:title>PowerPoint 演示文稿</dc:title>
</cp:coreProperties>
</file>