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CDD4-29CF-49E5-9DBE-7FC373D9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EDB8-67F8-4149-BCCB-50B9EE0C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455D-CD2F-4964-B35D-559121665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D9A1-4386-47C2-8B4F-82F6829F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CF64-9F73-43F6-ADA7-F95ABEF4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CF1A-27EB-4E4B-88CB-23349A02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3EFE-BD8F-48E7-8B76-A31A204B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075A-CDD8-4146-B599-43EF241B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E216-3CC9-4AB4-88F8-3AFA6425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5279-563A-4A8D-B63E-F85DF25F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09E4-A0DE-4705-847D-1D60C416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DBD6-7B1A-4F83-968F-7913D5A5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C77F-89A4-4B90-A94F-6F3401A492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320" y="228600"/>
            <a:ext cx="8915400" cy="30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6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anguage Poi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6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She wants them to let her appear </a:t>
            </a:r>
            <a:r>
              <a:rPr b="1" lang="zh-CN" sz="2800" spc="-1" strike="noStrike">
                <a:solidFill>
                  <a:srgbClr val="fc3000"/>
                </a:solidFill>
                <a:latin typeface="Times New Roman"/>
              </a:rPr>
              <a:t>liv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on the air, hoping that Huike will see 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6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Liv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实况直播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6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football game was broadcast l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6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re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42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3000"/>
                </a:solidFill>
                <a:latin typeface="Times New Roman"/>
              </a:rPr>
              <a:t>The Oscar ceremony is the biggest, most extravagant live event on televis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470844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c3000"/>
                </a:solidFill>
                <a:latin typeface="Times New Roman"/>
              </a:rPr>
              <a:t>奥斯卡颁奖典礼是最大、最铺张的电视实况转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02:54:24Z</dcterms:created>
  <dc:creator>user</dc:creator>
  <dc:description/>
  <dc:language>en-US</dc:language>
  <cp:lastModifiedBy>user</cp:lastModifiedBy>
  <dcterms:modified xsi:type="dcterms:W3CDTF">2003-09-18T02:54:42Z</dcterms:modified>
  <cp:revision>1</cp:revision>
  <dc:subject/>
  <dc:title>PowerPoint 演示文稿</dc:title>
</cp:coreProperties>
</file>