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8FA-4659-45C7-B0EB-A8441772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7C6-E64B-4CB7-99F9-ACA9C57B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0AD-BE81-42F9-929F-05AE5967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881-1B4F-4C48-A730-8DE9B853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35C-A36C-4762-8503-84F9376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E5B-0BC5-4CEC-88FF-FCCB1BC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FF7-43B3-4E93-BC22-3C395A0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28D-BF0D-4917-BCDA-79EA8FA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540-537B-47DB-9C60-F0FC0B73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563-D131-4351-B4BC-91A0C14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B40-BA23-452C-B43D-ABAD8982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D0E-2A3B-457C-B013-FD8AF6C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044-0DD6-4E63-B40F-D68922C6C1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83944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.Many people who saw the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ilm were </a:t>
            </a:r>
            <a:r>
              <a:rPr b="1" i="1" lang="zh-CN" sz="2400" spc="-1" strike="noStrike">
                <a:solidFill>
                  <a:srgbClr val="fc3000"/>
                </a:solidFill>
                <a:latin typeface="Times New Roman"/>
              </a:rPr>
              <a:t>afrai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to swim in the se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rai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用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sb/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to do sth/of doing 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fraid of doing sth  /  be afraid +that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m afra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41911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1. He seldom stands on the river bank because he is afraid that he might fall into th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000"/>
                </a:solidFill>
                <a:latin typeface="Times New Roman"/>
              </a:rPr>
              <a:t>2. I’m afraid I can’t agree with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21:12Z</dcterms:created>
  <dc:creator>user</dc:creator>
  <dc:description/>
  <dc:language>en-US</dc:language>
  <cp:lastModifiedBy>user</cp:lastModifiedBy>
  <dcterms:modified xsi:type="dcterms:W3CDTF">2003-09-18T02:21:28Z</dcterms:modified>
  <cp:revision>1</cp:revision>
  <dc:subject/>
  <dc:title>PowerPoint 演示文稿</dc:title>
</cp:coreProperties>
</file>