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221-1DF0-4AB0-93BD-A64C09BA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FB66-938A-4CD9-B3B1-7608B824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624D-96D6-4E5F-B670-34F30E82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63E-0A8F-45BF-B4C7-A50C4237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81A3-7D9E-440C-BC15-F0E39849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BFFA-74A4-4F66-B5F5-74319841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29DE-DA96-45E4-A237-E1D72540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2179-EB2E-47F2-A416-2FFDDF85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2CA7-7161-42B1-902C-E02E78CE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AA39-EFBC-471A-9495-9EF0907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97C-C12E-496A-8B5D-9FC0E221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533-A17B-47F3-9559-9A2C4E75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0FEC-2F48-4B0C-8D1A-7017D54DEA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400" y="99072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5360" y="2681280"/>
            <a:ext cx="38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Book Antiqua"/>
              </a:rPr>
              <a:t>Word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5628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安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刘文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650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1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65920" y="533520"/>
            <a:ext cx="64882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tio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il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6120" y="43434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.g.   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297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830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87692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276640"/>
            <a:ext cx="810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v.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Upon arriving on the island, we were eag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plore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到岛上就急不可耐地考察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380880"/>
            <a:ext cx="9144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ood afternoon, everyone. I’m so gl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be here to tell you something abou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er spac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Space explor -ation began in 1957 with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of the fir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ficial satellit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manned spaceship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have been launched into space since 1959. By 1961, people w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rbiting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the Earth. Yuri Gagarin from the former Soviet Union become the first human being to travel in spac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040" y="425520"/>
            <a:ext cx="873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Read the first part of the speech and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the time line of the main events ment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391520" cy="3835440"/>
        </p:xfrm>
        <a:graphic>
          <a:graphicData uri="http://schemas.openxmlformats.org/drawingml/2006/table">
            <a:tbl>
              <a:tblPr/>
              <a:tblGrid>
                <a:gridCol w="1524240"/>
                <a:gridCol w="58672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00"/>
                          </a:solidFill>
                          <a:latin typeface="Courier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727360" y="2631960"/>
            <a:ext cx="9543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2" action="ppaction://hlinksldjump"/>
              </a:rPr>
              <a:t>launch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of the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artificial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48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unmanned spaceship…  launch int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0160" y="4724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3" action="ppaction://hlinksldjump"/>
              </a:rPr>
              <a:t>orbit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85800"/>
            <a:ext cx="9067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launch: n.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品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890960"/>
            <a:ext cx="2057400" cy="167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1401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the successful launch of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01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duc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819520"/>
            <a:ext cx="63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上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733920"/>
            <a:ext cx="65530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oes everyone know how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nch a space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52280" y="457200"/>
            <a:ext cx="90676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orbit: v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轨道运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…运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e.g. The earth takes a year to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the sun.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8077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(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天体等运行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轨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earth’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bit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50292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33920"/>
            <a:ext cx="746748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 new satellite has been 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put into or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round the ear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颗新的人造卫星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上了环绕地球的轨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124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pace station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 orbi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round the mo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8335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86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386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aunch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4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nch 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352680"/>
            <a:ext cx="3657600" cy="1981440"/>
          </a:xfrm>
          <a:prstGeom prst="wedgeEllipseCallout">
            <a:avLst>
              <a:gd name="adj1" fmla="val -110675"/>
              <a:gd name="adj2" fmla="val 9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581280"/>
            <a:ext cx="33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platform from which a space shuttle is sent int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1066680"/>
            <a:ext cx="2590920" cy="1524240"/>
          </a:xfrm>
          <a:prstGeom prst="line">
            <a:avLst/>
          </a:prstGeom>
          <a:ln w="7632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680" y="510552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lifts the space shuttle into sp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ro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17440"/>
            <a:ext cx="88390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at happens to the two rockets after they separate from the space shuttl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to the sea and a ship will pick the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2209680"/>
            <a:ext cx="2743200" cy="1524240"/>
          </a:xfrm>
          <a:prstGeom prst="cloudCallout">
            <a:avLst>
              <a:gd name="adj1" fmla="val -97745"/>
              <a:gd name="adj2" fmla="val 118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620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racking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480"/>
            <a:ext cx="88390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</a:t>
            </a: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Read the speech and fill in the blanks using words we learn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990720"/>
          <a:ext cx="8763120" cy="56401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6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 _____  and traveling to _____ to carry out _______. If this comes true, you’ll probably travel by ____, a spaceship that looks like an aeroplane. Two _____ supposed by a launch tower will lift the space shuttle into space. Some time after the rockets and the space shuttle are ______, the rockets will separate from the space shuttle and fall into the sea. Then a ship will pick them up. Astronauts will do their research in a base in outer space shuttle called _______. Sometimes they go out of their space shuttle to take a _______. In outer space astronauts cannot take off their 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21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08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o is s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8728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beauty named Chang’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048120"/>
            <a:ext cx="4419720" cy="2971800"/>
          </a:xfrm>
          <a:prstGeom prst="cloudCallout">
            <a:avLst>
              <a:gd name="adj1" fmla="val -50217"/>
              <a:gd name="adj2" fmla="val -88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ry about Chang’e told us that we human beings had been dreaming of traveling to space for thousands of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8120" y="303120"/>
            <a:ext cx="6831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         space explora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                space shutt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tower       rocke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pad          astronau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acking ship      spacesui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walk           space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380880"/>
          <a:ext cx="8915400" cy="63104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63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________ and traveling to ______ to carry out _________________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f this comes true, you’ll probably travel by ____________, a spaceship that looks like an aeroplane. Two ______ supported by a launch tower will lift the space shuttle into space. Some time after the rockets and the space shuttle are ________,  the rockets will separate from the space shuttle and fall into the sea. Then a ship will pick them up. Astronauts will do their research in a base in outer space  called ___________. Sometimes they go out of their space shuttle to take a _________. In outer space astronauts cannot take off their ____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697880" y="380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tron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740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7621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3720" y="114300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7600" y="1523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720" y="263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720" y="380988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7440" y="41911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7484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722600"/>
            <a:ext cx="9144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, most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net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examined. Photos have been taken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collected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ets, but no evidence of life has been discovered on any of the planets so far. Scientific research still contin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609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entury Gothic"/>
              </a:rPr>
              <a:t>Today’s space expl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nine planets in the solar sys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rth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piter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rcury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s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27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ptune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u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343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turn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ranus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514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5334120"/>
          <a:ext cx="91440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320" y="54864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54100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364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pi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0640" y="54244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rcu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000" y="541008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9320" y="54100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pt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4980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0760" y="60498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840" y="604980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640" y="60498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a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00200" y="685800"/>
            <a:ext cx="57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752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Thank you!</a:t>
            </a:r>
            <a:endParaRPr b="0" lang="en-US" sz="2400" spc="1" strike="noStrike">
              <a:ln w="4752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036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3671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20480" y="243000"/>
            <a:ext cx="29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ui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170000"/>
            <a:ext cx="3429000" cy="523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640" y="15228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strona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9.7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1280" y="489096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326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2385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3276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5080" y="5765760"/>
            <a:ext cx="35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920" y="434340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hu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612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94000" y="-1015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4190760" cy="23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32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3276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80773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10666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1066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8380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spaceman            space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uit              space shu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hip             outer spac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131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张桌子占据了太多的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1276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地球大气以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1148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 desk takes up too mu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36232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9:44:50Z</dcterms:created>
  <dc:creator>英语组02</dc:creator>
  <dc:description/>
  <dc:language>en-US</dc:language>
  <cp:lastModifiedBy>SEC</cp:lastModifiedBy>
  <dcterms:modified xsi:type="dcterms:W3CDTF">2005-11-06T23:22:57Z</dcterms:modified>
  <cp:revision>63</cp:revision>
  <dc:subject/>
  <dc:title>PowerPoint 演示文稿</dc:title>
</cp:coreProperties>
</file>