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type.wav" ContentType="audio/x-wav"/>
  <Override PartName="/ppt/media/image17.png" ContentType="image/png"/>
  <Override PartName="/ppt/media/image12.jpeg" ContentType="image/jpeg"/>
  <Override PartName="/ppt/media/image13.png" ContentType="image/png"/>
  <Override PartName="/ppt/media/image20.jpeg" ContentType="image/jpeg"/>
  <Override PartName="/ppt/media/image19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camera.wav" ContentType="audio/x-wav"/>
  <Override PartName="/ppt/media/image6.png" ContentType="image/png"/>
  <Override PartName="/ppt/media/image18.png" ContentType="image/png"/>
  <Override PartName="/ppt/media/image7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8214-F895-4747-B042-2010D6C68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0008-7EA4-4632-A545-3FA7DA485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773F-D347-4285-B919-D0784BB82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84F3-628B-4955-A976-A2A36EB20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DDA06-704C-47CF-9ED1-DEF013D9B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691C6-C5DE-46F3-AC7D-81A541332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77DEE-C853-43F5-847E-9406CF49E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9EC32-917D-48DA-8C27-3EAC42BFF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0EE87-98BB-4369-B735-6684E8456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FD83E-CEF6-420A-A519-4B9E2852E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21689-A11E-497C-AE6F-2AED6ED3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B40B-E5E9-424E-8467-F058CA87F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2EDFD-D4A3-40F4-9E8F-721B0832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8785A-3F9D-479F-9CF1-B0BDF205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9BB84-E6AE-49E6-B79A-A5E032CE9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D55D6-4806-40A5-8A97-785D82BF9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30BD8-5A12-4785-9C80-D08163B5F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94F92-A4E5-49F3-A057-78728DA0A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141DF-FE9E-4B13-917F-E5B4CC966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E5FE8-62E1-44E6-BC5E-F60C37E8C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CBA88-EAB4-4636-8200-2BC1D4503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A225D-0E3E-48EA-B551-493F79616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E047-C121-4E86-A2DF-262910B1B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90E29-6F98-4B60-8D1B-4ECB51AAF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4C1EF-9BF9-4C8A-995D-C5C86B47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4A2A2-D336-4F24-8F7B-E254D41D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01BB8-9D29-44CD-9ED5-BE0FD96F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ADC1F-A73C-4318-BF13-A4D88B04E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35FA4-A228-4F40-8B6F-5720429D3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9714C-6D3B-4917-813F-22485A737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3478D-9132-4B13-9B53-3FD0860BB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99D5D-7F2D-499F-A342-8143DE230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17D6A-7639-49F6-A1CB-976B8FBA4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7ED6-4335-4ED3-BB35-1F91D61D7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A8EEE-7866-490E-83B8-48B59633C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04165-AE8F-4514-9F1F-B3E5CFC4B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0A3E5-B94D-4930-B1D4-436E90A47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17ACC-B55E-4FA1-A354-FF589BE5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5A5BB-1744-478F-ABE2-0EBF578F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8FBEE-08D2-4131-A4CC-92309CAE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CF09F-1288-42DD-AF63-933438DFB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B6C11-93BE-43B5-A185-DDBABB46B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DA974-6217-45A5-84B3-00EAF187E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1C06-861C-436A-987E-D962B236E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F35B-C234-46F7-AB03-252FA69DA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55B1-0A47-488C-A9DD-70CF77A5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BB49-1090-4FC8-8DE1-E6C8207F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6DCE-19FE-483B-8B3B-C85838F7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6AC27-73D3-4BDD-8135-3343AF78E77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7EA42-9EDC-479F-91C7-4BD4AE32B16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B42DF-92F7-46F9-AEF4-963C5EE9E0C1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grpSp>
            <p:nvGrpSpPr>
              <p:cNvPr id="10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grpSp>
            <p:nvGrpSpPr>
              <p:cNvPr id="12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2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1B31B-0A9C-4BF9-86FF-5312D7D25C4A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7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8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8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6934320" y="61722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Times New Roman"/>
              </a:rPr>
              <a:t>石庄高级中学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8120" y="380880"/>
            <a:ext cx="419076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0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welcome</a:t>
            </a:r>
            <a:endParaRPr b="0" lang="en-US" sz="4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304920" y="304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97303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00"/>
            </a:gs>
            <a:gs pos="100000">
              <a:srgbClr val="ccdd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3" name=""/>
          <p:cNvGraphicFramePr/>
          <p:nvPr/>
        </p:nvGraphicFramePr>
        <p:xfrm>
          <a:off x="1295280" y="1447920"/>
          <a:ext cx="259092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447920"/>
                    <a:ext cx="259092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5638680" y="1523880"/>
            <a:ext cx="2210040" cy="266724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678600" y="4800600"/>
            <a:ext cx="812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Justin Foster, a fifteen-year-old boy,was missing two days ago in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over, New Hampshire. Maybe he was taken away by aliens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4"/>
          <a:stretch/>
        </p:blipFill>
        <p:spPr>
          <a:xfrm>
            <a:off x="228600" y="0"/>
            <a:ext cx="4191120" cy="3049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5"/>
          <a:stretch/>
        </p:blipFill>
        <p:spPr>
          <a:xfrm>
            <a:off x="4572000" y="0"/>
            <a:ext cx="41911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ccffff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"/>
          <p:cNvGrpSpPr/>
          <p:nvPr/>
        </p:nvGrpSpPr>
        <p:grpSpPr>
          <a:xfrm>
            <a:off x="395280" y="620280"/>
            <a:ext cx="8480160" cy="5943960"/>
            <a:chOff x="395280" y="620280"/>
            <a:chExt cx="8480160" cy="5943960"/>
          </a:xfrm>
        </p:grpSpPr>
        <p:sp>
          <p:nvSpPr>
            <p:cNvPr id="290" name=""/>
            <p:cNvSpPr/>
            <p:nvPr/>
          </p:nvSpPr>
          <p:spPr>
            <a:xfrm flipV="1">
              <a:off x="395280" y="2068200"/>
              <a:ext cx="4496040" cy="4495680"/>
            </a:xfrm>
            <a:prstGeom prst="triangle">
              <a:avLst>
                <a:gd name="adj" fmla="val 50000"/>
              </a:avLst>
            </a:prstGeom>
            <a:solidFill>
              <a:srgbClr val="0066ff"/>
            </a:solidFill>
            <a:ln w="381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543320" y="2220840"/>
              <a:ext cx="19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he first part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696320" y="3135240"/>
              <a:ext cx="201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he rest parts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743720" y="2525760"/>
              <a:ext cx="838080" cy="0"/>
            </a:xfrm>
            <a:prstGeom prst="line">
              <a:avLst/>
            </a:prstGeom>
            <a:ln w="93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905280" y="4049640"/>
              <a:ext cx="1143000" cy="0"/>
            </a:xfrm>
            <a:prstGeom prst="line">
              <a:avLst/>
            </a:prstGeom>
            <a:ln w="93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05120" y="2297160"/>
              <a:ext cx="289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main topic and the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most important facts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032440" y="3786120"/>
              <a:ext cx="38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new but less important facts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57520" y="3059280"/>
              <a:ext cx="3504960" cy="0"/>
            </a:xfrm>
            <a:prstGeom prst="line">
              <a:avLst/>
            </a:prstGeom>
            <a:ln w="2844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298" name="PlaceHolder 1"/>
            <p:cNvSpPr>
              <a:spLocks noGrp="1"/>
            </p:cNvSpPr>
            <p:nvPr>
              <p:ph type="title"/>
            </p:nvPr>
          </p:nvSpPr>
          <p:spPr>
            <a:xfrm>
              <a:off x="547920" y="620280"/>
              <a:ext cx="7772400" cy="11430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ctr">
              <a:noAutofit/>
            </a:bodyPr>
            <a:p>
              <a:pPr indent="0"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ff"/>
                  </a:solidFill>
                  <a:latin typeface="Times New Roman"/>
                </a:rPr>
                <a:t>  </a:t>
              </a:r>
              <a:r>
                <a:rPr b="1" lang="zh-CN" sz="2400" spc="-1" strike="noStrike">
                  <a:solidFill>
                    <a:srgbClr val="3333ff"/>
                  </a:solidFill>
                  <a:latin typeface="Times New Roman"/>
                </a:rPr>
                <a:t>A typical news story is written in an inverted pyramid</a:t>
              </a:r>
              <a:r>
                <a:rPr b="0" lang="zh-CN" sz="2400" spc="-1" strike="noStrike">
                  <a:solidFill>
                    <a:srgbClr val="3333ff"/>
                  </a:solidFill>
                  <a:latin typeface="Times New Roman"/>
                </a:rPr>
                <a:t>       </a:t>
              </a:r>
              <a:r>
                <a:rPr b="1" lang="zh-CN" sz="2400" spc="-1" strike="noStrike">
                  <a:solidFill>
                    <a:srgbClr val="3333ff"/>
                  </a:solidFill>
                  <a:latin typeface="Times New Roman"/>
                </a:rPr>
                <a:t>format.</a:t>
              </a:r>
              <a:r>
                <a:rPr b="0" lang="zh-CN" sz="2400" spc="-1" strike="noStrike">
                  <a:solidFill>
                    <a:srgbClr val="3333ff"/>
                  </a:solidFill>
                  <a:latin typeface="Times New Roman"/>
                </a:rPr>
                <a:t>(</a:t>
              </a:r>
              <a:r>
                <a:rPr b="1" lang="zh-CN" sz="1600" spc="-1" strike="noStrike">
                  <a:solidFill>
                    <a:srgbClr val="0066ff"/>
                  </a:solidFill>
                  <a:latin typeface="Times New Roman"/>
                </a:rPr>
                <a:t>倒金字塔</a:t>
              </a:r>
              <a:r>
                <a:rPr b="0" lang="zh-CN" sz="2400" spc="-1" strike="noStrike">
                  <a:solidFill>
                    <a:srgbClr val="3333ff"/>
                  </a:solidFill>
                  <a:latin typeface="Times New Roman"/>
                </a:rPr>
                <a:t>)</a:t>
              </a:r>
              <a:endParaRPr b="0" i="1" lang="en-US" sz="2400" spc="-1" strike="noStrike">
                <a:solidFill>
                  <a:srgbClr val="795241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-228960" y="-152280"/>
            <a:ext cx="9372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Read the news story and finish the following exercises.</a:t>
            </a:r>
            <a:endParaRPr b="0" i="1" lang="en-US" sz="2800" spc="-1" strike="noStrike">
              <a:solidFill>
                <a:srgbClr val="795241"/>
              </a:solidFill>
              <a:latin typeface="Times New Roman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900000" y="3068640"/>
          <a:ext cx="6858000" cy="3376440"/>
        </p:xfrm>
        <a:graphic>
          <a:graphicData uri="http://schemas.openxmlformats.org/drawingml/2006/table">
            <a:tbl>
              <a:tblPr/>
              <a:tblGrid>
                <a:gridCol w="2163600"/>
                <a:gridCol w="4694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ain Points</a:t>
                      </a:r>
                      <a:endParaRPr b="0" lang="en-US" sz="18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porting details</a:t>
                      </a:r>
                      <a:endParaRPr b="0" lang="en-US" sz="18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141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Justin Foster went missing.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rs. Foster thought he was spending the night with a friend.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r. Foster was surprised ______________.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stin Foster ________at the family lunch the next day.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The police found that Justin returned home.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stin’s friends said _______after the game.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nesses said ______ at 10:45p.m.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lly heard ______at about 11p.m.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The boy was taken away by aliens.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lly saw _______flying outside.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lly heard _____and then the UFO disappeared.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vis Wood thought Justin __________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1" name=""/>
          <p:cNvSpPr/>
          <p:nvPr/>
        </p:nvSpPr>
        <p:spPr>
          <a:xfrm>
            <a:off x="1066680" y="685800"/>
            <a:ext cx="6400800" cy="34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Why did Mrs. Foster go to bed early?  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What was Mr. Foster doing that night?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What did Mrs. Foster do when Justin didn’t  show up?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What sports does Justin play?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 Does Justin have any brothers or sisters?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.Who else has been taken away by the aliens?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539280" y="765000"/>
            <a:ext cx="93250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Why did Mrs. Foster go to bed early? 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She went to bed early because of a headach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What was Mr. Foster doing that night?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Mr. Foster was working that nigh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What did Mrs. Foster do when Justin didn’t show up?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She became worried and told her husband to call the police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What sports does Justin play?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Justin plays baseball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Does Justin have any brothers or sisters?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Yes, he has a sister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Who else has been taken by the aliens?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Mavis Wood was taken  by the aliens too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1120" cy="3049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495680" y="0"/>
            <a:ext cx="41911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5" name=""/>
          <p:cNvGraphicFramePr/>
          <p:nvPr/>
        </p:nvGraphicFramePr>
        <p:xfrm>
          <a:off x="826920" y="404640"/>
          <a:ext cx="8066160" cy="6147000"/>
        </p:xfrm>
        <a:graphic>
          <a:graphicData uri="http://schemas.openxmlformats.org/drawingml/2006/table">
            <a:tbl>
              <a:tblPr/>
              <a:tblGrid>
                <a:gridCol w="2276640"/>
                <a:gridCol w="57895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Main Points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porting details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217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Justin Foster went missing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rs. Foster thought he was spending the night with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 friend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r. Foster was surprised___________________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__________________________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stin Foster _____________  at the family lunch the next day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174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The police found that Justin returned home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stin’s friends said ______________   after the                               game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nesses said_________________________       at 10:45p.m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lly heard  ________________at about 11p.m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180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Justin was taken away by aliens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lly saw __________________ flying outside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lly heard _________    and then the UFO disappeared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vis Wood thought Justin ________________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_______________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6" name=""/>
          <p:cNvSpPr/>
          <p:nvPr/>
        </p:nvSpPr>
        <p:spPr>
          <a:xfrm>
            <a:off x="5874120" y="1482840"/>
            <a:ext cx="228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he didn’t tell anyone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271680" y="1893960"/>
            <a:ext cx="294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that he was staying out late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720320" y="2286000"/>
            <a:ext cx="177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didn’t show up</a:t>
            </a: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40600" y="2994120"/>
            <a:ext cx="196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Justin went home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833720" y="3643200"/>
            <a:ext cx="331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they saw Justin walking  home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567320" y="4343400"/>
            <a:ext cx="20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Justin return home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493520" y="4724280"/>
            <a:ext cx="192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a large spaceship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493160" y="5105520"/>
            <a:ext cx="145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Justin shout</a:t>
            </a: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155280" y="5681520"/>
            <a:ext cx="187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was taken away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275280" y="607068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by the aliens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What did you do when your son didn’t show up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What were you doing that night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What did you hear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What do the aliens look like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What do you think may happen to Justin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614240" y="440676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463634"/>
                </a:solidFill>
                <a:latin typeface="Times New Roman"/>
              </a:rPr>
              <a:t>…</a:t>
            </a:r>
            <a:endParaRPr b="0" lang="en-US" sz="6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5867280" y="189000"/>
            <a:ext cx="1800360" cy="187164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5791320" y="24382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1219320" y="2057400"/>
            <a:ext cx="2133360" cy="205740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4"/>
          <a:stretch/>
        </p:blipFill>
        <p:spPr>
          <a:xfrm>
            <a:off x="5867280" y="4572000"/>
            <a:ext cx="1729080" cy="159372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1678320" y="4267080"/>
            <a:ext cx="175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ohn Smi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rom VO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867280" y="198108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r. Foster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791320" y="4191120"/>
            <a:ext cx="178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rs. Foster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940000" y="6093000"/>
            <a:ext cx="8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lly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rot="19827000">
            <a:off x="3657600" y="2438280"/>
            <a:ext cx="976320" cy="138240"/>
          </a:xfrm>
          <a:prstGeom prst="rightArrow">
            <a:avLst>
              <a:gd name="adj1" fmla="val 50000"/>
              <a:gd name="adj2" fmla="val 176563"/>
            </a:avLst>
          </a:prstGeom>
          <a:solidFill>
            <a:srgbClr val="ff3399"/>
          </a:solidFill>
          <a:ln w="1260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rot="2053800">
            <a:off x="3580920" y="3504960"/>
            <a:ext cx="1057320" cy="145800"/>
          </a:xfrm>
          <a:prstGeom prst="rightArrow">
            <a:avLst>
              <a:gd name="adj1" fmla="val 50000"/>
              <a:gd name="adj2" fmla="val 181296"/>
            </a:avLst>
          </a:prstGeom>
          <a:solidFill>
            <a:srgbClr val="ff3399"/>
          </a:solidFill>
          <a:ln w="1260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rot="21598800">
            <a:off x="3657600" y="2971440"/>
            <a:ext cx="976320" cy="138240"/>
          </a:xfrm>
          <a:prstGeom prst="rightArrow">
            <a:avLst>
              <a:gd name="adj1" fmla="val 50000"/>
              <a:gd name="adj2" fmla="val 176563"/>
            </a:avLst>
          </a:prstGeom>
          <a:solidFill>
            <a:srgbClr val="ff3399"/>
          </a:solidFill>
          <a:ln w="1260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9" name="Cloud"/>
          <p:cNvSpPr/>
          <p:nvPr/>
        </p:nvSpPr>
        <p:spPr>
          <a:xfrm>
            <a:off x="2362320" y="0"/>
            <a:ext cx="2743200" cy="18381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When? Where? Who ? What? How?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• • •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13310400">
            <a:off x="3188880" y="1611000"/>
            <a:ext cx="111240" cy="5173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What did you do when your son didn’t show up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What were you doing that night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What did you hear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What do the aliens look like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What do you think may happen to Justin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614240" y="440676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463634"/>
                </a:solidFill>
                <a:latin typeface="Times New Roman"/>
              </a:rPr>
              <a:t>…</a:t>
            </a:r>
            <a:endParaRPr b="0" lang="en-US" sz="6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ca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ff"/>
                </a:solidFill>
                <a:latin typeface="Times New Roman"/>
              </a:rPr>
              <a:t>Homework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762120" y="32000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Please give an ending to the story.Was Justin really taken away by aliens or were there any other reasons?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1120" cy="45720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4495680" y="0"/>
            <a:ext cx="4191120" cy="4572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152280" y="6477120"/>
            <a:ext cx="4191120" cy="38088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4"/>
          <a:stretch/>
        </p:blipFill>
        <p:spPr>
          <a:xfrm>
            <a:off x="4495680" y="6477120"/>
            <a:ext cx="4191120" cy="38088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62120" y="2124000"/>
            <a:ext cx="725796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Finish part F and do some speaking practice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according to the sample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3581280" y="609480"/>
            <a:ext cx="41148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Thank yo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1295280" y="836640"/>
            <a:ext cx="6438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2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Tales of the unexplained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0106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2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828800" y="3048120"/>
            <a:ext cx="4952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371520"/>
            <a:ext cx="14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FO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319800" y="380880"/>
            <a:ext cx="297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ien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867280" y="1752480"/>
            <a:ext cx="2919600" cy="35816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152280" y="1066680"/>
            <a:ext cx="5181840" cy="434340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Do you believe in UFOs and aliens? Why or why not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If you saw a UFO and an alien some day, what would you do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What other unexplained things do you know</a:t>
            </a:r>
            <a:r>
              <a:rPr b="0" lang="en-US" sz="3200" spc="-1" strike="noStrike">
                <a:solidFill>
                  <a:srgbClr val="ffb8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about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4360" y="836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Comic Sans MS"/>
              </a:rPr>
              <a:t>Discussion</a:t>
            </a:r>
            <a:br>
              <a:rPr sz="4400"/>
            </a:b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219320" y="3124080"/>
            <a:ext cx="23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Yeti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050840" y="3220920"/>
            <a:ext cx="1844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18960" y="403848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yramid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715360" y="624852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nehenge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29200" y="3048120"/>
            <a:ext cx="318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och Ness Monster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228600" y="228600"/>
            <a:ext cx="8381880" cy="5905440"/>
            <a:chOff x="228600" y="228600"/>
            <a:chExt cx="8381880" cy="5905440"/>
          </a:xfrm>
        </p:grpSpPr>
        <p:grpSp>
          <p:nvGrpSpPr>
            <p:cNvPr id="253" name=""/>
            <p:cNvGrpSpPr/>
            <p:nvPr/>
          </p:nvGrpSpPr>
          <p:grpSpPr>
            <a:xfrm>
              <a:off x="228600" y="228600"/>
              <a:ext cx="8381880" cy="5905440"/>
              <a:chOff x="228600" y="228600"/>
              <a:chExt cx="8381880" cy="5905440"/>
            </a:xfrm>
          </p:grpSpPr>
          <p:pic>
            <p:nvPicPr>
              <p:cNvPr id="25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8600" y="3581280"/>
                <a:ext cx="3886200" cy="25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495680" y="3581280"/>
                <a:ext cx="4114800" cy="2552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419720" y="228600"/>
                <a:ext cx="4114800" cy="2819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57" name="" descr=""/>
            <p:cNvPicPr/>
            <p:nvPr/>
          </p:nvPicPr>
          <p:blipFill>
            <a:blip r:embed="rId4"/>
            <a:stretch/>
          </p:blipFill>
          <p:spPr>
            <a:xfrm>
              <a:off x="228600" y="228600"/>
              <a:ext cx="380988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8" name=""/>
          <p:cNvSpPr/>
          <p:nvPr/>
        </p:nvSpPr>
        <p:spPr>
          <a:xfrm>
            <a:off x="1294560" y="6248520"/>
            <a:ext cx="17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 advTm="3000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"/>
          <p:cNvGrpSpPr/>
          <p:nvPr/>
        </p:nvGrpSpPr>
        <p:grpSpPr>
          <a:xfrm>
            <a:off x="228600" y="228600"/>
            <a:ext cx="8381880" cy="5905440"/>
            <a:chOff x="228600" y="228600"/>
            <a:chExt cx="8381880" cy="5905440"/>
          </a:xfrm>
        </p:grpSpPr>
        <p:grpSp>
          <p:nvGrpSpPr>
            <p:cNvPr id="260" name=""/>
            <p:cNvGrpSpPr/>
            <p:nvPr/>
          </p:nvGrpSpPr>
          <p:grpSpPr>
            <a:xfrm>
              <a:off x="228600" y="228600"/>
              <a:ext cx="8381880" cy="5905440"/>
              <a:chOff x="228600" y="228600"/>
              <a:chExt cx="8381880" cy="5905440"/>
            </a:xfrm>
          </p:grpSpPr>
          <p:pic>
            <p:nvPicPr>
              <p:cNvPr id="26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8600" y="3581280"/>
                <a:ext cx="3886200" cy="25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495680" y="3581280"/>
                <a:ext cx="4114800" cy="2552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419720" y="228600"/>
                <a:ext cx="4114800" cy="2819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4" name="" descr=""/>
            <p:cNvPicPr/>
            <p:nvPr/>
          </p:nvPicPr>
          <p:blipFill>
            <a:blip r:embed="rId4"/>
            <a:stretch/>
          </p:blipFill>
          <p:spPr>
            <a:xfrm>
              <a:off x="228600" y="228600"/>
              <a:ext cx="380988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/>
          <p:cNvSpPr/>
          <p:nvPr/>
        </p:nvSpPr>
        <p:spPr>
          <a:xfrm>
            <a:off x="1219320" y="3124080"/>
            <a:ext cx="23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Yeti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029200" y="3048120"/>
            <a:ext cx="318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och Ness Monster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294560" y="6248520"/>
            <a:ext cx="17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715360" y="624852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nehenge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e4d7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053440" y="1125360"/>
            <a:ext cx="551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y missing, police puzzled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132920" y="2590920"/>
            <a:ext cx="75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oy is missing, and the police are puzzled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120" y="3860640"/>
            <a:ext cx="855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            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The title of a news story is usually incomplete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3840120" cy="3049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4495680" y="0"/>
            <a:ext cx="3840120" cy="30492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304920" y="6629400"/>
            <a:ext cx="4190760" cy="2286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4"/>
          <a:stretch/>
        </p:blipFill>
        <p:spPr>
          <a:xfrm>
            <a:off x="4648320" y="6629400"/>
            <a:ext cx="4221000" cy="2286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267080" y="1828800"/>
            <a:ext cx="304920" cy="824040"/>
          </a:xfrm>
          <a:prstGeom prst="downArrow">
            <a:avLst>
              <a:gd name="adj1" fmla="val 50000"/>
              <a:gd name="adj2" fmla="val 67562"/>
            </a:avLst>
          </a:prstGeom>
          <a:solidFill>
            <a:srgbClr val="ff0066"/>
          </a:solidFill>
          <a:ln w="1260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d2e0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3300"/>
                </a:solidFill>
                <a:latin typeface="Times New Roman"/>
              </a:rPr>
              <a:t>Read the news story quickly and answer the questions.</a:t>
            </a:r>
            <a:endParaRPr b="0" i="1" lang="en-US" sz="2800" spc="-1" strike="noStrike">
              <a:solidFill>
                <a:srgbClr val="795241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1120" cy="3049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4267080" y="0"/>
            <a:ext cx="4191120" cy="30492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609480" y="1905120"/>
            <a:ext cx="7010640" cy="29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 is missing?  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nd where is he missing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the police know what happened to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stin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4648320" y="6553080"/>
            <a:ext cx="4190760" cy="3049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4"/>
          <a:stretch/>
        </p:blipFill>
        <p:spPr>
          <a:xfrm>
            <a:off x="228600" y="6553080"/>
            <a:ext cx="41911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2T12:01:39Z</dcterms:created>
  <dc:creator>软件仓库</dc:creator>
  <dc:description/>
  <dc:language>en-US</dc:language>
  <cp:lastModifiedBy>USER</cp:lastModifiedBy>
  <dcterms:modified xsi:type="dcterms:W3CDTF">2005-11-06T15:53:01Z</dcterms:modified>
  <cp:revision>110</cp:revision>
  <dc:subject/>
  <dc:title>PowerPoint 演示文稿</dc:title>
</cp:coreProperties>
</file>